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94E09-9B3B-433F-8261-B7677A57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79DEAD-52B1-4977-8EEA-F64EBF58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FF03A3-287A-4B98-B802-E9132A55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7739A5-79A5-4FF0-8762-FC675010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A68C17-5A02-41D7-86FB-0A2F0658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29D-F2AF-4EEC-AA28-001A755B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CB1-2C6B-4633-A9ED-360F7A2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1E1-0239-4BB7-BD73-50DD37C8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147-8CBF-4428-8446-4ADA85B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1F4-4FD8-47F6-AA60-9357DC5C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588-92C3-4E2A-9E20-DE2236D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FC6-9FF1-4800-8F4B-A26FE64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C19-69E6-4563-B6A7-5970D4F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2AE-3908-40AC-A786-BDD820B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B8E-4FC0-4DA7-9CDB-B63C880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63A-411C-46F9-B8B0-DE3E7C8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752-3358-463D-B434-9AC035F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F2F-34C0-4755-B34F-61054D685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JCTVC-H0510&gt;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n-CE1: High Throughput Binarization (HTB) method with modified level co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ung-Hwan Kim, Kiran Mis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Kerofsky, Andrew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A1F-A3B7-4368-B228-7ECBEC94A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DCA-73F6-4E7E-A33E-DBD59AD45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383480" y="1264680"/>
            <a:ext cx="654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verage savings of maximum context coded bin at each configu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3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95520" y="1600200"/>
          <a:ext cx="5954760" cy="2773440"/>
        </p:xfrm>
        <a:graphic>
          <a:graphicData uri="http://schemas.openxmlformats.org/drawingml/2006/table">
            <a:tbl>
              <a:tblPr/>
              <a:tblGrid>
                <a:gridCol w="992160"/>
                <a:gridCol w="836640"/>
                <a:gridCol w="799920"/>
                <a:gridCol w="857520"/>
                <a:gridCol w="790560"/>
                <a:gridCol w="866520"/>
                <a:gridCol w="8114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nfig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rove throughput efficiency (in level co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place the regular coded bins with bypass 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implify the level coding structure (one pass co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lexible HTB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electively employ the HTB coding mode in each sub-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ntrolling the trade-off between coding efficiency an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level coding for keeping coding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Combine sign information and leve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Binarizaton based on VLC tables in CAV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Binarization based on Golomb-rice code in 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AF2-AEE2-4A5F-8658-FD21BFC7B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oding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A383-0F58-4AD0-B191-09C92A177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486400" y="1523880"/>
            <a:ext cx="3200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evel coding in one-p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elective selection of HTB mode in each sub-blo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1040" y="1143000"/>
            <a:ext cx="4829040" cy="5263920"/>
            <a:chOff x="581040" y="1143000"/>
            <a:chExt cx="4829040" cy="5263920"/>
          </a:xfrm>
        </p:grpSpPr>
        <p:sp>
          <p:nvSpPr>
            <p:cNvPr id="67" name=""/>
            <p:cNvSpPr/>
            <p:nvPr/>
          </p:nvSpPr>
          <p:spPr>
            <a:xfrm>
              <a:off x="2000160" y="1143000"/>
              <a:ext cx="163836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t_position_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t_position_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0160" y="1676520"/>
              <a:ext cx="16383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nce</a:t>
              </a:r>
              <a:r>
                <a:rPr b="1" lang="en-US" sz="1200" spc="-1" strike="noStrike">
                  <a:solidFill>
                    <a:srgbClr val="eeece1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040" y="3076560"/>
              <a:ext cx="2133360" cy="266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5760" y="305748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33480" y="34387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33480" y="40482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33480" y="4657680"/>
              <a:ext cx="1523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3480" y="5257800"/>
              <a:ext cx="1523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lute-3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5240" y="381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5240" y="4429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5240" y="5038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5240" y="5724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52560" y="6015240"/>
              <a:ext cx="1482480" cy="391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7280" y="3076560"/>
              <a:ext cx="2000520" cy="89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7600" y="30765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398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040" y="4289760"/>
              <a:ext cx="1482840" cy="391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4960" y="3457800"/>
              <a:ext cx="15242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lute-1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28880" y="205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4920" y="2210040"/>
              <a:ext cx="1447920" cy="380880"/>
            </a:xfrm>
            <a:prstGeom prst="diamond">
              <a:avLst/>
            </a:prstGeom>
            <a:solidFill>
              <a:srgbClr val="ff3399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B==1 ?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160" y="1524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0496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0" name=""/>
            <p:cNvCxnSpPr/>
            <p:nvPr/>
          </p:nvCxnSpPr>
          <p:spPr>
            <a:xfrm rot="5400000">
              <a:off x="1527840" y="2509920"/>
              <a:ext cx="696240" cy="457920"/>
            </a:xfrm>
            <a:prstGeom prst="bentConnector3">
              <a:avLst>
                <a:gd name="adj1" fmla="val 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524040" y="2400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6160" y="2400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813640" y="304740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If (# of significant_coeffs &lt; = T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HTB =0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Else                HTB=1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posed level coding and binariz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C19-FC4A-4464-95BF-85AB620DF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905120"/>
          <a:ext cx="2210040" cy="2901960"/>
        </p:xfrm>
        <a:graphic>
          <a:graphicData uri="http://schemas.openxmlformats.org/drawingml/2006/table">
            <a:tbl>
              <a:tblPr/>
              <a:tblGrid>
                <a:gridCol w="533520"/>
                <a:gridCol w="641520"/>
                <a:gridCol w="1035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-7200" y="4876920"/>
            <a:ext cx="3029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pping Table for Input Val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29000" y="1752480"/>
            <a:ext cx="5105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. Generate an “input value” by combining leve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formation (absolute value-1) and sign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  <a:ea typeface="굴림"/>
              </a:rPr>
              <a:t>input = (abs (coefficient[i])-1)&lt;&lt;1 + 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olomb-rice 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 The range of Golomb-rice parameter is extened to [0.1.2.3.4]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4131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Bin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1660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Combined sign information and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BD-Rate vs. Throughput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4720" y="137052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1. Common test condi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7480" y="1773360"/>
          <a:ext cx="4343400" cy="1122120"/>
        </p:xfrm>
        <a:graphic>
          <a:graphicData uri="http://schemas.openxmlformats.org/drawingml/2006/table">
            <a:tbl>
              <a:tblPr/>
              <a:tblGrid>
                <a:gridCol w="1059120"/>
                <a:gridCol w="955440"/>
                <a:gridCol w="1162080"/>
                <a:gridCol w="1166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2.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G-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G-W_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2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241240" y="304704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2. Low QP [1,5,9,13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73680" y="3392640"/>
          <a:ext cx="4348080" cy="1122120"/>
        </p:xfrm>
        <a:graphic>
          <a:graphicData uri="http://schemas.openxmlformats.org/drawingml/2006/table">
            <a:tbl>
              <a:tblPr/>
              <a:tblGrid>
                <a:gridCol w="1060200"/>
                <a:gridCol w="956160"/>
                <a:gridCol w="1163520"/>
                <a:gridCol w="1168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G-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3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G-W_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eece1"/>
                          </a:solidFill>
                          <a:latin typeface="Times New Roman"/>
                          <a:ea typeface="MS Mincho"/>
                        </a:rPr>
                        <a:t>4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3"/>
          <p:cNvSpPr/>
          <p:nvPr/>
        </p:nvSpPr>
        <p:spPr>
          <a:xfrm>
            <a:off x="304920" y="1371600"/>
            <a:ext cx="3657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Arial"/>
                <a:ea typeface="굴림"/>
              </a:rPr>
              <a:t>1. Method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Arial"/>
                <a:ea typeface="굴림"/>
              </a:rPr>
              <a:t>1. Binarization based on VLC tab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Arial"/>
                <a:ea typeface="굴림"/>
              </a:rPr>
              <a:t>2. TH=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. Method 2 + TH_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. Binarization based on Golomb-r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. TH=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. Method 2 + TH_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. Binarization based on Golomb-r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. TH=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14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pose flexible HTB coding structure between coding performance and H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icient coding performance with combined sign and leve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patibility with current entropy codec by employed existing binariza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DEDC-791E-434E-A397-4E4961E18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6CBC-3324-4CA3-A49D-60B94FA4D2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306080" y="1218960"/>
            <a:ext cx="66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1. BD-Rate performance at common test condition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Qp= [22, 27, 32, 37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600200"/>
          <a:ext cx="5954760" cy="2730600"/>
        </p:xfrm>
        <a:graphic>
          <a:graphicData uri="http://schemas.openxmlformats.org/drawingml/2006/table">
            <a:tbl>
              <a:tblPr/>
              <a:tblGrid>
                <a:gridCol w="992160"/>
                <a:gridCol w="527040"/>
                <a:gridCol w="538200"/>
                <a:gridCol w="571680"/>
                <a:gridCol w="514440"/>
                <a:gridCol w="552240"/>
                <a:gridCol w="581040"/>
                <a:gridCol w="595440"/>
                <a:gridCol w="541080"/>
                <a:gridCol w="5414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9E9-4196-4CF3-B3AE-E7D4E9188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87360" y="1142280"/>
            <a:ext cx="70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2. BD-Rate performance at low QP test conditions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Qp= [1, 5, 9, 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95520" y="1828800"/>
          <a:ext cx="6100560" cy="2743200"/>
        </p:xfrm>
        <a:graphic>
          <a:graphicData uri="http://schemas.openxmlformats.org/drawingml/2006/table">
            <a:tbl>
              <a:tblPr/>
              <a:tblGrid>
                <a:gridCol w="1015920"/>
                <a:gridCol w="539640"/>
                <a:gridCol w="552600"/>
                <a:gridCol w="585720"/>
                <a:gridCol w="527040"/>
                <a:gridCol w="565200"/>
                <a:gridCol w="595440"/>
                <a:gridCol w="609480"/>
                <a:gridCol w="555480"/>
                <a:gridCol w="5540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nfig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704-EE4F-4877-815A-B7A447B0D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1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63680" y="1217520"/>
            <a:ext cx="63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3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verage savings of context coded bin at each configu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95520" y="1523880"/>
          <a:ext cx="5954760" cy="2773440"/>
        </p:xfrm>
        <a:graphic>
          <a:graphicData uri="http://schemas.openxmlformats.org/drawingml/2006/table">
            <a:tbl>
              <a:tblPr/>
              <a:tblGrid>
                <a:gridCol w="992160"/>
                <a:gridCol w="836640"/>
                <a:gridCol w="799920"/>
                <a:gridCol w="857520"/>
                <a:gridCol w="790560"/>
                <a:gridCol w="866520"/>
                <a:gridCol w="8114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nfig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2+TH_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mm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w Q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I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B-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-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mse</cp:lastModifiedBy>
  <dcterms:modified xsi:type="dcterms:W3CDTF">2012-02-05T22:46:13Z</dcterms:modified>
  <cp:revision>958</cp:revision>
  <dc:subject/>
  <dc:title>Slide 1</dc:title>
</cp:coreProperties>
</file>