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AA1E07-44B7-4B3A-8382-2ED72EE79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6E1BBF-7FC1-4EB4-A63D-A9516E79C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3EB47C-234F-4337-BE88-48B240BEE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640555-D765-4901-9906-5194F1D0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781BE9-54DA-4D64-AD26-5D9CD0F2A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E95821-6E7C-4E76-91B4-92AB7AFC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850-C3E6-4FEB-B4DE-BA4F832A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FDF-CA46-4030-9D8B-A73C121E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9BF-5682-48B6-9026-808F3F96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D09-2BD4-435B-972D-874FB778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824-90DF-4292-A076-89EAD40F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4D3-E5C4-47D0-8F81-C6561D5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33C-7C69-4B9A-8C23-A9642BC1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F36-26F7-412D-A8F0-87F94A5F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4CD-A37B-418D-99BE-C9885884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14D-0C88-453C-A862-C8F50848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1CF-7114-498C-B14F-1F7B00CC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0F0-7BC3-4866-866A-8DFA3DD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ED8-57FA-4B84-AD54-7E32CD49C6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H0499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Entropy coding for lossless co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ng-Hwan Kim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945A-627E-4E9C-91E6-207EBC2340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fficient entropy coder for lossless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Residual sample (not transformed and quantized coefficien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Simplify the cod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Improve the coding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88BC-141C-4015-BF4F-E256400F25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: Modified Significance M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F1F4-88D7-4BA8-81F5-88F33F0FCA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28600" y="1219320"/>
            <a:ext cx="8610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n lossless coding environment, the last non_zero coefficient is most likely to be located 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the end of the block. Considering this point, the following technique is considered in this inven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5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move the existing last position coding step where the last_position_X and the last_position_Y data have been transmitte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5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5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odify the existing significance map coding as follow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- Significance map information is always scanned from the last scanning position because the last position information has not been considered befor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* The last scanning position depends on the block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81080" y="4489560"/>
          <a:ext cx="5137200" cy="988920"/>
        </p:xfrm>
        <a:graphic>
          <a:graphicData uri="http://schemas.openxmlformats.org/drawingml/2006/table">
            <a:tbl>
              <a:tblPr/>
              <a:tblGrid>
                <a:gridCol w="1770120"/>
                <a:gridCol w="336600"/>
                <a:gridCol w="338040"/>
                <a:gridCol w="336600"/>
                <a:gridCol w="336600"/>
                <a:gridCol w="334800"/>
                <a:gridCol w="336600"/>
                <a:gridCol w="338040"/>
                <a:gridCol w="336600"/>
                <a:gridCol w="336600"/>
                <a:gridCol w="336600"/>
              </a:tblGrid>
              <a:tr h="3589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canning 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efficient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굴림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굴림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1. Significance 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>
                        <a:alpha val="43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flipH="1" flipV="1">
            <a:off x="3303360" y="5632560"/>
            <a:ext cx="3276360" cy="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1991880" y="5757840"/>
            <a:ext cx="4653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* Coefficients are coded in reverse scanning or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449568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8862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The last scanning pos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934320" y="4086360"/>
            <a:ext cx="0" cy="411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2320" y="142560"/>
            <a:ext cx="642132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pose: Reduced Context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76240" y="1828800"/>
            <a:ext cx="2476440" cy="4035240"/>
            <a:chOff x="876240" y="1828800"/>
            <a:chExt cx="2476440" cy="4035240"/>
          </a:xfrm>
        </p:grpSpPr>
        <p:sp>
          <p:nvSpPr>
            <p:cNvPr id="74" name=""/>
            <p:cNvSpPr/>
            <p:nvPr/>
          </p:nvSpPr>
          <p:spPr>
            <a:xfrm>
              <a:off x="1295280" y="1828800"/>
              <a:ext cx="163836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ificance Ma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14640" y="2210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6240" y="2514600"/>
              <a:ext cx="2476440" cy="266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04800" y="251460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 Codin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2520" y="289584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ater_than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2520" y="35053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ater_than 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52520" y="4114800"/>
              <a:ext cx="152388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 codin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2520" y="4714920"/>
              <a:ext cx="152388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solute-3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146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1464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14640" y="449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14640" y="5181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71600" y="5472360"/>
              <a:ext cx="1482840" cy="391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Rectangle 3"/>
          <p:cNvSpPr/>
          <p:nvPr/>
        </p:nvSpPr>
        <p:spPr>
          <a:xfrm>
            <a:off x="3505320" y="144792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 lossless coding, residual sample value is considere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ence, all the context models related to frequenc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mponent (which is only considered in transforme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efficients) need to be elimin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reduced number of context models is as follow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. Context Models used in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  <a:ea typeface="굴림"/>
              </a:rPr>
              <a:t>significance m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(1 contex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2. Context models used in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  <a:ea typeface="굴림"/>
              </a:rPr>
              <a:t>level co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(24 context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. Greater_than_1 flag of luma: 6contex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. Greater_than_1 flag of chroma: 6 contex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3. Greater_than_2 flag of luma: 6 contex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4. Greater_than_2 flag of chroma: 6 contex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: VLC table based Binar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412A-D5D8-4C00-AD76-1049C852DA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80880" y="1693800"/>
            <a:ext cx="2476440" cy="4035240"/>
            <a:chOff x="380880" y="1693800"/>
            <a:chExt cx="2476440" cy="4035240"/>
          </a:xfrm>
        </p:grpSpPr>
        <p:sp>
          <p:nvSpPr>
            <p:cNvPr id="91" name=""/>
            <p:cNvSpPr/>
            <p:nvPr/>
          </p:nvSpPr>
          <p:spPr>
            <a:xfrm>
              <a:off x="799920" y="1693800"/>
              <a:ext cx="163836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ificance Ma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19280" y="2075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2379600"/>
              <a:ext cx="2476440" cy="266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9440" y="237960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 Codin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7160" y="276084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ater_than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7160" y="33703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ater_than 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7160" y="3979800"/>
              <a:ext cx="152388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 codin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7160" y="4579920"/>
              <a:ext cx="1523880" cy="381240"/>
            </a:xfrm>
            <a:prstGeom prst="rect">
              <a:avLst/>
            </a:prstGeom>
            <a:solidFill>
              <a:srgbClr val="ff3399">
                <a:alpha val="65000"/>
              </a:srgbClr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solute-3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19280" y="31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19280" y="375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9280" y="4361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19280" y="504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76240" y="5337360"/>
              <a:ext cx="1482840" cy="391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" name="Rectangle 3"/>
          <p:cNvSpPr/>
          <p:nvPr/>
        </p:nvSpPr>
        <p:spPr>
          <a:xfrm>
            <a:off x="2895480" y="1447920"/>
            <a:ext cx="5639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The existing CABAC use Exponential-Golomb-Rice coding method to encode the syntax element ‘Absolute-3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80008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n this proposal, more efficient binarization technique used in CAVLC is simply employed to improve the coding performanc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80008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-The detailed binarization method is as follows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495600"/>
            <a:ext cx="5638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bsolute-3’ is adaptively binarized based on various VLC tables (5 VLC tables) used in CAVLC. VLC tables are updated based on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  <a:ea typeface="굴림"/>
              </a:rPr>
              <a:t>previously encoded ‘Absolute-3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as follows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굴림"/>
              </a:rPr>
              <a:t>if (‘Absolute-3’ &gt; (Table[vlc]) )  vlc ++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굴림"/>
              </a:rPr>
              <a:t>where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굴림"/>
              </a:rPr>
              <a:t>Table[5] = {3,5,13,27,0xfffffff}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굴림"/>
              </a:rPr>
              <a:t>and ‘vlc’ represents the current vlc table numb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*vlc is first set to zero because there is no available previous ‘Absolute-3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- Each binary symbol is encoded through bypass coding mod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7B82-BE1A-46C5-A261-3BA18C9EAC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362320" y="8380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ble 1 BD-Rate changes in lossless cond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8120" y="1244520"/>
          <a:ext cx="3581280" cy="1092240"/>
        </p:xfrm>
        <a:graphic>
          <a:graphicData uri="http://schemas.openxmlformats.org/drawingml/2006/table">
            <a:tbl>
              <a:tblPr/>
              <a:tblGrid>
                <a:gridCol w="1295280"/>
                <a:gridCol w="762120"/>
                <a:gridCol w="761760"/>
                <a:gridCol w="762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he cod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.5% for 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% for 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computational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duce contex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mplified cod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sy compatibility with the existing CA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E0E9-EB6D-4672-B77E-DB1160E486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kimse</cp:lastModifiedBy>
  <dcterms:modified xsi:type="dcterms:W3CDTF">2012-02-02T16:52:00Z</dcterms:modified>
  <cp:revision>921</cp:revision>
  <dc:subject/>
  <dc:title>Slide 1</dc:title>
</cp:coreProperties>
</file>