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EA0F-2F04-420C-A766-945F9092F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D5C7-5EE0-4031-B153-D4A3E7F9B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B48E-56A7-42AC-9FC1-69B5608A3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9FA9-1F79-4E12-B003-D8E1DED8E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AE77-6488-4913-A40C-3D25678E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2518-9045-4ACA-A7C8-BEBA4E0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9DDE8-B191-463E-B368-FCC9920A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F815E-127C-4230-9DAA-15B3722E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630D6-A4F0-4727-82BA-4A55BE0A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40F1D-93B3-41D1-BAAA-BB7B03BA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34A6D-6472-4A9B-BE8B-E5BB4A4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DEE6-75BC-4743-A486-3E69E3202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B58C0-9F56-4077-BEEC-CF0E5BE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BA00-04BB-49B5-B69A-3F9247D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60B4-70E9-46F0-94D4-7931F51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B92F6-EE91-4CAC-9BBB-24FE0996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06E18-F3E3-4299-88C7-6ACF3698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F4C8-9BA4-46AB-9EFA-889DB9C0A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75FA-FED0-4A62-B4D4-417CCED04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0BB7-2A69-4E1A-A1F1-9D58AD4AE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CDCD-B417-4950-BE64-F20767372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C913-4EDB-4CF2-AF84-04337A77C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C690-121D-4A68-95B1-F95E1AA03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8FBC-0BAA-4AF4-82BE-DCA9E9CAD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6D76B913-B805-48FF-8685-91CD11B6CB71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B8F94B6E-5CB4-408A-9E8A-3D053CBD923A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68440" y="2781360"/>
            <a:ext cx="8854920" cy="2574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JCTVC-H0483   Harmonization of ALF Luma and Chroma Center Coefficient Predic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90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Jie Zhao, Andrew Segal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90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harp Labs of Ameri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JCTVC-H0483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s Regarding ALF center coefficient prediction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re is a little inconsistency between ALF coefficient coding for luma and chroma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center coefficient prediction method employed for luma coefficients is the negative of the prediction method used for chroma coefficients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pose to better harmonize the luma and chroma center coefficient prediction method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CTVC-H048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arding Chroma center coefficient coding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If i is equal to AlfCodedLengthChroma – 1, the coefficient cC[i] is derived 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cC[ i ] = 255 – sum – alf_coeff_chroma[ i ]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(8‑468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sum = alf_coeff_chroma[ AlfCodedLengthChroma – 2 ] + 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j( alf_coeff_chroma[ j ] &lt;&lt; 1 )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(8‑469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with j = 0..AlfCodedLengthChroma – 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Where 255-sum is the predicted valu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garding Luma center coefficient coding,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“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he luma filter coefficients cL with elements cL[ i ][ j ], i = 0..AlfNumFilters–1, j = AlfCodedLengthLuma–1 are derived as follow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f alf_pred_method_is equal to 0 or the value of i is equal to 0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ahoma"/>
                <a:ea typeface="굴림"/>
              </a:rPr>
              <a:t>cL[ i ][ j ] = alf_coeff_luma[ i ][ j ] + 255 – 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nb-NO" sz="1600" spc="-1" strike="noStrike">
                <a:solidFill>
                  <a:srgbClr val="000000"/>
                </a:solidFill>
                <a:latin typeface="Tahoma"/>
                <a:ea typeface="굴림"/>
              </a:rPr>
              <a:t>k(2*alf_coeff_luma[ i ][ k ]) – 2*cL[ i ][ j – 1 ]</a:t>
            </a:r>
            <a:r>
              <a:rPr b="0" lang="nb-NO" sz="16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Tahoma"/>
                <a:ea typeface="굴림"/>
              </a:rPr>
              <a:t>(8‑465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ahoma"/>
                <a:ea typeface="굴림"/>
              </a:rPr>
              <a:t>with k=0..j-2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where alf_coeff_luma[ i ][ j ]  is the delta coefficient value received in bitstream, and cL[ i ][ j ] are the elements of actual filter coefficients. 255 –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k(2*alf_coeff_luma[ i ][ k ]) – 2*cL[ i ][ j – 1 ] is the predicted valu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easier understand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luma center coefficient value is obtained b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tual = pred + delta;                                        (1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chroma center coefficient value is obtained b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tual = pred - delta;                                        (2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ere, “pred” denotes the predicted center coefficient value, “actual” denotes the actual center coefficient value, and “delta” denotes the difference value sent/received in bitstre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 the delta value of center coefficient prediction for luma and chroma are actually opposite in sign. We propose to make them consisten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CTVC-H0483 Propos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굴림"/>
              </a:rPr>
              <a:t>H0483  Proposal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굴림"/>
              </a:rPr>
              <a:t>Option 1: change the text of Luma center coefficient coding to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The luma filter coefficients cL with elements cL[ i ][ j ], i = 0..AlfNumFilters–1, j = AlfCodedLengthLuma–1 are derived as follow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If alf_pred_method_is equal to 0 or the value of i is equal to 0,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cL[ i ][ j ] = 255-sum - alf_coeff_luma[ i ][ j 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where      sum =  </a:t>
            </a:r>
            <a:r>
              <a:rPr b="0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k(2*alf_coeff_luma[ i ][ k ]) + 2*cL[ i ][ j – 1 ]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(8‑465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ahoma"/>
                <a:ea typeface="굴림"/>
              </a:rPr>
              <a:t>where k=0..j-2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굴림"/>
              </a:rPr>
              <a:t>Option 2: change the text of Chroma center coefficient coding to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f i is equal to AlfCodedLengthChroma – 1, the coefficient cC[i] is derived 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cC[ i ] = alf_coeff_chroma[ i ]  + 255 – sum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(8‑46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sum = alf_coeff_chroma[ AlfCodedLengthChroma – 2 ] + 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j( alf_coeff_chroma[ j ] &lt;&lt; 1 )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(8‑46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굴림"/>
              </a:rPr>
              <a:t>with j = 0..AlfCodedLengthChroma – 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re is a little inconsistency between ALF coefficient coding for luma and chrom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predicted value is opposite in sign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pose to change one of them to match with the other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jzhao</cp:lastModifiedBy>
  <dcterms:modified xsi:type="dcterms:W3CDTF">2012-02-07T00:22:11Z</dcterms:modified>
  <cp:revision>843</cp:revision>
  <dc:subject/>
  <dc:title>PowerPoint Presentation</dc:title>
</cp:coreProperties>
</file>