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1CBE0-DE13-40D5-BA29-AD3CA7B14A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C0E2B-CE08-41A9-B771-A79F35A6A0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6C9-5DA7-4257-8CD7-C6844346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4E9-96DC-4B80-B009-720A14D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4C5-4E04-478F-B781-25E2C023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C69-334B-4FB5-99FD-78C6A226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C52-65C1-4B57-B110-E4222B6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4ED-F2E8-4AFA-899E-D6FFE959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F06-F6F6-493B-94BC-186B113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868-D1B9-48A9-9EE5-D438FEB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A29-938F-4DE6-99D7-3A3ACA0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0D2-72BE-4810-8DB9-0E0091E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29F-3236-41BD-8871-9E1B02F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39E-71FA-417B-BF2A-5AB8A831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1CD30694-4802-467E-80B6-9D940DB98409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HG21: Improvements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PS Intra Prediction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H0482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ie Zhao and Andrew Segall 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12436560" cy="1136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e observe that: RPS for RA test conditions, typically the first negative and the first positive delta POC have the same absolute val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pose to initialize the first positive delta POC based on the symmetry with the first negative delta POC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70000" y="3224160"/>
            <a:ext cx="981252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98720" y="5769000"/>
            <a:ext cx="9924840" cy="100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0040" y="710568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S for RA common test condition GOP size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096920" y="1828800"/>
            <a:ext cx="32068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50800" y="1130400"/>
            <a:ext cx="8266320" cy="6894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56840" y="1349280"/>
            <a:ext cx="4076640" cy="56786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change to syntax table is in b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ignal a symmetric flag to indicate if the smallest positive delta POC is the same as the smallest absolute value of negative delta POC. When not present, symmetric_flag is default to 0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f this symmetric_flag is true, then there is not need to read the first positive delta POC, it can be simply initialized to the smallest absolute value of negative delta POC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Change to Working Draf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4.3.1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hort-term reference picture set semantic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lta_poc_s1_minus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[ i ] plus 1 specifies an absolute difference between two picture order count values. The value of delta_poc_s1_minus1[ i ] shall be in the range of 0 to 215 </a:t>
            </a:r>
            <a:r>
              <a:rPr b="0" lang="sv-SE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1, inclusive.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variable DeltaPocS1[ idx ][ i ] is derived as follow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if (i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nb-NO" sz="1800" spc="-1" strike="noStrike">
                <a:solidFill>
                  <a:srgbClr val="ff0000"/>
                </a:solidFill>
                <a:latin typeface="Tahoma"/>
              </a:rPr>
              <a:t>if (symmetric_fla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nb-NO" sz="1800" spc="-1" strike="noStrike">
                <a:solidFill>
                  <a:srgbClr val="ff0000"/>
                </a:solidFill>
                <a:latin typeface="Tahoma"/>
              </a:rPr>
              <a:t>DeltaPocS1[ idx ][ i ] = -DeltaPocS0[ idx ][ i 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nb-NO" sz="1800" spc="-1" strike="noStrike">
                <a:solidFill>
                  <a:srgbClr val="ff0000"/>
                </a:solidFill>
                <a:latin typeface="Tahoma"/>
              </a:rPr>
              <a:t>els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    DeltaPocS1[ idx ][ i ] = delta_poc_s1_minus1[ i ] + 1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(7‑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els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   DeltaPocS1[ idx ][ i ] = DeltaPocS1[ idx ][ i – 1 ] + ( delta_poc_s1_minus1[ i ] + 1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Note: The only change is the red 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Tahoma"/>
              </a:rPr>
              <a:t>DeltaPocS0  contrains the negative delta POC and DeltaPocS1 contains the positive delta PO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bined with POC granularity in JCTVC-G643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implemented POC granularity proposed in JCTVC-G643 (Also in JCTVC-H0425) as a delta POC scal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PocS0[ idx ][ i ] = DeltaPocS0[ idx ][ i – 1 ] – (( delta_poc_s0_minus1[ i ] + 1 )&lt;&lt;deltaPOCScale)    when i !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PocS1[ idx ][ i ] = DeltaPocS1[ idx ][ i – 1 ] + (( delta_poc_s1_minus1[ i ] + 1 )&lt;&lt;deltaPOCScale)    when i !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se two techniques both explore RPS intra prediction to save RPS bits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y can be combined without conflict since POC granularity applies to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ltaPocS0 [ idx ][ i ]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ltaPocS1 [ idx ][ i ]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i != 0;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ile our symmetric init technology only apply to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ltaPocS1 [ idx ][ i ]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i== 0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12436560" cy="733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sult: RA common test condition. Inter RPS off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709280" y="7359480"/>
            <a:ext cx="92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* for POC scale, 3 extra bits are sent outside of RPS to signal deltaPOCScale=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3160" y="2602080"/>
            <a:ext cx="9460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12436560" cy="70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JCTVC-G1036 AHG21 Test Condi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79360" y="3005280"/>
            <a:ext cx="127620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proposed positive delta POC symmetric init method reduces the bit-rate for RPS for random access configuration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th this simple change, it saves about 6% RPSs bits when RPS is signaled without inter predictio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over, the technique also works with other intra RPS prediction such as delta POC granularity method in JCTVC-G643 to further improves the intra RPS prediction. Together, they can save over 20% RPS bi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se intra RPS techniques are complementary to inter RPS technology. They are most advantageous for scenarios that use intra-RPS exclusively – such as encoders that only signal RPS information in the slice heade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pose to adopt the positive delta POC symmetric init method  into HM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jzhao</cp:lastModifiedBy>
  <dcterms:modified xsi:type="dcterms:W3CDTF">2012-01-31T08:18:41Z</dcterms:modified>
  <cp:revision>703</cp:revision>
  <dc:subject/>
  <dc:title>PowerPoint Presentation</dc:title>
</cp:coreProperties>
</file>