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0-10-0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csson AB 20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213A-B930-422C-8682-544624A71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0-10-07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Ericsson AB 2010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1C66-EEE2-49C9-A270-96C2298EEAD2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0-10-07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Ericsson AB 2010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7228-F355-4202-8DEC-53301F83210D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0-10-07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Ericsson AB 2010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F809-F0D1-4E12-8F96-C3DA3A421F1F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ERI_FH_rgb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Public  |  © Ericsson AB 2010  |  2010-10-07  |  Page </a:t>
            </a:r>
            <a:fld id="{6230F538-7B24-4FF1-B32A-41369043DABD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4" name="Logo_TM" descr="ERI_FH_rgb"/>
          <p:cNvPicPr/>
          <p:nvPr/>
        </p:nvPicPr>
        <p:blipFill>
          <a:blip r:embed="rId2"/>
          <a:stretch/>
        </p:blipFill>
        <p:spPr>
          <a:xfrm>
            <a:off x="1422360" y="0"/>
            <a:ext cx="984240" cy="1214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5560" y="2368440"/>
            <a:ext cx="8351640" cy="9752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Level restrictions on tiles for line buffer reduction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JCTVC-H0472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58585a"/>
                </a:solidFill>
                <a:latin typeface="Arial"/>
                <a:ea typeface="SimSun"/>
              </a:rPr>
              <a:t>Andrey Norkin, Rickard Sjöberg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8585a"/>
                </a:solidFill>
                <a:latin typeface="Arial"/>
              </a:rPr>
              <a:t>Ericsson</a:t>
            </a:r>
            <a:endParaRPr b="0" lang="en-US" sz="21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Problem formulation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5607000" y="1359000"/>
            <a:ext cx="313056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There have been many proposals in in-loop filtering addressing line buffer reduction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Special processing on hor. LCU boundary for ALF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Special processing on hor. LCU boundary for SAO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Special processing hor. LCU boundary for deblocking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Line-buffer reduction methods typically introduce irregularities in in-loop filtering (like padding or using different filters on hor. LCU boundary)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Subjective quality may be affected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14080" y="1311840"/>
            <a:ext cx="4715280" cy="2357280"/>
            <a:chOff x="514080" y="1311840"/>
            <a:chExt cx="4715280" cy="2357280"/>
          </a:xfrm>
        </p:grpSpPr>
        <p:sp>
          <p:nvSpPr>
            <p:cNvPr id="95" name=""/>
            <p:cNvSpPr/>
            <p:nvPr/>
          </p:nvSpPr>
          <p:spPr>
            <a:xfrm>
              <a:off x="514080" y="1311840"/>
              <a:ext cx="4714920" cy="235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4080" y="1311840"/>
              <a:ext cx="4679640" cy="336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4080" y="1648800"/>
              <a:ext cx="4679640" cy="336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4080" y="1985400"/>
              <a:ext cx="4679640" cy="26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080" y="2322360"/>
              <a:ext cx="23576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4080" y="2659680"/>
              <a:ext cx="2357640" cy="3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4080" y="2995920"/>
              <a:ext cx="235764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4080" y="3332160"/>
              <a:ext cx="2357640" cy="3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32840" y="1311840"/>
              <a:ext cx="2396520" cy="3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32840" y="1980720"/>
              <a:ext cx="2396520" cy="3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72080" y="2322360"/>
              <a:ext cx="23572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72080" y="2659680"/>
              <a:ext cx="2357280" cy="3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72080" y="2995920"/>
              <a:ext cx="235728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72080" y="3332160"/>
              <a:ext cx="2357280" cy="3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0832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4600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600" y="1311840"/>
              <a:ext cx="144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028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5616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9420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4080" y="1311840"/>
              <a:ext cx="4154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LCU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#0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50320" y="1311840"/>
              <a:ext cx="404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LCU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#1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080" y="1648800"/>
              <a:ext cx="4039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80" y="1985400"/>
              <a:ext cx="4039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4080" y="2255040"/>
              <a:ext cx="2357640" cy="6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61560" y="1311840"/>
              <a:ext cx="108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9852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3584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24960" y="1311840"/>
              <a:ext cx="108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8800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50320" y="1311840"/>
              <a:ext cx="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88080" y="2266920"/>
              <a:ext cx="7092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01520" y="2481480"/>
              <a:ext cx="8582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58585a"/>
                  </a:solidFill>
                  <a:latin typeface="Times New Roman"/>
                </a:rPr>
                <a:t>Line buffer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01560" y="1551600"/>
              <a:ext cx="687600" cy="49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000" spc="-1" strike="noStrike">
                  <a:solidFill>
                    <a:srgbClr val="58585a"/>
                  </a:solidFill>
                  <a:latin typeface="Times New Roman"/>
                </a:rPr>
                <a:t>decoded LCU’s</a:t>
              </a:r>
              <a:endParaRPr b="0" lang="en-US" sz="1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03800" y="2624400"/>
              <a:ext cx="858960" cy="64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58585a"/>
                  </a:solidFill>
                  <a:latin typeface="Times New Roman"/>
                </a:rPr>
                <a:t>LCU’s to be decoded</a:t>
              </a:r>
              <a:endParaRPr b="0" lang="en-US" sz="11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32840" y="2236320"/>
              <a:ext cx="2357640" cy="65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816280" y="1628640"/>
            <a:ext cx="0" cy="49536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22360" y="3924360"/>
            <a:ext cx="486072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To decrease a number of memory accesses (esp. in hardware) in-loop filtering is performed in LCU order after decoding the LCU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Several bottom lines in LCU are kept in on-chip memory (line buffer) until pixels in next LCU to bottom are available to in-loop filter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Currently, 4 lines need to be kept in line buffer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Resolutions 4Kx2K – 2 times larger line buffer than in H.264 1920x108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Proposed solution – mandate tile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75240" y="1314360"/>
            <a:ext cx="7047000" cy="4383720"/>
            <a:chOff x="975240" y="1314360"/>
            <a:chExt cx="7047000" cy="4383720"/>
          </a:xfrm>
        </p:grpSpPr>
        <p:sp>
          <p:nvSpPr>
            <p:cNvPr id="135" name=""/>
            <p:cNvSpPr/>
            <p:nvPr/>
          </p:nvSpPr>
          <p:spPr>
            <a:xfrm>
              <a:off x="975240" y="1918440"/>
              <a:ext cx="7046640" cy="35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482000" y="1742400"/>
              <a:ext cx="16200" cy="395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75240" y="1918440"/>
              <a:ext cx="3422520" cy="502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75240" y="2421360"/>
              <a:ext cx="3422520" cy="504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75240" y="2925360"/>
              <a:ext cx="3422520" cy="402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75240" y="3428280"/>
              <a:ext cx="3523320" cy="50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75240" y="3932640"/>
              <a:ext cx="3523320" cy="50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75240" y="4435560"/>
              <a:ext cx="3523320" cy="50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75240" y="4938840"/>
              <a:ext cx="3523320" cy="50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97760" y="1918440"/>
              <a:ext cx="3624120" cy="50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98920" y="2421360"/>
              <a:ext cx="3523320" cy="50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97760" y="2925360"/>
              <a:ext cx="3624120" cy="50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98920" y="3428280"/>
              <a:ext cx="3523320" cy="50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98920" y="3932640"/>
              <a:ext cx="3523320" cy="50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98920" y="4435560"/>
              <a:ext cx="3523320" cy="50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98920" y="4938840"/>
              <a:ext cx="3523320" cy="50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01480" y="1918440"/>
              <a:ext cx="72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05120" y="1918440"/>
              <a:ext cx="72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09120" y="1918440"/>
              <a:ext cx="216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12760" y="1918440"/>
              <a:ext cx="108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5680" y="1918440"/>
              <a:ext cx="72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20760" y="1918440"/>
              <a:ext cx="72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75240" y="1918440"/>
              <a:ext cx="620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LCU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#0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77800" y="1918440"/>
              <a:ext cx="6044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LCU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#1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95200" y="1918440"/>
              <a:ext cx="60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LCU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#6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75240" y="2421360"/>
              <a:ext cx="60336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LCU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#7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75240" y="2925360"/>
              <a:ext cx="6033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LCU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#14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75240" y="3328560"/>
              <a:ext cx="3523320" cy="9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8360" y="1918440"/>
              <a:ext cx="216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92360" y="1918440"/>
              <a:ext cx="72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96000" y="1918440"/>
              <a:ext cx="72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5800" y="1918440"/>
              <a:ext cx="72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1800" y="1918440"/>
              <a:ext cx="108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77800" y="1918440"/>
              <a:ext cx="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97760" y="1918440"/>
              <a:ext cx="100800" cy="15098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21160" y="1314360"/>
              <a:ext cx="19119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58585a"/>
                  </a:solidFill>
                  <a:latin typeface="Times New Roman"/>
                </a:rPr>
                <a:t>Vert. tile boundary</a:t>
              </a:r>
              <a:endParaRPr b="0" lang="en-US" sz="16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72320" y="1314360"/>
              <a:ext cx="9064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58585a"/>
                  </a:solidFill>
                  <a:latin typeface="Times New Roman"/>
                </a:rPr>
                <a:t>Tile #1</a:t>
              </a:r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31200" y="3345840"/>
              <a:ext cx="10656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02800" y="3666600"/>
              <a:ext cx="1283040" cy="53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58585a"/>
                  </a:solidFill>
                  <a:latin typeface="Times New Roman"/>
                </a:rPr>
                <a:t>Line buffer</a:t>
              </a:r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8440" y="2383200"/>
              <a:ext cx="2244600" cy="106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58585a"/>
                  </a:solidFill>
                  <a:latin typeface="Times New Roman"/>
                </a:rPr>
                <a:t>Column buffer</a:t>
              </a:r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8585a"/>
                  </a:solidFill>
                  <a:latin typeface="Times New Roman"/>
                </a:rPr>
                <a:t>(saved in the memory)</a:t>
              </a:r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82360" y="2704680"/>
              <a:ext cx="855720" cy="10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50880" y="2276280"/>
              <a:ext cx="962640" cy="74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58585a"/>
                  </a:solidFill>
                  <a:latin typeface="Times New Roman"/>
                </a:rPr>
                <a:t>decoded LCU’s</a:t>
              </a:r>
              <a:endParaRPr b="0" lang="en-US" sz="16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48480" y="3880800"/>
              <a:ext cx="1283040" cy="96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58585a"/>
                  </a:solidFill>
                  <a:latin typeface="Times New Roman"/>
                </a:rPr>
                <a:t>LCU’s to be decoded</a:t>
              </a:r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692360" y="1359000"/>
            <a:ext cx="11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Times New Roman"/>
              </a:rPr>
              <a:t>Tile #0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1640" y="5950080"/>
            <a:ext cx="724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clude restriction on maximum tile width in level definition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Example of level restriction on tile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1" name="Rectangle 259"/>
          <p:cNvSpPr/>
          <p:nvPr/>
        </p:nvSpPr>
        <p:spPr>
          <a:xfrm>
            <a:off x="0" y="47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80920" y="1763640"/>
          <a:ext cx="6886440" cy="1350720"/>
        </p:xfrm>
        <a:graphic>
          <a:graphicData uri="http://schemas.openxmlformats.org/drawingml/2006/table">
            <a:tbl>
              <a:tblPr/>
              <a:tblGrid>
                <a:gridCol w="1398240"/>
                <a:gridCol w="1835640"/>
                <a:gridCol w="1805040"/>
                <a:gridCol w="1847520"/>
              </a:tblGrid>
              <a:tr h="83988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MaxTileWidthIn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LCU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MinTileWidthIn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LCU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MinTileHeightIn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LCU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5 and above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927000" y="3743280"/>
          <a:ext cx="6884640" cy="1306080"/>
        </p:xfrm>
        <a:graphic>
          <a:graphicData uri="http://schemas.openxmlformats.org/drawingml/2006/table">
            <a:tbl>
              <a:tblPr/>
              <a:tblGrid>
                <a:gridCol w="1398240"/>
                <a:gridCol w="1835280"/>
                <a:gridCol w="1803960"/>
                <a:gridCol w="1847160"/>
              </a:tblGrid>
              <a:tr h="81288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MaxTileWidthIn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Pixels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MinTileWidthIn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Pixels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MinTileHeightIn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Pixels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1920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5560" y="1359000"/>
            <a:ext cx="8351640" cy="513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t is proposed to impose level limits on tile siz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his means that use of multiple tiles in pictures would be mandated for certain levels for larger resolution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iles can reduce line buffer without any modifications to in-loop filters structur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iles can also be used together with any other proposals reducing line buffers (reducing line buffer size even more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t is proposed to impose limitations on tile size into HEVC levels definitions and begin work on determining required limits for tile size related to line buffer siz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Logo_ChapterSlide_Normal" descr="Logo_ChapterSlide_Normal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>Andrey Norkin</dc:creator>
  <dc:description>Rev PA1</dc:description>
  <cp:keywords/>
  <dc:language>en-US</dc:language>
  <cp:lastModifiedBy>Andrey Norkin</cp:lastModifiedBy>
  <dcterms:modified xsi:type="dcterms:W3CDTF">2012-02-07T17:31:19Z</dcterms:modified>
  <cp:revision>67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0-10-07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© Ericsson AB 2010</vt:lpwstr>
  </property>
  <property fmtid="{D5CDD505-2E9C-101B-9397-08002B2CF9AE}" pid="13" name="MiddleFooterField">
    <vt:lpwstr>Public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>Andrey Norkin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0-10-07</vt:lpwstr>
  </property>
  <property fmtid="{D5CDD505-2E9C-101B-9397-08002B2CF9AE}" pid="22" name="SecurityClass">
    <vt:lpwstr>Public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0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1</vt:bool>
  </property>
  <property fmtid="{D5CDD505-2E9C-101B-9397-08002B2CF9AE}" pid="38" name="optFooterCVLCopyright">
    <vt:bool>1</vt:bool>
  </property>
  <property fmtid="{D5CDD505-2E9C-101B-9397-08002B2CF9AE}" pid="39" name="optFooterCVLDate">
    <vt:bool>1</vt:bool>
  </property>
  <property fmtid="{D5CDD505-2E9C-101B-9397-08002B2CF9AE}" pid="40" name="optFooterCVLDocNo">
    <vt:bool>0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Public</vt:lpwstr>
  </property>
  <property fmtid="{D5CDD505-2E9C-101B-9397-08002B2CF9AE}" pid="46" name="x">
    <vt:lpwstr>1</vt:lpwstr>
  </property>
</Properties>
</file>