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9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0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1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1042-ED6E-4F8E-820E-15A2C3A3B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F26B-BACE-4DE4-92B0-5CD3F7231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61D3-5E07-44BB-83F2-80FCB04BE7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9BCB-E449-46D5-AE8D-A98417DFB3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A284-5C09-4FEA-8C72-88EC4A8539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FD4F-03F7-45AC-811B-C3E03DB1CB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C2ED7-CB45-421F-A12A-C0A4108159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A220-B4C6-4872-905A-35896C5902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3870F-03DA-4C12-8A4F-8825DF8658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D593-62A2-4D44-9C97-0BE3171FCA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80B98-F9C9-4B4F-9FFC-1432A1A194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116A-8469-4822-8BEF-8C19D2D105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1B5C-000A-49B9-9245-2EDE1E741B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2813-E100-4D72-9E4A-499D6893DB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A4B6C-5F8F-4991-98C1-B638D544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D1808-5E7E-461B-B654-C26CEC4C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12432-3281-4B02-BC0D-298D85A4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570FE-D249-4F6F-923D-E575A006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E07C3-1D9F-4D50-A7E5-C3D18EB3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741C3-A206-437C-B3BF-379E9C6B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5FBA5-C467-4A7C-ACFE-F9D905AD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2CA54-6379-48A4-8EE6-EE9004BE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1DD1B-A601-482B-9B69-3FAE0424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365E0-1A84-42CD-9B05-CDEBC600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981E7-D488-41D7-AF1E-0831333E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E7BFD-4F92-4AF6-B146-17311457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C703F-5234-48AE-8854-3E04D258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E0236-1B64-4DC6-BD1D-3A8EC863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A03BF-0BCC-4D82-BAFD-19C585A2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B8D4E-5156-448E-924A-03D61FA7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6DA1C4-2133-4B1A-ABFE-9BE8D408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67A5E-515D-40DF-BF96-0BE974A0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7F1B5-0FFF-4F28-B160-674F2343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6C7D6-5D5E-4ACA-AD1F-C6D20E60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C7E32-9AAF-41C8-8FE4-EA143AA8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CC698-AE4A-410E-98AE-BB432020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988C1-5FFE-476E-9D0B-648FA937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C1768-419B-43C6-A43E-8F1CC2BF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36" descr="16_9_logo位置0902w"/>
          <p:cNvPicPr/>
          <p:nvPr/>
        </p:nvPicPr>
        <p:blipFill>
          <a:blip r:embed="rId3"/>
          <a:stretch/>
        </p:blipFill>
        <p:spPr>
          <a:xfrm>
            <a:off x="7932600" y="276120"/>
            <a:ext cx="878040" cy="3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正方形/長方形 22"/>
          <p:cNvSpPr/>
          <p:nvPr/>
        </p:nvSpPr>
        <p:spPr>
          <a:xfrm>
            <a:off x="-1440" y="-111240"/>
            <a:ext cx="9142200" cy="642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0" y="6315120"/>
            <a:ext cx="914076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0" y="0"/>
            <a:ext cx="914076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0" y="6426360"/>
            <a:ext cx="914076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線コネクタ 25"/>
          <p:cNvSpPr/>
          <p:nvPr/>
        </p:nvSpPr>
        <p:spPr>
          <a:xfrm flipH="1">
            <a:off x="430200" y="6473880"/>
            <a:ext cx="1440" cy="216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6" descr="16_9_logo位置0902w"/>
          <p:cNvPicPr/>
          <p:nvPr/>
        </p:nvPicPr>
        <p:blipFill>
          <a:blip r:embed="rId2"/>
          <a:stretch/>
        </p:blipFill>
        <p:spPr>
          <a:xfrm>
            <a:off x="8175600" y="144360"/>
            <a:ext cx="773280" cy="265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sldNum" idx="1"/>
          </p:nvPr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0EE0-4B07-4172-B488-5A08ABC1E45B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JCTVC-F9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P創英角ｺﾞｼｯｸUB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正方形/長方形 22"/>
          <p:cNvSpPr/>
          <p:nvPr/>
        </p:nvSpPr>
        <p:spPr>
          <a:xfrm>
            <a:off x="1440" y="0"/>
            <a:ext cx="9142560" cy="642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0" y="6426360"/>
            <a:ext cx="914076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6" descr="16_9_logo位置0902w"/>
          <p:cNvPicPr/>
          <p:nvPr/>
        </p:nvPicPr>
        <p:blipFill>
          <a:blip r:embed="rId2"/>
          <a:stretch/>
        </p:blipFill>
        <p:spPr>
          <a:xfrm>
            <a:off x="8175600" y="144360"/>
            <a:ext cx="773280" cy="265320"/>
          </a:xfrm>
          <a:prstGeom prst="rect">
            <a:avLst/>
          </a:prstGeom>
          <a:ln w="0">
            <a:noFill/>
          </a:ln>
        </p:spPr>
      </p:pic>
      <p:sp>
        <p:nvSpPr>
          <p:cNvPr id="124" name="直線コネクタ 18"/>
          <p:cNvSpPr/>
          <p:nvPr/>
        </p:nvSpPr>
        <p:spPr>
          <a:xfrm flipH="1">
            <a:off x="430200" y="6473880"/>
            <a:ext cx="1440" cy="216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ftr" idx="3"/>
          </p:nvPr>
        </p:nvSpPr>
        <p:spPr>
          <a:xfrm>
            <a:off x="1260000" y="6473880"/>
            <a:ext cx="575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Department    Copyrigh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4"/>
          </p:nvPr>
        </p:nvSpPr>
        <p:spPr>
          <a:xfrm>
            <a:off x="576000" y="6473880"/>
            <a:ext cx="647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HGP創英角ｺﾞｼｯｸUB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HGP創英角ｺﾞｼｯｸUB"/>
              </a:rPr>
              <a:t>09.10.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D1EE-B7A1-4008-8D4D-01A96B93E6DF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  <p:sp>
        <p:nvSpPr>
          <p:cNvPr id="165" name="正方形/長方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図 9" descr="mblogo_w.pdf"/>
          <p:cNvPicPr/>
          <p:nvPr/>
        </p:nvPicPr>
        <p:blipFill>
          <a:blip r:embed="rId3"/>
          <a:stretch/>
        </p:blipFill>
        <p:spPr>
          <a:xfrm>
            <a:off x="3600360" y="3114720"/>
            <a:ext cx="1943280" cy="658800"/>
          </a:xfrm>
          <a:prstGeom prst="rect">
            <a:avLst/>
          </a:prstGeom>
          <a:ln w="0">
            <a:noFill/>
          </a:ln>
        </p:spPr>
      </p:pic>
      <p:sp>
        <p:nvSpPr>
          <p:cNvPr id="167" name="テキスト ボックス 3"/>
          <p:cNvSpPr/>
          <p:nvPr/>
        </p:nvSpPr>
        <p:spPr>
          <a:xfrm>
            <a:off x="360360" y="6012000"/>
            <a:ext cx="8423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397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7f7f7f"/>
                </a:solidFill>
                <a:latin typeface="Arial"/>
                <a:ea typeface="メイリオ"/>
              </a:rPr>
              <a:t>“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Sony” or “make.believe” is a registered trademark of Sony Corporation.</a:t>
            </a:r>
            <a:br>
              <a:rPr sz="1000"/>
            </a:b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Names of Sony products and services are the registered trademarks and/or trademarks of Sony Corporation or its Group companies.</a:t>
            </a:r>
            <a:br>
              <a:rPr sz="1000"/>
            </a:b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Other company names and product names are the registered trademarks and/or trademarks of the respective compan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51B0-6A3B-4EA3-BEAD-41C2F041A464}" type="slidenum"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7840" y="1599840"/>
            <a:ext cx="896616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entury Gothic"/>
              </a:rPr>
              <a:t>JCTVC-H0461: On HVS only Default Scaling List Matrices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20720" y="3492000"/>
            <a:ext cx="6797520" cy="10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Munsi Haque, Ali Tabatabai, Jun Xu, Cheung Auyeung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Yoshitaka Morigami, Teruhiko Suzuki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20720" y="6048000"/>
            <a:ext cx="77025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TC Avant Garde Std Bk"/>
                <a:ea typeface="メイリオ"/>
              </a:rPr>
              <a:t>February 01 2012</a:t>
            </a:r>
            <a:endParaRPr b="0" lang="en-US" sz="1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4920" y="2750760"/>
            <a:ext cx="855036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66"/>
                </a:solidFill>
                <a:latin typeface="Century Gothic"/>
              </a:rPr>
              <a:t>Backup</a:t>
            </a:r>
            <a:endParaRPr b="0" lang="en-US" sz="4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D1E5-BA62-4A97-ADAE-54B994E97D3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4400" y="48888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HM5.0 (Flat QM) vs Default QM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17E0-839F-4D67-A12F-0B10DECF96AA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735120" y="1003320"/>
          <a:ext cx="7899120" cy="5211720"/>
        </p:xfrm>
        <a:graphic>
          <a:graphicData uri="http://schemas.openxmlformats.org/drawingml/2006/table">
            <a:tbl>
              <a:tblPr/>
              <a:tblGrid>
                <a:gridCol w="730080"/>
                <a:gridCol w="1195560"/>
                <a:gridCol w="1195200"/>
                <a:gridCol w="1193760"/>
                <a:gridCol w="1195560"/>
                <a:gridCol w="1193760"/>
                <a:gridCol w="1195200"/>
              </a:tblGrid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All Intra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All Intra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A (8bi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6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6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5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9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5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7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4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8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2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3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2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7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5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8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3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2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2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7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7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7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6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4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4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3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26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9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2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2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4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3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4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9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2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2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14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13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14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Random Access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A (8bi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3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4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3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4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2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2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Low delay B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2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3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4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4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3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2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3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4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3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3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4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5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2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2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2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2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3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3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2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2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3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3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0400" y="471240"/>
            <a:ext cx="882324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HM5.0 (Flat QM) vs HVS QM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2407-6E27-49E8-9D03-DCF7E203221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320840" y="1066680"/>
          <a:ext cx="6413400" cy="5211720"/>
        </p:xfrm>
        <a:graphic>
          <a:graphicData uri="http://schemas.openxmlformats.org/drawingml/2006/table">
            <a:tbl>
              <a:tblPr/>
              <a:tblGrid>
                <a:gridCol w="1087560"/>
                <a:gridCol w="887400"/>
                <a:gridCol w="887400"/>
                <a:gridCol w="888840"/>
                <a:gridCol w="887400"/>
                <a:gridCol w="887400"/>
                <a:gridCol w="887400"/>
              </a:tblGrid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All Intra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All Intra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A (8bi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3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3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4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4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3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3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3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3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2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4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3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3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4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3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2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3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3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2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2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2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2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3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3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2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2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2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2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2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3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Random Access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A (8bi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3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4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3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4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2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2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Low delay B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2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3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4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4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3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2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3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4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3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3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4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5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2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2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2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2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3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3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2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2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3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3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VALUE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#NUM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78000" y="628560"/>
            <a:ext cx="855000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55" name="Slide Number Placeholder 2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7224-2F56-4383-BE78-38C2C5D8872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4920" y="1066680"/>
            <a:ext cx="8550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HM5.0 Default Scaling List Matrices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cludes 4x4 and 8x8 AVC matrices, and 16x16 and 32x32 HVS model based matrices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VC 4x4/8x8 Scaling list matrices are relatively steeper near DC (0,0) coefficient-area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9966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Calibri"/>
                <a:ea typeface="Calibri"/>
              </a:rPr>
              <a:t>DC value is 6 or 9 for AVC 4x4/8x8 matrices, while for HVS, it is 16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HEVC transforms are different than AVC transforms and so are the need for different Scaling List Matrices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H0461 proposes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ubstitute 4x4 and 8x8 AVC matrices with the corresponding HVS model-based matrices to make an ALL HVS matrices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HVS 8x8 Intra matrix is MPEG-4 Part-2 (ASP) Default Quantization Matrix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78000" y="590400"/>
            <a:ext cx="855000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Objective Performance Measure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59" name="Slide Number Placeholder 2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FDBF-4DF3-4489-A2C3-A7DA151332AA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4920" y="1802880"/>
            <a:ext cx="2135160" cy="29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alibri"/>
                <a:ea typeface="Calibri"/>
              </a:rPr>
              <a:t>HM5.0 Default matrices as Anchor, HVS only matrices provide BD bit-rate reduction of 6.5% (AI-HE), 3.6% (RA-HE), 1.8% (LD-B-HE).</a:t>
            </a: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508120" y="1071720"/>
          <a:ext cx="4972320" cy="5214960"/>
        </p:xfrm>
        <a:graphic>
          <a:graphicData uri="http://schemas.openxmlformats.org/drawingml/2006/table">
            <a:tbl>
              <a:tblPr/>
              <a:tblGrid>
                <a:gridCol w="838440"/>
                <a:gridCol w="711000"/>
                <a:gridCol w="711360"/>
                <a:gridCol w="503280"/>
                <a:gridCol w="1030320"/>
                <a:gridCol w="711000"/>
                <a:gridCol w="466920"/>
              </a:tblGrid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Intra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Intra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 (8bi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 Access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 (8bi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 delay B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78000" y="628560"/>
            <a:ext cx="855000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Subjective Performance Evaluation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64" name="Slide Number Placeholder 2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60A7-9DDC-4D55-876B-E1692ACDDC8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78000" y="1224000"/>
            <a:ext cx="8550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In-house subjective evaluation demo was conducted with more than 10 people participating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Performance for All HVS matrices are compared against HM5.0 default matrices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 some class B sequences (BQTerrace, Kimono1 with QP32), color looks more stable for All HVS cases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 a class E sequence (Vidyo3 with QP37), picture quality looks better, as shown in next slides. 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other sequences (with QP32), relative performances in picture quality are hard to distinguish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Subjective evaluation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977400"/>
            <a:ext cx="8496360" cy="25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he followings are compared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nchor (HM5.0 Default) vs. All HVS (All matrices are HVS model based)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he Subjective evaluation shows better All HVS results than Anchor’s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4284720" y="4076640"/>
            <a:ext cx="4824360" cy="2714760"/>
          </a:xfrm>
          <a:prstGeom prst="rect">
            <a:avLst/>
          </a:prstGeom>
          <a:ln w="0">
            <a:noFill/>
          </a:ln>
        </p:spPr>
      </p:pic>
      <p:sp>
        <p:nvSpPr>
          <p:cNvPr id="270" name="正方形/長方形 7"/>
          <p:cNvSpPr/>
          <p:nvPr/>
        </p:nvSpPr>
        <p:spPr>
          <a:xfrm>
            <a:off x="4284720" y="4630680"/>
            <a:ext cx="3600360" cy="216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テキスト ボックス 9"/>
          <p:cNvSpPr/>
          <p:nvPr/>
        </p:nvSpPr>
        <p:spPr>
          <a:xfrm>
            <a:off x="5290200" y="4297320"/>
            <a:ext cx="1009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-7920" y="4076640"/>
          <a:ext cx="4292640" cy="2143080"/>
        </p:xfrm>
        <a:graphic>
          <a:graphicData uri="http://schemas.openxmlformats.org/drawingml/2006/table">
            <a:tbl>
              <a:tblPr/>
              <a:tblGrid>
                <a:gridCol w="990720"/>
                <a:gridCol w="608040"/>
                <a:gridCol w="609480"/>
                <a:gridCol w="609480"/>
                <a:gridCol w="608040"/>
                <a:gridCol w="866880"/>
              </a:tblGrid>
              <a:tr h="190440"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Bit-rate Adjustment: Anchor vs Targ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Default HM5.0 QMs as Anch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Bitra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Y-PSN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U-PSN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V-PSN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QP37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5810.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36.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45.9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44.41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8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All HVS QMs as Targ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Bit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Y-PSN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U-PSN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V-PSN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Bitrate difference 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QP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6339.6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37.49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44.88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43.1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9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QP36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5741.5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36.91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44.47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42.71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1.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QP37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5196.5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36.28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44.54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42.74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10.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0440"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HGP創英角ｺﾞｼｯｸUB"/>
                        </a:rPr>
                        <a:t>Bitrate difference % = (Anchor - All HVS) / Anchor * 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Anchor (4x4 8x8 AVC, 16x16 32x32 HVS)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QP=37, Intra_LC, frame#40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2"/>
          <a:srcRect l="0" t="18499" r="25001" b="0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276" name="正方形/長方形 9"/>
          <p:cNvSpPr/>
          <p:nvPr/>
        </p:nvSpPr>
        <p:spPr>
          <a:xfrm>
            <a:off x="4055760" y="42210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of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直線矢印コネクタ 6"/>
          <p:cNvCxnSpPr/>
          <p:nvPr/>
        </p:nvCxnSpPr>
        <p:spPr>
          <a:xfrm flipV="1">
            <a:off x="4932360" y="3428640"/>
            <a:ext cx="216720" cy="721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2"/>
          <a:srcRect l="0" t="18499" r="25001" b="0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cxnSp>
        <p:nvCxnSpPr>
          <p:cNvPr id="280" name="直線矢印コネクタ 6"/>
          <p:cNvCxnSpPr/>
          <p:nvPr/>
        </p:nvCxnSpPr>
        <p:spPr>
          <a:xfrm flipV="1">
            <a:off x="4932360" y="3428640"/>
            <a:ext cx="216720" cy="721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6000" y="1155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All HVS (All matrices are HVS model based)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QP=37, Intra_LC, frame#40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82" name="テキスト ボックス 9"/>
          <p:cNvSpPr/>
          <p:nvPr/>
        </p:nvSpPr>
        <p:spPr>
          <a:xfrm>
            <a:off x="4401000" y="42210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78000" y="628560"/>
            <a:ext cx="855000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Conclusion 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84" name="Slide Number Placeholder 2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44D9-6A29-43A9-BC09-193DC3E1758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78000" y="1223640"/>
            <a:ext cx="83088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alibri"/>
                <a:ea typeface="Calibri"/>
              </a:rPr>
              <a:t>While comparing with HM5.0 Default Scaling List matrices as Anchor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erformance of HVS only matrices provide BD bit-rate reduction of 6.5% (AI-HE), 3.6% (RA-HE), 1.8% (LD-B-HE). 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n some test sequences, Subjective evaluation by Sony researchers shows relatively better visual quality for HVS only matrices than for default HM5.0 matrices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alibri"/>
                <a:ea typeface="Calibri"/>
              </a:rPr>
              <a:t>Substitute 4x4 and 8x8 AVC matrices by HVS model based matrices and make an all HVS based Scaling list matrices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b0f0"/>
                </a:solidFill>
                <a:latin typeface="Calibri"/>
                <a:ea typeface="Calibri"/>
              </a:rPr>
              <a:t>Note: 8x8 Intra HVS matrix  = MPEG-4:2 (ASP) QM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Many thanks to Edouard Francois (Canon) for the cross-checking help (JCTVC-0696)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1:41:31Z</dcterms:created>
  <dc:creator>Sony Customer</dc:creator>
  <dc:description/>
  <dc:language>en-US</dc:language>
  <cp:lastModifiedBy>munsi</cp:lastModifiedBy>
  <dcterms:modified xsi:type="dcterms:W3CDTF">2012-02-06T22:35:15Z</dcterms:modified>
  <cp:revision>191</cp:revision>
  <dc:subject/>
  <dc:title>Sony’s Perspective on the CE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20010AEFE09DCD06140A9660BDD0E512771</vt:lpwstr>
  </property>
  <property fmtid="{D5CDD505-2E9C-101B-9397-08002B2CF9AE}" pid="3" name="Description">
    <vt:lpwstr/>
  </property>
  <property fmtid="{D5CDD505-2E9C-101B-9397-08002B2CF9AE}" pid="4" name="ImageCreateDate">
    <vt:lpwstr/>
  </property>
  <property fmtid="{D5CDD505-2E9C-101B-9397-08002B2CF9AE}" pid="5" name="Published On">
    <vt:lpwstr>2011-03-31T00:00:00Z</vt:lpwstr>
  </property>
  <property fmtid="{D5CDD505-2E9C-101B-9397-08002B2CF9AE}" pid="6" name="Research Categories">
    <vt:lpwstr>;#ALL RESEARCH;#Market Overviews &amp; Share;#Sony Market Research;#ALL CONSUMER ELECTRONICS;#3D;#Blu-ray Disc &amp; DVD;#Digital Imaging;#eBook;#HDTV;#PC/Notebook/Netbook;#Tablets;#ALL BRAND RESEARCH;#Sony;#</vt:lpwstr>
  </property>
  <property fmtid="{D5CDD505-2E9C-101B-9397-08002B2CF9AE}" pid="7" name="Vendor">
    <vt:lpwstr>17</vt:lpwstr>
  </property>
</Properties>
</file>