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6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GP創英角ｺﾞｼｯｸUB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7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8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3A11-43C2-458D-9C8B-E73111F2D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C1FB-CE94-41EF-A758-4D9662352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5058-A190-4913-A9AA-D359DBE99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E1AE-D0D2-4927-9531-771E04F32A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62684-2695-4C09-8EF2-10BA7C26FD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7C18-40FA-4DB3-90D0-31F282682A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3710F-BDE1-487C-82F3-E2881F9637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B701C-7CDD-4951-A81C-EEFE96429A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6990-932E-4139-A573-06150C3378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0125-E86A-4BB3-967B-3A2AA01F1B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86A29-B624-49BE-BD19-9AE1B3A320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7E17-B81B-405E-9C5F-983F96D70E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9705-1810-495C-ABDB-67A9E199AE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291F7-2E32-4F2C-B95A-CB80A126B5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0BD33-8FAE-4F43-BDF9-6F812502937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548DF-BE0C-4EEB-961F-1FF92078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58A6D-BAAB-4598-A759-91D9A0A5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677D3-43A4-4235-A3ED-4DD7FA10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BA542-A275-4FCD-BD4C-811B428D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7B194-9C2B-4E07-8870-FFB23FEA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5CE1E-7784-4FA8-9912-6E092B74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38917-57E9-4E4A-BD3F-226D79DA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79AFE-9916-4851-B91C-D1A2AE1E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F6188-6105-4985-95A7-772A7A74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E316A-2C08-4B8F-A5F8-BD37910E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E6CD0-6A56-4555-960C-996B8152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937EC-0C1C-47F1-8724-3D2956A9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36" descr="16_9_logo位置0902w"/>
          <p:cNvPicPr/>
          <p:nvPr/>
        </p:nvPicPr>
        <p:blipFill>
          <a:blip r:embed="rId3"/>
          <a:stretch/>
        </p:blipFill>
        <p:spPr>
          <a:xfrm>
            <a:off x="7932600" y="276120"/>
            <a:ext cx="878040" cy="3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正方形/長方形 22"/>
          <p:cNvSpPr/>
          <p:nvPr/>
        </p:nvSpPr>
        <p:spPr>
          <a:xfrm>
            <a:off x="-1440" y="-111240"/>
            <a:ext cx="9142200" cy="642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0" y="6315120"/>
            <a:ext cx="914076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0" y="0"/>
            <a:ext cx="914076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0" y="6426360"/>
            <a:ext cx="914076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線コネクタ 25"/>
          <p:cNvSpPr/>
          <p:nvPr/>
        </p:nvSpPr>
        <p:spPr>
          <a:xfrm flipH="1">
            <a:off x="430200" y="6473880"/>
            <a:ext cx="1440" cy="216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6" descr="16_9_logo位置0902w"/>
          <p:cNvPicPr/>
          <p:nvPr/>
        </p:nvPicPr>
        <p:blipFill>
          <a:blip r:embed="rId2"/>
          <a:stretch/>
        </p:blipFill>
        <p:spPr>
          <a:xfrm>
            <a:off x="8175600" y="144360"/>
            <a:ext cx="773280" cy="265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sldNum" idx="1"/>
          </p:nvPr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A1CD-E28D-4B10-AF24-352880B7E18F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JCTVC-F9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正方形/長方形 22"/>
          <p:cNvSpPr/>
          <p:nvPr/>
        </p:nvSpPr>
        <p:spPr>
          <a:xfrm>
            <a:off x="1440" y="0"/>
            <a:ext cx="9142560" cy="642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0" y="6426360"/>
            <a:ext cx="914076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6" descr="16_9_logo位置0902w"/>
          <p:cNvPicPr/>
          <p:nvPr/>
        </p:nvPicPr>
        <p:blipFill>
          <a:blip r:embed="rId2"/>
          <a:stretch/>
        </p:blipFill>
        <p:spPr>
          <a:xfrm>
            <a:off x="8175600" y="144360"/>
            <a:ext cx="773280" cy="265320"/>
          </a:xfrm>
          <a:prstGeom prst="rect">
            <a:avLst/>
          </a:prstGeom>
          <a:ln w="0">
            <a:noFill/>
          </a:ln>
        </p:spPr>
      </p:pic>
      <p:sp>
        <p:nvSpPr>
          <p:cNvPr id="122" name="直線コネクタ 18"/>
          <p:cNvSpPr/>
          <p:nvPr/>
        </p:nvSpPr>
        <p:spPr>
          <a:xfrm flipH="1">
            <a:off x="430200" y="6473880"/>
            <a:ext cx="1440" cy="216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ftr" idx="3"/>
          </p:nvPr>
        </p:nvSpPr>
        <p:spPr>
          <a:xfrm>
            <a:off x="1260000" y="6473880"/>
            <a:ext cx="575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Department    Copyrigh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4"/>
          </p:nvPr>
        </p:nvSpPr>
        <p:spPr>
          <a:xfrm>
            <a:off x="576000" y="6473880"/>
            <a:ext cx="647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HGP創英角ｺﾞｼｯｸUB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HGP創英角ｺﾞｼｯｸUB"/>
              </a:rPr>
              <a:t>09.10.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1AEB-FFA2-4CD8-A6FB-E0C24299173D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  <p:sp>
        <p:nvSpPr>
          <p:cNvPr id="163" name="正方形/長方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図 9" descr="mblogo_w.pdf"/>
          <p:cNvPicPr/>
          <p:nvPr/>
        </p:nvPicPr>
        <p:blipFill>
          <a:blip r:embed="rId3"/>
          <a:stretch/>
        </p:blipFill>
        <p:spPr>
          <a:xfrm>
            <a:off x="3600360" y="3114720"/>
            <a:ext cx="1943280" cy="658800"/>
          </a:xfrm>
          <a:prstGeom prst="rect">
            <a:avLst/>
          </a:prstGeom>
          <a:ln w="0">
            <a:noFill/>
          </a:ln>
        </p:spPr>
      </p:pic>
      <p:sp>
        <p:nvSpPr>
          <p:cNvPr id="165" name="テキスト ボックス 3"/>
          <p:cNvSpPr/>
          <p:nvPr/>
        </p:nvSpPr>
        <p:spPr>
          <a:xfrm>
            <a:off x="360360" y="6012000"/>
            <a:ext cx="8423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397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7f7f7f"/>
                </a:solidFill>
                <a:latin typeface="Arial"/>
                <a:ea typeface="メイリオ"/>
              </a:rPr>
              <a:t>“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Sony” or “make.believe” is a registered trademark of Sony Corporation.</a:t>
            </a:r>
            <a:br>
              <a:rPr sz="1000"/>
            </a:b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Names of Sony products and services are the registered trademarks and/or trademarks of Sony Corporation or its Group companies.</a:t>
            </a:r>
            <a:br>
              <a:rPr sz="1000"/>
            </a:b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Other company names and product names are the registered trademarks and/or trademarks of the respective compan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P創英角ｺﾞｼｯｸUB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7840" y="1002960"/>
            <a:ext cx="89661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entury Gothic"/>
              </a:rPr>
              <a:t>JCTVC-H0460: High-level Syntaxes for Scaling Matrices Parameters and Parametric coding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20720" y="3492360"/>
            <a:ext cx="770256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Munsi Haque, Ehsan Maani, Ali Tabatabai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720720" y="6048000"/>
            <a:ext cx="77025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TC Avant Garde Std Bk"/>
                <a:ea typeface="メイリオ"/>
              </a:rPr>
              <a:t>February 01, 2012</a:t>
            </a:r>
            <a:endParaRPr b="0" lang="en-US" sz="1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78000" y="628560"/>
            <a:ext cx="855000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5" name="Slide Number Placeholder 2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0170-9CF2-4600-8154-AC9787CB3A14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25280" y="1224000"/>
            <a:ext cx="9018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Encoders may select on how accurate scaling list matrices need to be coded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just parametric models only - no residual prediction error 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Or some tradeoffs - send parameters and a limited amount of residual errors  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Example syntax for a group of scaling list parameters 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odeling a class of  scaling list matrices in scaling_list_param() sets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some results on parametric model based coding of scaling matrices 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280" y="628560"/>
            <a:ext cx="880272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scaling_list_param() syntax structure for APS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9" name="Slide Number Placeholder 2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320C-6770-4459-A849-E158D40431C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629160" y="1224000"/>
          <a:ext cx="5413320" cy="4616280"/>
        </p:xfrm>
        <a:graphic>
          <a:graphicData uri="http://schemas.openxmlformats.org/drawingml/2006/table">
            <a:tbl>
              <a:tblPr/>
              <a:tblGrid>
                <a:gridCol w="4867200"/>
                <a:gridCol w="546120"/>
              </a:tblGrid>
              <a:tr h="23616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aling_list_param(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56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aram_model_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(3)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( param_model_index = 1) {   // symmetric quadratic parameter mode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68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_coding_flag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/ flag for uniform or VLC coding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(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 (!parameter_coding_flag) // position-based uniform coding as an exam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t_params()      // get "a, b, c, d" parameters of the quadratic 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(n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se {   // VLC (EGC, etc).coding of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a, b, c, d" parameters of the quadratic model    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e(v)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}  // end of param_model_index =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se {    // Other parameter model indices: asymmetric quadratic, HVS, etc.   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idual_error_present_fl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(1)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( residual_error_present_flag) 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92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idual_coding_mo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(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76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 (residual_coding_mode = 0)       {   // AVC DPCM    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se if (residual_coding_mode = 1)   {  // Sony-TI or similar DPCM  coding.   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892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se {   // 2 to 7 - reserved ?     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96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}     // end of residual_error_present_fl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92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}  // end of scaling_list_pa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25280" y="1409760"/>
          <a:ext cx="3389400" cy="2468520"/>
        </p:xfrm>
        <a:graphic>
          <a:graphicData uri="http://schemas.openxmlformats.org/drawingml/2006/table">
            <a:tbl>
              <a:tblPr/>
              <a:tblGrid>
                <a:gridCol w="912960"/>
                <a:gridCol w="863640"/>
                <a:gridCol w="1612800"/>
              </a:tblGrid>
              <a:tr h="63936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 Model Index (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aram_model_index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 Model Type 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ric mod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er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mmetric Quadrati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= </a:t>
                      </a: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x + </a:t>
                      </a: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y) + </a:t>
                      </a: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xy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+ </a:t>
                      </a: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ymmetric Quadrati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= </a:t>
                      </a: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 x + b1 y + c1) ( a2 x + b2 y + c2)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V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(u,v) = a (b + c f (u,v)) exp( - (c f(u,v))**d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(u,v) = q / H(u,v)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er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78000" y="628560"/>
            <a:ext cx="855000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Parametric Modeling and Coding Results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44A3-097B-426B-9127-45D4D27301C0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280" y="1409760"/>
            <a:ext cx="880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  <a:ea typeface="Calibri"/>
              </a:rPr>
              <a:t>For the simulation runs, Quadratic parameter models are used to predict 4x4 and 8x8 Scaling List Matrices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  <a:ea typeface="Calibri"/>
              </a:rPr>
              <a:t>Two possible ways to code the Scaling List Matrices  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arameter Only Coding </a:t>
            </a:r>
            <a:endParaRPr b="0" lang="en-US" sz="1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arameters and Residual Error Coding</a:t>
            </a:r>
            <a:endParaRPr b="0" lang="en-US" sz="1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  <a:ea typeface="Calibri"/>
              </a:rPr>
              <a:t>For Live-update, a limited number of parameters can be sent  for matrices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 prediction error  </a:t>
            </a:r>
            <a:endParaRPr b="0" lang="en-US" sz="1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For 16x16 and 32x32 matrices, the parameters of  8x8 matrices and fractional grids to interpolate the elements of larger matrices, without coding any other parameters for them.</a:t>
            </a:r>
            <a:endParaRPr b="0" lang="en-US" sz="1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Used EGC coding for the parameters</a:t>
            </a:r>
            <a:endParaRPr b="0" lang="en-US" sz="1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  <a:ea typeface="Calibri"/>
              </a:rPr>
              <a:t>For Residual Error Coding, example coding method of CE4 Subtest 2.1 are considered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As in CE4 Subtest 2.1, option-1, two  sets (symmetric &amp; asymmetric) of matrix files are used for simulation</a:t>
            </a:r>
            <a:endParaRPr b="0" lang="en-US" sz="1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Bit-count for Scaling List Matrices  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8888-D110-4DE5-ACBE-25A33E87B0A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814320" y="4656240"/>
            <a:ext cx="23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Matrix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5546160" y="4656240"/>
            <a:ext cx="251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ymmetric Matrix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125280" y="5295960"/>
            <a:ext cx="880272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t-counts for Parametric Model based coding compared with CE4 2.1 Sony DPCM case varies from 109.13% to 129.57% for symmetric matrix files, and 106.76% to 116.29%  for asymmetric matrix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Chart 9" descr=""/>
          <p:cNvPicPr/>
          <p:nvPr/>
        </p:nvPicPr>
        <p:blipFill>
          <a:blip r:embed="rId1"/>
          <a:stretch/>
        </p:blipFill>
        <p:spPr>
          <a:xfrm>
            <a:off x="122400" y="1407960"/>
            <a:ext cx="4582800" cy="3090960"/>
          </a:xfrm>
          <a:prstGeom prst="rect">
            <a:avLst/>
          </a:prstGeom>
          <a:ln w="0">
            <a:noFill/>
          </a:ln>
        </p:spPr>
      </p:pic>
      <p:pic>
        <p:nvPicPr>
          <p:cNvPr id="234" name="Chart 10" descr=""/>
          <p:cNvPicPr/>
          <p:nvPr/>
        </p:nvPicPr>
        <p:blipFill>
          <a:blip r:embed="rId2"/>
          <a:stretch/>
        </p:blipFill>
        <p:spPr>
          <a:xfrm>
            <a:off x="4352760" y="1219320"/>
            <a:ext cx="45831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78000" y="628560"/>
            <a:ext cx="855000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Conclusion 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6" name="Slide Number Placeholder 2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8063-B5FC-4594-8868-6D0DB4B95194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77640" y="1223640"/>
            <a:ext cx="839772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  <a:ea typeface="Calibri"/>
              </a:rPr>
              <a:t>This contribution has 2 parts 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 example syntax structure for the scaling_matrix_param()  group to enable sending parameters of scaling list matrices to the decoder-side </a:t>
            </a:r>
            <a:endParaRPr b="0" lang="en-US" sz="1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ome compression results for Parametric Model based Scaling List Matrix coding are presented</a:t>
            </a:r>
            <a:endParaRPr b="0" lang="en-US" sz="1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  <a:ea typeface="Calibri"/>
              </a:rPr>
              <a:t>The parametric model based coding results are comparable with those of DPCM method 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radeoff studies on bit-allocations between parameters and residual coding can be further enhanced</a:t>
            </a:r>
            <a:endParaRPr b="0" lang="en-US" sz="16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  <a:ea typeface="Calibri"/>
              </a:rPr>
              <a:t>We believe such coding mechanism of Scaling List matrices result in more compact representation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  <a:ea typeface="Calibri"/>
              </a:rPr>
              <a:t>encoder may decide what kind of scaling list matrices are sufficient for coding, as far as residual errors concerned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  <a:ea typeface="Calibri"/>
              </a:rPr>
              <a:t>Parametric models can co-exist with other models and hence need high-level syntax support, as shown in the example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1:41:31Z</dcterms:created>
  <dc:creator>Sony Customer</dc:creator>
  <dc:description/>
  <dc:language>en-US</dc:language>
  <cp:lastModifiedBy>munsi</cp:lastModifiedBy>
  <dcterms:modified xsi:type="dcterms:W3CDTF">2012-02-02T01:00:05Z</dcterms:modified>
  <cp:revision>187</cp:revision>
  <dc:subject/>
  <dc:title>Sony’s Perspective on the CE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20010AEFE09DCD06140A9660BDD0E512771</vt:lpwstr>
  </property>
  <property fmtid="{D5CDD505-2E9C-101B-9397-08002B2CF9AE}" pid="3" name="Description">
    <vt:lpwstr/>
  </property>
  <property fmtid="{D5CDD505-2E9C-101B-9397-08002B2CF9AE}" pid="4" name="ImageCreateDate">
    <vt:lpwstr/>
  </property>
  <property fmtid="{D5CDD505-2E9C-101B-9397-08002B2CF9AE}" pid="5" name="Published On">
    <vt:lpwstr>2011-03-31T00:00:00Z</vt:lpwstr>
  </property>
  <property fmtid="{D5CDD505-2E9C-101B-9397-08002B2CF9AE}" pid="6" name="Research Categories">
    <vt:lpwstr>;#ALL RESEARCH;#Market Overviews &amp; Share;#Sony Market Research;#ALL CONSUMER ELECTRONICS;#3D;#Blu-ray Disc &amp; DVD;#Digital Imaging;#eBook;#HDTV;#PC/Notebook/Netbook;#Tablets;#ALL BRAND RESEARCH;#Sony;#</vt:lpwstr>
  </property>
  <property fmtid="{D5CDD505-2E9C-101B-9397-08002B2CF9AE}" pid="7" name="Vendor">
    <vt:lpwstr>17</vt:lpwstr>
  </property>
</Properties>
</file>