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A340-0351-4B8D-B558-98F22E3F0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169-EF08-4D90-AE90-C97C4184D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47DC-121D-49BF-96C5-92524691E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C7C-9C75-46F8-BECD-0257005E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049-C10D-4701-A784-580F670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70C-5F68-41DA-9B3F-85F5E0FF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22-9267-421D-87BA-F2431363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9323-7C68-40B7-A78F-43EEF5E9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B4BB-4E89-4EF9-BAE7-E436C48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28E7-6009-4B47-B681-7827E25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B6DC-4C4D-4081-9172-6A30401C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4D46-97BA-4C83-A1B2-759AAF7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444-4246-4C9A-B9BF-C98DC5B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4CA1-D60D-494F-85BB-3D0D6C1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7C7-0673-452D-8958-E5DE146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3C26-404A-482C-AA78-A22107A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3AA7-0D92-4AA0-A418-D3FF794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DA58-AB36-4290-A54D-A2F3D316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183-B214-4383-A3D5-32DDCC48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EC81-219B-45B6-BE1D-27E8EE9D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960-0D77-41E7-9485-CAFD179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7E-70BC-4300-99C4-F3754C7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84A-0980-48D2-8A06-A7C0268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701-62D6-468A-9D21-3017A19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867-8D45-4523-A46E-0E70E49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E23-1CD2-4F5F-9E4E-9F9CE65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567-50AA-45C4-A83A-D96D9ED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4D7A-527C-430C-BF11-F9868C997B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AB75-304B-47E7-996E-78754EBA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1F5-09E5-4509-A9B0-F9B97481F1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EEDD-D699-4A4E-9E50-13CE51D90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252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Calibri"/>
              </a:rPr>
              <a:t>Non-CE11: Low complexity parallel significance map co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4495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. Sole, V. Seregin, M. Karczewic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co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4876920" y="449568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. Tsukuba, T. I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P 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76320" y="30481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CTVC-H04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 case 2, common cond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3802-E5BB-4E86-98D0-0E97E56F2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914400"/>
          <a:ext cx="6629400" cy="5791320"/>
        </p:xfrm>
        <a:graphic>
          <a:graphicData uri="http://schemas.openxmlformats.org/drawingml/2006/table">
            <a:tbl>
              <a:tblPr/>
              <a:tblGrid>
                <a:gridCol w="793800"/>
                <a:gridCol w="649080"/>
                <a:gridCol w="648000"/>
                <a:gridCol w="649080"/>
                <a:gridCol w="647640"/>
                <a:gridCol w="648000"/>
                <a:gridCol w="649080"/>
                <a:gridCol w="647640"/>
                <a:gridCol w="649440"/>
                <a:gridCol w="64764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or large transforms, significance map context depends on the number of non-zero coefficients in a neighbour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Up to 10 conditions have to be chec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llow 2-bin in parallel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is contribution reduces the number of conditions to check while allowing 3-bin parallel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mbination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JCTVC-H0095: position-based context for high frequ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JCTVC-H0427: modified neighbourhood to reduce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AF1-0A4D-4981-866F-A44C9E37F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VC LTU Significance Contex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ypes of templates depending on the coefficient position within a 4×4 sub-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 if parts of the neighborhood template is out of the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 to 10 conditions and 2 bins in parall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C context is position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B205-B2E8-4654-B792-D3FD6B808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547800" cy="358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3832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wo modifications to reduce 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osition-based context for high-frequ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(X&gt;&gt;2) + (Y&gt;&gt;2) &gt;= 3*(Tsize&gt;&gt;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odified template for low frequ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7DEA-BB04-4C82-AE23-84919A76B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0"/>
          <p:cNvCxnSpPr/>
          <p:nvPr/>
        </p:nvCxnSpPr>
        <p:spPr>
          <a:xfrm>
            <a:off x="1752120" y="4114440"/>
            <a:ext cx="381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14"/>
          <p:cNvCxnSpPr/>
          <p:nvPr/>
        </p:nvCxnSpPr>
        <p:spPr>
          <a:xfrm>
            <a:off x="1752120" y="6095520"/>
            <a:ext cx="381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TextBox 15"/>
          <p:cNvSpPr/>
          <p:nvPr/>
        </p:nvSpPr>
        <p:spPr>
          <a:xfrm>
            <a:off x="152280" y="39513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28600" y="5910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3547800" cy="358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943600" y="2666880"/>
            <a:ext cx="3019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3-bins parallelization and reduction in the number of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igh percentage of contexts are position-b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or template-based contex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No need to check boundary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wo positions have different template (as in HM5.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05C-18AE-487D-BB4C-BEC161B38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286000" y="3154320"/>
            <a:ext cx="2666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conditions and low QP (12, 17, 22, 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coding and decoding times similar to anch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cases as in JCTVC-H00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context for high-frequencies (one for luma, one for chrom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dditional 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3EF8-4E90-4FED-84D5-A0089F255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3352680"/>
          <a:ext cx="8534520" cy="1854360"/>
        </p:xfrm>
        <a:graphic>
          <a:graphicData uri="http://schemas.openxmlformats.org/drawingml/2006/table">
            <a:tbl>
              <a:tblPr/>
              <a:tblGrid>
                <a:gridCol w="530280"/>
                <a:gridCol w="1366920"/>
                <a:gridCol w="947520"/>
                <a:gridCol w="947880"/>
                <a:gridCol w="949320"/>
                <a:gridCol w="947520"/>
                <a:gridCol w="947880"/>
                <a:gridCol w="949320"/>
                <a:gridCol w="94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9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al allows 3 bins in parallel while greatly reducing the number of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ghtly worse BD-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E7FE-DB51-422A-8F53-102364577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84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B7C-7171-4886-924C-CC3DAEF0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 case 1, common cond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3186-B34B-4948-81D9-E602C1D52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914400"/>
          <a:ext cx="6629400" cy="5791320"/>
        </p:xfrm>
        <a:graphic>
          <a:graphicData uri="http://schemas.openxmlformats.org/drawingml/2006/table">
            <a:tbl>
              <a:tblPr/>
              <a:tblGrid>
                <a:gridCol w="793800"/>
                <a:gridCol w="649080"/>
                <a:gridCol w="648000"/>
                <a:gridCol w="649080"/>
                <a:gridCol w="647640"/>
                <a:gridCol w="648000"/>
                <a:gridCol w="649080"/>
                <a:gridCol w="647640"/>
                <a:gridCol w="649440"/>
                <a:gridCol w="64764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8:38Z</dcterms:created>
  <dc:creator>Rajan Joshi</dc:creator>
  <dc:description/>
  <dc:language>en-US</dc:language>
  <cp:lastModifiedBy>Qualcomm User</cp:lastModifiedBy>
  <dcterms:modified xsi:type="dcterms:W3CDTF">2012-02-01T23:48:31Z</dcterms:modified>
  <cp:revision>226</cp:revision>
  <dc:subject/>
  <dc:title>Simplified Transforms for Extended Block Sizes</dc:title>
</cp:coreProperties>
</file>