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11B-40BB-4C11-A037-1838D188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EC3-6239-4B4F-A012-3AB5E593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8F0-5F55-4FF1-98F2-10774B3F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8E2-0DF3-475B-BA61-8C67721E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D971-72C2-47C3-96E6-F56F99C5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1B05-30FE-4F2D-B63E-3143DE9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FC6C-D92A-43C7-8697-36FF26C4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2466-5049-4EAD-9D94-DDC46751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91F8-D49D-4A5E-8556-F865A13A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45E9-E7AB-4CF5-AF74-28ED88C2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50D8-4404-4E06-BDE7-02BCB4F4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9DD-B6F0-4996-825D-E81A5754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B636-8A75-4A6F-B023-7FE4B780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86E2-B642-4BA5-8261-B65B46ED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13CE-369F-4D2B-AE5F-FFAAF88E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87F3-8898-4EB8-978B-D5B606A5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C257-3510-4503-BF75-1B5F1D83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0CF-B1C8-420D-8C64-37A7C470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3AE-23A0-4FA8-8144-7BB26E41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313-C9C0-42D1-85FB-9EB28321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E97-28D0-48C7-BF97-DACE221A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D12-90B9-4125-BA06-8F5DEF4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0BE-16B4-4FC8-B3C5-1CA8DD0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A6E-09DD-46A9-8933-617EA49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7C66-B90D-4DA5-B548-81AD323206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7025-94A4-4B28-809E-CA5A723EE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BD2-BAEB-4278-99BE-21D1562D53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85A4-C1FE-41D0-A2F3-3259D86C4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4252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CE11: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rmonization of residual coding and NSQ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038120" y="45716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. Sole, M. Karczewicz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co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380880" y="45720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. Kim, B. Je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76320" y="30481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CTVC-H04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SQ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s non-square trans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 sizes: 32×8, 8×32, 16×4, 4×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SQT blocks use the large transform entropy coding method based on the neighborhood despite of thei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×8 blocks use position-based context for the significanc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6×4 and 4×16 have the same number of coefficients but use neighborhood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rmoniz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with same number of coefficients use the same significance map coding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6×4 and 4×16 use the 8×8 method and contex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San Jose,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7B9D-9766-4BB8-B0D7-5A0FEB2EA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SQT harmo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HM5.0, 8×8 significance map contexts are obtained from a 4×4 table (called map8x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8x8[4 * (uiPosY &gt;&gt; 1) + (uiPosX &gt;&gt; 1)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ame table is used to accommodate sizes 16×4/4×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×16 case :    map8x8[4 * (uiPosY &gt;&gt; 2) + uiPosX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6×4 case:     map8x8[4 * (uiPosX &gt;&gt; 2) + uiPosY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s and tables of the 8×8 blocks are re-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applies same contexts to coefficients with similar frequ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xts depend on the position, so the method can be applied to any context tables used for 8×8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BF89-B9C8-49EA-AF54-750575262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San Jose,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heck: Sony (JCTVC-H040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6A74-2133-4B89-8EDA-59B780FD8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2209680"/>
          <a:ext cx="8534160" cy="3789360"/>
        </p:xfrm>
        <a:graphic>
          <a:graphicData uri="http://schemas.openxmlformats.org/drawingml/2006/table">
            <a:tbl>
              <a:tblPr/>
              <a:tblGrid>
                <a:gridCol w="853920"/>
                <a:gridCol w="852480"/>
                <a:gridCol w="854280"/>
                <a:gridCol w="852480"/>
                <a:gridCol w="853920"/>
                <a:gridCol w="853920"/>
                <a:gridCol w="852480"/>
                <a:gridCol w="854280"/>
                <a:gridCol w="852480"/>
                <a:gridCol w="853920"/>
              </a:tblGrid>
              <a:tr h="312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Low delay B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0.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Malgun Gothic"/>
                        </a:rPr>
                        <a:t>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-0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T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T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San Jose,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e harmonization of NSQT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 with same number of coefficients use sam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ity 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al of the neighborhood computation for 16×4/4×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ghtly worse BD-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12C5-0DCE-49B3-A77A-59036EA69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San Jose,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84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3F34-5F23-4882-B033-AD32BAFE7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San Jose,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8:38Z</dcterms:created>
  <dc:creator>Rajan Joshi</dc:creator>
  <dc:description/>
  <dc:language>en-US</dc:language>
  <cp:lastModifiedBy>Qualcomm User</cp:lastModifiedBy>
  <dcterms:modified xsi:type="dcterms:W3CDTF">2012-02-02T02:37:01Z</dcterms:modified>
  <cp:revision>196</cp:revision>
  <dc:subject/>
  <dc:title>Simplified Transforms for Extended Block Sizes</dc:title>
</cp:coreProperties>
</file>