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BA5E75-162D-49A0-9AFA-7EBEE44F05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21880" y="188640"/>
            <a:ext cx="6978600" cy="72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0000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22240" y="1224000"/>
            <a:ext cx="7958160" cy="2535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822240" y="4001040"/>
            <a:ext cx="7958160" cy="2535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99348D-DE53-4711-97DD-CB5B0C8D9A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21880" y="188640"/>
            <a:ext cx="6978600" cy="72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0000"/>
              </a:solidFill>
              <a:latin typeface="Arial Narrow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22240" y="1224000"/>
            <a:ext cx="3883320" cy="2535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9960" y="1224000"/>
            <a:ext cx="3883320" cy="2535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22240" y="4001040"/>
            <a:ext cx="3883320" cy="2535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899960" y="4001040"/>
            <a:ext cx="3883320" cy="2535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B787A8-2164-4913-A70C-6DAE9020B7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21880" y="188640"/>
            <a:ext cx="6978600" cy="72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0000"/>
              </a:solidFill>
              <a:latin typeface="Arial Narrow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22240" y="1224000"/>
            <a:ext cx="2562120" cy="2535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512880" y="1224000"/>
            <a:ext cx="2562120" cy="2535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03520" y="1224000"/>
            <a:ext cx="2562120" cy="2535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822240" y="4001040"/>
            <a:ext cx="2562120" cy="2535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512880" y="4001040"/>
            <a:ext cx="2562120" cy="2535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03520" y="4001040"/>
            <a:ext cx="2562120" cy="2535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D2BE96-4909-4A77-8AD1-435C3B7C3E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04E29F-6B5B-4419-AF87-4D4A4206C76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21880" y="188640"/>
            <a:ext cx="6978600" cy="72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0000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822240" y="1224000"/>
            <a:ext cx="7958160" cy="53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561590-7A28-472F-B17D-EDFA12C3AD5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21880" y="188640"/>
            <a:ext cx="6978600" cy="72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0000"/>
              </a:solidFill>
              <a:latin typeface="Arial Narrow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822240" y="1224000"/>
            <a:ext cx="7958160" cy="53164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EB68A6-A3B0-446B-BF2F-DB152152201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21880" y="188640"/>
            <a:ext cx="6978600" cy="72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0000"/>
              </a:solidFill>
              <a:latin typeface="Arial Narrow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22240" y="1224000"/>
            <a:ext cx="3883320" cy="53164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99960" y="1224000"/>
            <a:ext cx="3883320" cy="53164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A02132-60FB-4D2D-BEB2-E1BCE6DE3CC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21880" y="188640"/>
            <a:ext cx="6978600" cy="72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E51CE7-C9AE-4462-A7FA-9AAB3A2D449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821880" y="188640"/>
            <a:ext cx="6978600" cy="33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32D171-7A91-4A5F-8352-782B14E6E56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21880" y="188640"/>
            <a:ext cx="6978600" cy="72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0000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22240" y="1224000"/>
            <a:ext cx="3883320" cy="2535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99960" y="1224000"/>
            <a:ext cx="3883320" cy="53164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822240" y="4001040"/>
            <a:ext cx="3883320" cy="2535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DCB282-C5DC-4A92-A1BA-7F68771D131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821880" y="188640"/>
            <a:ext cx="6978600" cy="72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822240" y="1224000"/>
            <a:ext cx="7958160" cy="53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9080FB-569D-4287-87D8-375E5C52FD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21880" y="188640"/>
            <a:ext cx="6978600" cy="72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0000"/>
              </a:solidFill>
              <a:latin typeface="Arial Narrow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22240" y="1224000"/>
            <a:ext cx="3883320" cy="53164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9960" y="1224000"/>
            <a:ext cx="3883320" cy="2535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99960" y="4001040"/>
            <a:ext cx="3883320" cy="2535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A15772-1AF9-4A7F-B954-9A0A46A983C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21880" y="188640"/>
            <a:ext cx="6978600" cy="72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0000"/>
              </a:solidFill>
              <a:latin typeface="Arial Narrow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22240" y="1224000"/>
            <a:ext cx="3883320" cy="2535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99960" y="1224000"/>
            <a:ext cx="3883320" cy="2535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822240" y="4001040"/>
            <a:ext cx="7958160" cy="2535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789731-FC58-4E68-A900-197895102B2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21880" y="188640"/>
            <a:ext cx="6978600" cy="72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0000"/>
              </a:solidFill>
              <a:latin typeface="Arial Narrow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22240" y="1224000"/>
            <a:ext cx="7958160" cy="2535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822240" y="4001040"/>
            <a:ext cx="7958160" cy="2535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219816-CF6C-439F-BFA7-EA9C267A2D2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21880" y="188640"/>
            <a:ext cx="6978600" cy="72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0000"/>
              </a:solidFill>
              <a:latin typeface="Arial Narrow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22240" y="1224000"/>
            <a:ext cx="3883320" cy="2535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9960" y="1224000"/>
            <a:ext cx="3883320" cy="2535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22240" y="4001040"/>
            <a:ext cx="3883320" cy="2535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99960" y="4001040"/>
            <a:ext cx="3883320" cy="2535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A2720C-26EC-4685-81AD-D629E62862C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21880" y="188640"/>
            <a:ext cx="6978600" cy="72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0000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22240" y="1224000"/>
            <a:ext cx="2562120" cy="2535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512880" y="1224000"/>
            <a:ext cx="2562120" cy="2535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03520" y="1224000"/>
            <a:ext cx="2562120" cy="2535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822240" y="4001040"/>
            <a:ext cx="2562120" cy="2535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512880" y="4001040"/>
            <a:ext cx="2562120" cy="2535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03520" y="4001040"/>
            <a:ext cx="2562120" cy="2535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F52567-7DE2-4A9E-9A7D-934950F279B2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4203A-DCC2-452B-8288-5D175C384F5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21880" y="188640"/>
            <a:ext cx="6978600" cy="72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822240" y="1224000"/>
            <a:ext cx="7958160" cy="53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C1EA7-7DC4-4301-AABE-35EAAA2ECDC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21880" y="188640"/>
            <a:ext cx="6978600" cy="72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22240" y="1224000"/>
            <a:ext cx="7958160" cy="53164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667C4-E55C-4372-999C-4387D4E178D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21880" y="188640"/>
            <a:ext cx="6978600" cy="72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22240" y="1224000"/>
            <a:ext cx="3883320" cy="53164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899960" y="1224000"/>
            <a:ext cx="3883320" cy="53164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00BB6-41F4-4285-B014-69B9721EE27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21880" y="188640"/>
            <a:ext cx="6978600" cy="72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51A9B-57D6-4C0E-9075-60811BD825B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21880" y="188640"/>
            <a:ext cx="6978600" cy="72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822240" y="1224000"/>
            <a:ext cx="7958160" cy="53164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F5FC37-2E7C-4E83-9361-1FEADF5FE26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821880" y="188640"/>
            <a:ext cx="6978600" cy="33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C4D88-7930-42CB-AB0D-3C4C4397B12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21880" y="188640"/>
            <a:ext cx="6978600" cy="72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0000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22240" y="1224000"/>
            <a:ext cx="3883320" cy="2535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899960" y="1224000"/>
            <a:ext cx="3883320" cy="53164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822240" y="4001040"/>
            <a:ext cx="3883320" cy="2535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B3C57-5238-411A-884F-856A9AD7EF0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1880" y="188640"/>
            <a:ext cx="6978600" cy="72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0000"/>
              </a:solidFill>
              <a:latin typeface="Arial Narrow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22240" y="1224000"/>
            <a:ext cx="3883320" cy="53164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99960" y="1224000"/>
            <a:ext cx="3883320" cy="2535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899960" y="4001040"/>
            <a:ext cx="3883320" cy="2535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1FCF8-609D-4314-8070-3D0BC6950F4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21880" y="188640"/>
            <a:ext cx="6978600" cy="72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0000"/>
              </a:solidFill>
              <a:latin typeface="Arial Narrow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22240" y="1224000"/>
            <a:ext cx="3883320" cy="2535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899960" y="1224000"/>
            <a:ext cx="3883320" cy="2535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822240" y="4001040"/>
            <a:ext cx="7958160" cy="2535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DCA69-4A80-43F3-A89C-2CEFE75D03C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21880" y="188640"/>
            <a:ext cx="6978600" cy="72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0000"/>
              </a:solidFill>
              <a:latin typeface="Arial Narrow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22240" y="1224000"/>
            <a:ext cx="7958160" cy="2535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822240" y="4001040"/>
            <a:ext cx="7958160" cy="2535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0F539-CB33-4E29-8859-44DB5D8833B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21880" y="188640"/>
            <a:ext cx="6978600" cy="72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22240" y="1224000"/>
            <a:ext cx="3883320" cy="2535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99960" y="1224000"/>
            <a:ext cx="3883320" cy="2535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822240" y="4001040"/>
            <a:ext cx="3883320" cy="2535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899960" y="4001040"/>
            <a:ext cx="3883320" cy="2535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4E77E-3584-41F9-9F13-AB76B1DA648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21880" y="188640"/>
            <a:ext cx="6978600" cy="72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0000"/>
              </a:solidFill>
              <a:latin typeface="Arial Narrow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22240" y="1224000"/>
            <a:ext cx="2562120" cy="2535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12880" y="1224000"/>
            <a:ext cx="2562120" cy="2535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203520" y="1224000"/>
            <a:ext cx="2562120" cy="2535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822240" y="4001040"/>
            <a:ext cx="2562120" cy="2535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12880" y="4001040"/>
            <a:ext cx="2562120" cy="2535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203520" y="4001040"/>
            <a:ext cx="2562120" cy="2535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CA1C6-010A-49E2-8850-97A994259B5F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FC1855-608A-44B0-AA77-5E2EE247521F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21880" y="188640"/>
            <a:ext cx="6978600" cy="72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822240" y="1224000"/>
            <a:ext cx="7958160" cy="53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F6BD94-6E5E-4971-8487-23C9A6A4878F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21880" y="188640"/>
            <a:ext cx="6978600" cy="72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22240" y="1224000"/>
            <a:ext cx="7958160" cy="53164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402C22-A2DD-49E6-84CE-DA53341CBD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21880" y="188640"/>
            <a:ext cx="6978600" cy="72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0000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22240" y="1224000"/>
            <a:ext cx="3883320" cy="53164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899960" y="1224000"/>
            <a:ext cx="3883320" cy="53164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75F14B-F53D-4279-901F-BB052D012F16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21880" y="188640"/>
            <a:ext cx="6978600" cy="72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22240" y="1224000"/>
            <a:ext cx="3883320" cy="53164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899960" y="1224000"/>
            <a:ext cx="3883320" cy="53164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E056AF-1EA7-4AA1-BFAD-65587AE9E571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21880" y="188640"/>
            <a:ext cx="6978600" cy="72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89ED1B-B9FD-4DB2-9900-9CC4F87AB745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821880" y="188640"/>
            <a:ext cx="6978600" cy="33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4460C2-6F06-45E4-ACEC-79CCA38BC1B5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21880" y="188640"/>
            <a:ext cx="6978600" cy="72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0000"/>
              </a:solidFill>
              <a:latin typeface="Arial Narrow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22240" y="1224000"/>
            <a:ext cx="3883320" cy="2535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899960" y="1224000"/>
            <a:ext cx="3883320" cy="53164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822240" y="4001040"/>
            <a:ext cx="3883320" cy="2535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FD9B5F-D81C-4482-B780-A03C8C26F2DD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21880" y="188640"/>
            <a:ext cx="6978600" cy="72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0000"/>
              </a:solidFill>
              <a:latin typeface="Arial Narrow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22240" y="1224000"/>
            <a:ext cx="3883320" cy="53164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9960" y="1224000"/>
            <a:ext cx="3883320" cy="2535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899960" y="4001040"/>
            <a:ext cx="3883320" cy="2535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4DFA85-2C1A-40E3-A4D9-4BFAA9A25DC8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21880" y="188640"/>
            <a:ext cx="6978600" cy="72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0000"/>
              </a:solidFill>
              <a:latin typeface="Arial Narrow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22240" y="1224000"/>
            <a:ext cx="3883320" cy="2535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9960" y="1224000"/>
            <a:ext cx="3883320" cy="2535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822240" y="4001040"/>
            <a:ext cx="7958160" cy="2535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CEF13B-3E56-440F-B8A0-077502B84317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21880" y="188640"/>
            <a:ext cx="6978600" cy="72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0000"/>
              </a:solidFill>
              <a:latin typeface="Arial Narrow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22240" y="1224000"/>
            <a:ext cx="7958160" cy="2535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822240" y="4001040"/>
            <a:ext cx="7958160" cy="2535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02EA1A-85EB-46C0-9FCE-955895300994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21880" y="188640"/>
            <a:ext cx="6978600" cy="72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0000"/>
              </a:solidFill>
              <a:latin typeface="Arial Narrow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822240" y="1224000"/>
            <a:ext cx="3883320" cy="2535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9960" y="1224000"/>
            <a:ext cx="3883320" cy="2535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822240" y="4001040"/>
            <a:ext cx="3883320" cy="2535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899960" y="4001040"/>
            <a:ext cx="3883320" cy="2535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D77D8B-71F6-49E8-8C64-11F7E0733423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21880" y="188640"/>
            <a:ext cx="6978600" cy="72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0000"/>
              </a:solidFill>
              <a:latin typeface="Arial Narrow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2240" y="1224000"/>
            <a:ext cx="2562120" cy="2535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512880" y="1224000"/>
            <a:ext cx="2562120" cy="2535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203520" y="1224000"/>
            <a:ext cx="2562120" cy="2535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822240" y="4001040"/>
            <a:ext cx="2562120" cy="2535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512880" y="4001040"/>
            <a:ext cx="2562120" cy="2535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203520" y="4001040"/>
            <a:ext cx="2562120" cy="2535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71BBF3-8F5A-4A79-9F67-2E3D9A014A30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598E5C8-44D6-4CAC-903D-703CD5179F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21880" y="188640"/>
            <a:ext cx="6978600" cy="72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F30242-0C64-4825-8336-DFF380074817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21880" y="188640"/>
            <a:ext cx="6978600" cy="72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0000"/>
              </a:solidFill>
              <a:latin typeface="Arial Narrow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822240" y="1224000"/>
            <a:ext cx="7958160" cy="53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4C162C0-8AFB-418A-9BA3-3EA14427531E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21880" y="188640"/>
            <a:ext cx="6978600" cy="72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0000"/>
              </a:solidFill>
              <a:latin typeface="Arial Narrow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22240" y="1224000"/>
            <a:ext cx="7958160" cy="53164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212D92A-0BC6-4C5D-B4D6-E458C0B93C77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21880" y="188640"/>
            <a:ext cx="6978600" cy="72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0000"/>
              </a:solidFill>
              <a:latin typeface="Arial Narrow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22240" y="1224000"/>
            <a:ext cx="3883320" cy="53164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899960" y="1224000"/>
            <a:ext cx="3883320" cy="53164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F8192F5-B227-4C9B-901C-4FCB3C2064A0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21880" y="188640"/>
            <a:ext cx="6978600" cy="72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659F2F1-284D-4850-96CC-6FC95BA006ED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821880" y="188640"/>
            <a:ext cx="6978600" cy="33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81A4778-90BE-4086-8160-957DA859ACED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21880" y="188640"/>
            <a:ext cx="6978600" cy="72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0000"/>
              </a:solidFill>
              <a:latin typeface="Arial Narrow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22240" y="1224000"/>
            <a:ext cx="3883320" cy="2535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9960" y="1224000"/>
            <a:ext cx="3883320" cy="53164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822240" y="4001040"/>
            <a:ext cx="3883320" cy="2535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D610F73-A062-4600-AD15-7DB6DC0DA7F8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21880" y="188640"/>
            <a:ext cx="6978600" cy="72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0000"/>
              </a:solidFill>
              <a:latin typeface="Arial Narrow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22240" y="1224000"/>
            <a:ext cx="3883320" cy="53164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899960" y="1224000"/>
            <a:ext cx="3883320" cy="2535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899960" y="4001040"/>
            <a:ext cx="3883320" cy="2535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32D44FB-61AD-4598-9BA1-A02952195D8C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21880" y="188640"/>
            <a:ext cx="6978600" cy="72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0000"/>
              </a:solidFill>
              <a:latin typeface="Arial Narrow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22240" y="1224000"/>
            <a:ext cx="3883320" cy="2535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899960" y="1224000"/>
            <a:ext cx="3883320" cy="2535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22240" y="4001040"/>
            <a:ext cx="7958160" cy="2535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CB0DE4F-58AE-4106-AAF5-50FD011F01B9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21880" y="188640"/>
            <a:ext cx="6978600" cy="72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0000"/>
              </a:solidFill>
              <a:latin typeface="Arial Narrow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22240" y="1224000"/>
            <a:ext cx="7958160" cy="2535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822240" y="4001040"/>
            <a:ext cx="7958160" cy="2535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F22FF8D-2872-4F71-B4CE-56944B756812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21880" y="188640"/>
            <a:ext cx="6978600" cy="72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0000"/>
              </a:solidFill>
              <a:latin typeface="Arial Narrow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22240" y="1224000"/>
            <a:ext cx="3883320" cy="2535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899960" y="1224000"/>
            <a:ext cx="3883320" cy="2535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822240" y="4001040"/>
            <a:ext cx="3883320" cy="2535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899960" y="4001040"/>
            <a:ext cx="3883320" cy="2535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4236EE4-9C30-40E0-B99B-C78B36B7DC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821880" y="188640"/>
            <a:ext cx="6978600" cy="33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AD52F7-597A-4C7A-A30F-A912D11A4AB4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21880" y="188640"/>
            <a:ext cx="6978600" cy="72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0000"/>
              </a:solidFill>
              <a:latin typeface="Arial Narrow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22240" y="1224000"/>
            <a:ext cx="2562120" cy="2535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512880" y="1224000"/>
            <a:ext cx="2562120" cy="2535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203520" y="1224000"/>
            <a:ext cx="2562120" cy="2535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822240" y="4001040"/>
            <a:ext cx="2562120" cy="2535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512880" y="4001040"/>
            <a:ext cx="2562120" cy="2535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203520" y="4001040"/>
            <a:ext cx="2562120" cy="2535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07B3B15-98E7-409C-8F26-C823DFFB6E40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342A2C0-E704-4B2D-A508-E204EC30D812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21880" y="188640"/>
            <a:ext cx="6978600" cy="72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0000"/>
              </a:solidFill>
              <a:latin typeface="Arial Narrow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822240" y="1224000"/>
            <a:ext cx="7958160" cy="53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D3A3F3A-1D69-43D7-9473-2A88EF5EB436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21880" y="188640"/>
            <a:ext cx="6978600" cy="72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0000"/>
              </a:solidFill>
              <a:latin typeface="Arial Narrow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822240" y="1224000"/>
            <a:ext cx="7958160" cy="53164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7F9FBBC-5BD1-4637-807F-3B23564A6C46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21880" y="188640"/>
            <a:ext cx="6978600" cy="72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0000"/>
              </a:solidFill>
              <a:latin typeface="Arial Narrow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22240" y="1224000"/>
            <a:ext cx="3883320" cy="53164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899960" y="1224000"/>
            <a:ext cx="3883320" cy="53164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1862396-A572-44DD-918A-3A438745673B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21880" y="188640"/>
            <a:ext cx="6978600" cy="72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8A7500-EA00-4CA8-9525-B7A94276CB21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821880" y="188640"/>
            <a:ext cx="6978600" cy="33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9A958C1-F309-439A-AEE9-2768390F1BED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21880" y="188640"/>
            <a:ext cx="6978600" cy="72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0000"/>
              </a:solidFill>
              <a:latin typeface="Arial Narrow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22240" y="1224000"/>
            <a:ext cx="3883320" cy="2535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899960" y="1224000"/>
            <a:ext cx="3883320" cy="53164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22240" y="4001040"/>
            <a:ext cx="3883320" cy="2535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4036EEE-D246-4C2C-828B-8EF1D4B4A745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21880" y="188640"/>
            <a:ext cx="6978600" cy="72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0000"/>
              </a:solidFill>
              <a:latin typeface="Arial Narrow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22240" y="1224000"/>
            <a:ext cx="3883320" cy="53164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899960" y="1224000"/>
            <a:ext cx="3883320" cy="2535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899960" y="4001040"/>
            <a:ext cx="3883320" cy="2535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F39A0E4-0477-4E2E-8D9A-36FAEE6C08C3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21880" y="188640"/>
            <a:ext cx="6978600" cy="72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0000"/>
              </a:solidFill>
              <a:latin typeface="Arial Narrow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822240" y="1224000"/>
            <a:ext cx="3883320" cy="2535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899960" y="1224000"/>
            <a:ext cx="3883320" cy="2535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822240" y="4001040"/>
            <a:ext cx="7958160" cy="2535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94A8D9D-7766-4B2E-AD6B-0F533FF6BB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21880" y="188640"/>
            <a:ext cx="6978600" cy="72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0000"/>
              </a:solidFill>
              <a:latin typeface="Arial Narrow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22240" y="1224000"/>
            <a:ext cx="3883320" cy="2535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99960" y="1224000"/>
            <a:ext cx="3883320" cy="53164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822240" y="4001040"/>
            <a:ext cx="3883320" cy="2535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F98686-2648-4866-AA93-91EF7B483FCA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21880" y="188640"/>
            <a:ext cx="6978600" cy="72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0000"/>
              </a:solidFill>
              <a:latin typeface="Arial Narrow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22240" y="1224000"/>
            <a:ext cx="7958160" cy="2535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822240" y="4001040"/>
            <a:ext cx="7958160" cy="2535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064324C-A856-46D6-962A-C13FBD61263C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21880" y="188640"/>
            <a:ext cx="6978600" cy="72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0000"/>
              </a:solidFill>
              <a:latin typeface="Arial Narrow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822240" y="1224000"/>
            <a:ext cx="3883320" cy="2535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899960" y="1224000"/>
            <a:ext cx="3883320" cy="2535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822240" y="4001040"/>
            <a:ext cx="3883320" cy="2535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899960" y="4001040"/>
            <a:ext cx="3883320" cy="2535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C6435BD-0868-4652-A266-948C584C7EEB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21880" y="188640"/>
            <a:ext cx="6978600" cy="72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0000"/>
              </a:solidFill>
              <a:latin typeface="Arial Narrow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822240" y="1224000"/>
            <a:ext cx="2562120" cy="2535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512880" y="1224000"/>
            <a:ext cx="2562120" cy="2535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203520" y="1224000"/>
            <a:ext cx="2562120" cy="2535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822240" y="4001040"/>
            <a:ext cx="2562120" cy="2535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512880" y="4001040"/>
            <a:ext cx="2562120" cy="2535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6203520" y="4001040"/>
            <a:ext cx="2562120" cy="2535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FD36CA3-3A5C-4A39-B24B-7C50230D5591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21880" y="188640"/>
            <a:ext cx="6978600" cy="72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0000"/>
              </a:solidFill>
              <a:latin typeface="Arial Narrow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822240" y="1224000"/>
            <a:ext cx="7958160" cy="53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21880" y="188640"/>
            <a:ext cx="6978600" cy="72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0000"/>
              </a:solidFill>
              <a:latin typeface="Arial Narrow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22240" y="1224000"/>
            <a:ext cx="7958160" cy="53164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21880" y="188640"/>
            <a:ext cx="6978600" cy="72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0000"/>
              </a:solidFill>
              <a:latin typeface="Arial Narrow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22240" y="1224000"/>
            <a:ext cx="3883320" cy="53164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899960" y="1224000"/>
            <a:ext cx="3883320" cy="53164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21880" y="188640"/>
            <a:ext cx="6978600" cy="72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821880" y="188640"/>
            <a:ext cx="6978600" cy="33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21880" y="188640"/>
            <a:ext cx="6978600" cy="72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0000"/>
              </a:solidFill>
              <a:latin typeface="Arial Narrow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822240" y="1224000"/>
            <a:ext cx="3883320" cy="2535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899960" y="1224000"/>
            <a:ext cx="3883320" cy="53164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822240" y="4001040"/>
            <a:ext cx="3883320" cy="2535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21880" y="188640"/>
            <a:ext cx="6978600" cy="72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0000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22240" y="1224000"/>
            <a:ext cx="3883320" cy="53164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99960" y="1224000"/>
            <a:ext cx="3883320" cy="2535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899960" y="4001040"/>
            <a:ext cx="3883320" cy="2535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399A4A-2F67-463D-BB37-606511C19144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21880" y="188640"/>
            <a:ext cx="6978600" cy="72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0000"/>
              </a:solidFill>
              <a:latin typeface="Arial Narrow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822240" y="1224000"/>
            <a:ext cx="3883320" cy="53164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899960" y="1224000"/>
            <a:ext cx="3883320" cy="2535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899960" y="4001040"/>
            <a:ext cx="3883320" cy="2535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21880" y="188640"/>
            <a:ext cx="6978600" cy="72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0000"/>
              </a:solidFill>
              <a:latin typeface="Arial Narrow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822240" y="1224000"/>
            <a:ext cx="3883320" cy="2535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899960" y="1224000"/>
            <a:ext cx="3883320" cy="2535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822240" y="4001040"/>
            <a:ext cx="7958160" cy="2535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21880" y="188640"/>
            <a:ext cx="6978600" cy="72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0000"/>
              </a:solidFill>
              <a:latin typeface="Arial Narrow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822240" y="1224000"/>
            <a:ext cx="7958160" cy="2535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822240" y="4001040"/>
            <a:ext cx="7958160" cy="2535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21880" y="188640"/>
            <a:ext cx="6978600" cy="72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0000"/>
              </a:solidFill>
              <a:latin typeface="Arial Narrow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822240" y="1224000"/>
            <a:ext cx="3883320" cy="2535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899960" y="1224000"/>
            <a:ext cx="3883320" cy="2535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822240" y="4001040"/>
            <a:ext cx="3883320" cy="2535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899960" y="4001040"/>
            <a:ext cx="3883320" cy="2535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21880" y="188640"/>
            <a:ext cx="6978600" cy="72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0000"/>
              </a:solidFill>
              <a:latin typeface="Arial Narrow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822240" y="1224000"/>
            <a:ext cx="2562120" cy="2535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512880" y="1224000"/>
            <a:ext cx="2562120" cy="2535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203520" y="1224000"/>
            <a:ext cx="2562120" cy="2535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822240" y="4001040"/>
            <a:ext cx="2562120" cy="2535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512880" y="4001040"/>
            <a:ext cx="2562120" cy="2535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203520" y="4001040"/>
            <a:ext cx="2562120" cy="2535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21880" y="188640"/>
            <a:ext cx="6978600" cy="72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0000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22240" y="1224000"/>
            <a:ext cx="3883320" cy="2535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99960" y="1224000"/>
            <a:ext cx="3883320" cy="2535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22240" y="4001040"/>
            <a:ext cx="7958160" cy="2535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3657EA-85D4-4465-8F88-9BA789398A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520" y="1218960"/>
            <a:ext cx="8318520" cy="52578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marL="235080" indent="-235080">
              <a:spcBef>
                <a:spcPts val="601"/>
              </a:spcBef>
              <a:buClr>
                <a:srgbClr val="ff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92280" indent="-235080">
              <a:spcBef>
                <a:spcPts val="601"/>
              </a:spcBef>
              <a:buClr>
                <a:srgbClr val="ff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149480" indent="-235080">
              <a:spcBef>
                <a:spcPts val="601"/>
              </a:spcBef>
              <a:buClr>
                <a:srgbClr val="ff0000"/>
              </a:buClr>
              <a:buSzPct val="12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" name="Rectangle 11"/>
          <p:cNvSpPr/>
          <p:nvPr/>
        </p:nvSpPr>
        <p:spPr>
          <a:xfrm>
            <a:off x="3048120" y="6540480"/>
            <a:ext cx="3047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ROADCOM PROPRIETARY &amp; CONFIDENTI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8000640" y="6640560"/>
            <a:ext cx="121932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4D47C-CC2A-45D3-9D83-C0619D45E66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380520" y="1218960"/>
            <a:ext cx="8318520" cy="52578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marL="235080" indent="-235080">
              <a:spcBef>
                <a:spcPts val="601"/>
              </a:spcBef>
              <a:buClr>
                <a:srgbClr val="ff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92280" indent="-235080">
              <a:spcBef>
                <a:spcPts val="601"/>
              </a:spcBef>
              <a:buClr>
                <a:srgbClr val="ff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149480" indent="-235080">
              <a:spcBef>
                <a:spcPts val="601"/>
              </a:spcBef>
              <a:buClr>
                <a:srgbClr val="ff0000"/>
              </a:buClr>
              <a:buSzPct val="12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3048120" y="6540480"/>
            <a:ext cx="3047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BROADCOM PROPRIETARY &amp; CONFIDENTI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2"/>
          </p:nvPr>
        </p:nvSpPr>
        <p:spPr>
          <a:xfrm>
            <a:off x="8000640" y="6640560"/>
            <a:ext cx="121932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4FB2B-3EAE-4EF3-9F22-0215398EDA96}" type="slidenum">
              <a:rPr b="0" lang="en-US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23762_2009_PPT_Header"/>
          <p:cNvPicPr/>
          <p:nvPr/>
        </p:nvPicPr>
        <p:blipFill>
          <a:blip r:embed="rId2"/>
          <a:stretch/>
        </p:blipFill>
        <p:spPr>
          <a:xfrm>
            <a:off x="0" y="0"/>
            <a:ext cx="9144000" cy="10303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3" descr="BRCM_Logo_CE"/>
          <p:cNvPicPr/>
          <p:nvPr/>
        </p:nvPicPr>
        <p:blipFill>
          <a:blip r:embed="rId3"/>
          <a:stretch/>
        </p:blipFill>
        <p:spPr>
          <a:xfrm>
            <a:off x="8013600" y="236520"/>
            <a:ext cx="914400" cy="6382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4" descr="23762_2009_PPT_Side"/>
          <p:cNvPicPr/>
          <p:nvPr/>
        </p:nvPicPr>
        <p:blipFill>
          <a:blip r:embed="rId4"/>
          <a:stretch/>
        </p:blipFill>
        <p:spPr>
          <a:xfrm>
            <a:off x="0" y="0"/>
            <a:ext cx="70164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ldNum" idx="3"/>
          </p:nvPr>
        </p:nvSpPr>
        <p:spPr>
          <a:xfrm>
            <a:off x="8916480" y="6696000"/>
            <a:ext cx="195480" cy="1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D3F44-D510-41E8-B4F9-C3E0D5003705}" type="slidenum">
              <a:rPr b="0" lang="en-US" sz="8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ftr" idx="4"/>
          </p:nvPr>
        </p:nvSpPr>
        <p:spPr>
          <a:xfrm>
            <a:off x="3050640" y="6726240"/>
            <a:ext cx="3040200" cy="18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roadcom Proprietary &amp; Confidential.  © 2009 Broadcom Corporation.  All rights reserved.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title"/>
          </p:nvPr>
        </p:nvSpPr>
        <p:spPr>
          <a:xfrm>
            <a:off x="821880" y="188640"/>
            <a:ext cx="6978600" cy="72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 Narrow"/>
              </a:rPr>
              <a:t>Click to edit the title text format</a:t>
            </a:r>
            <a:endParaRPr b="1" lang="en-US" sz="2800" spc="-1" strike="noStrike">
              <a:solidFill>
                <a:srgbClr val="990000"/>
              </a:solidFill>
              <a:latin typeface="Arial Narrow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822240" y="1224000"/>
            <a:ext cx="7958160" cy="53164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marL="235080" indent="-235080">
              <a:spcBef>
                <a:spcPts val="524"/>
              </a:spcBef>
              <a:buClr>
                <a:srgbClr val="99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  <a:p>
            <a:pPr lvl="1" marL="692280" indent="-235080">
              <a:spcBef>
                <a:spcPts val="524"/>
              </a:spcBef>
              <a:buClr>
                <a:srgbClr val="99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  <a:p>
            <a:pPr lvl="2" marL="1149480" indent="-235080">
              <a:spcBef>
                <a:spcPts val="524"/>
              </a:spcBef>
              <a:buClr>
                <a:srgbClr val="808080"/>
              </a:buClr>
              <a:buSzPct val="12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-228600">
              <a:spcBef>
                <a:spcPts val="524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WordArt 2"/>
          <p:cNvSpPr txBox="1"/>
          <p:nvPr/>
        </p:nvSpPr>
        <p:spPr>
          <a:xfrm rot="20611800">
            <a:off x="822240" y="3216240"/>
            <a:ext cx="8321760" cy="13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eaeaea"/>
                </a:solidFill>
                <a:latin typeface="Arial Black"/>
              </a:rPr>
              <a:t>BROADCOM PROPRIETARY AND CONFIDENTIAL</a:t>
            </a:r>
            <a:endParaRPr b="0" lang="en-US" sz="2400" spc="1" strike="noStrike">
              <a:ln w="0">
                <a:noFill/>
              </a:ln>
              <a:solidFill>
                <a:srgbClr val="eaeaea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eaeaea"/>
                </a:solidFill>
                <a:latin typeface="Arial Black"/>
              </a:rPr>
              <a:t>UNAUTHORIZED USE PROHIBITED</a:t>
            </a:r>
            <a:endParaRPr b="0" lang="en-US" sz="2400" spc="1" strike="noStrike">
              <a:ln w="0">
                <a:noFill/>
              </a:ln>
              <a:solidFill>
                <a:srgbClr val="eaeaea"/>
              </a:solidFill>
              <a:latin typeface="Arial Black"/>
              <a:ea typeface="Arial Black"/>
            </a:endParaRPr>
          </a:p>
        </p:txBody>
      </p:sp>
      <p:pic>
        <p:nvPicPr>
          <p:cNvPr id="124" name="Picture 3" descr="23762_2009_PPT_Header"/>
          <p:cNvPicPr/>
          <p:nvPr/>
        </p:nvPicPr>
        <p:blipFill>
          <a:blip r:embed="rId2"/>
          <a:stretch/>
        </p:blipFill>
        <p:spPr>
          <a:xfrm>
            <a:off x="0" y="0"/>
            <a:ext cx="9144000" cy="10303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4" descr="BRCM_Logo_CE"/>
          <p:cNvPicPr/>
          <p:nvPr/>
        </p:nvPicPr>
        <p:blipFill>
          <a:blip r:embed="rId3"/>
          <a:stretch/>
        </p:blipFill>
        <p:spPr>
          <a:xfrm>
            <a:off x="8013600" y="236520"/>
            <a:ext cx="914400" cy="6382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5" descr="23762_2009_PPT_Side"/>
          <p:cNvPicPr/>
          <p:nvPr/>
        </p:nvPicPr>
        <p:blipFill>
          <a:blip r:embed="rId4"/>
          <a:stretch/>
        </p:blipFill>
        <p:spPr>
          <a:xfrm>
            <a:off x="0" y="0"/>
            <a:ext cx="70164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sldNum" idx="5"/>
          </p:nvPr>
        </p:nvSpPr>
        <p:spPr>
          <a:xfrm>
            <a:off x="8916480" y="6696000"/>
            <a:ext cx="195480" cy="1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BB0E3-DDE0-4FB5-8BE3-7465C928538A}" type="slidenum">
              <a:rPr b="0" lang="en-US" sz="8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ftr" idx="6"/>
          </p:nvPr>
        </p:nvSpPr>
        <p:spPr>
          <a:xfrm>
            <a:off x="2549520" y="6726240"/>
            <a:ext cx="4083120" cy="18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roadcom Proprietary &amp; Confidential.  Unauthorized Use Prohibited.  © 2009 Broadcom Corporation.  All rights reserved.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title"/>
          </p:nvPr>
        </p:nvSpPr>
        <p:spPr>
          <a:xfrm>
            <a:off x="821880" y="188640"/>
            <a:ext cx="6978600" cy="72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 Narrow"/>
              </a:rPr>
              <a:t>Click to edit the title text format</a:t>
            </a:r>
            <a:endParaRPr b="1" lang="en-US" sz="2800" spc="-1" strike="noStrike">
              <a:solidFill>
                <a:srgbClr val="990000"/>
              </a:solidFill>
              <a:latin typeface="Arial Narrow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body"/>
          </p:nvPr>
        </p:nvSpPr>
        <p:spPr>
          <a:xfrm>
            <a:off x="822240" y="1224000"/>
            <a:ext cx="7958160" cy="53164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marL="235080" indent="-235080">
              <a:spcBef>
                <a:spcPts val="524"/>
              </a:spcBef>
              <a:buClr>
                <a:srgbClr val="99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  <a:p>
            <a:pPr lvl="1" marL="692280" indent="-235080">
              <a:spcBef>
                <a:spcPts val="524"/>
              </a:spcBef>
              <a:buClr>
                <a:srgbClr val="99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  <a:p>
            <a:pPr lvl="2" marL="1149480" indent="-235080">
              <a:spcBef>
                <a:spcPts val="524"/>
              </a:spcBef>
              <a:buClr>
                <a:srgbClr val="808080"/>
              </a:buClr>
              <a:buSzPct val="12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-228600">
              <a:spcBef>
                <a:spcPts val="524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048120" y="6540480"/>
            <a:ext cx="3047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ROADCOM PROPRIETARY &amp; CONFIDENTI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380520" y="1218960"/>
            <a:ext cx="8318520" cy="52578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marL="235080" indent="-235080">
              <a:spcBef>
                <a:spcPts val="601"/>
              </a:spcBef>
              <a:buClr>
                <a:srgbClr val="ff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92280" indent="-235080">
              <a:spcBef>
                <a:spcPts val="601"/>
              </a:spcBef>
              <a:buClr>
                <a:srgbClr val="ff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149480" indent="-235080">
              <a:spcBef>
                <a:spcPts val="601"/>
              </a:spcBef>
              <a:buClr>
                <a:srgbClr val="ff0000"/>
              </a:buClr>
              <a:buSzPct val="12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7"/>
          </p:nvPr>
        </p:nvSpPr>
        <p:spPr>
          <a:xfrm>
            <a:off x="8000640" y="6640560"/>
            <a:ext cx="121932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51D32-02F8-4ECB-9AF4-0E5860F198A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4"/>
          <p:cNvSpPr/>
          <p:nvPr/>
        </p:nvSpPr>
        <p:spPr>
          <a:xfrm>
            <a:off x="3048120" y="6540480"/>
            <a:ext cx="3047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BROADCOM PROPRIETARY &amp; CONFIDENTI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380520" y="1218960"/>
            <a:ext cx="8318520" cy="52578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marL="235080" indent="-235080">
              <a:spcBef>
                <a:spcPts val="601"/>
              </a:spcBef>
              <a:buClr>
                <a:srgbClr val="ff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92280" indent="-235080">
              <a:spcBef>
                <a:spcPts val="601"/>
              </a:spcBef>
              <a:buClr>
                <a:srgbClr val="ff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149480" indent="-235080">
              <a:spcBef>
                <a:spcPts val="601"/>
              </a:spcBef>
              <a:buClr>
                <a:srgbClr val="ff0000"/>
              </a:buClr>
              <a:buSzPct val="12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sldNum" idx="8"/>
          </p:nvPr>
        </p:nvSpPr>
        <p:spPr>
          <a:xfrm>
            <a:off x="8000640" y="6640560"/>
            <a:ext cx="121932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D237C-AC1F-4F8B-98D5-68B99AE64791}" type="slidenum">
              <a:rPr b="0" lang="en-US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Text Box 4"/>
          <p:cNvSpPr/>
          <p:nvPr/>
        </p:nvSpPr>
        <p:spPr>
          <a:xfrm>
            <a:off x="7153920" y="6426720"/>
            <a:ext cx="1629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www.broadcom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Freeform 5"/>
          <p:cNvSpPr/>
          <p:nvPr/>
        </p:nvSpPr>
        <p:spPr>
          <a:xfrm>
            <a:off x="1430280" y="6515280"/>
            <a:ext cx="7721640" cy="203040"/>
          </a:xfrm>
          <a:custGeom>
            <a:avLst/>
            <a:gdLst>
              <a:gd name="textAreaLeft" fmla="*/ 0 w 7721640"/>
              <a:gd name="textAreaRight" fmla="*/ 7722000 w 7721640"/>
              <a:gd name="textAreaTop" fmla="*/ 0 h 203040"/>
              <a:gd name="textAreaBottom" fmla="*/ 203400 h 203040"/>
            </a:gdLst>
            <a:ahLst/>
            <a:rect l="textAreaLeft" t="textAreaTop" r="textAreaRight" b="textAreaBottom"/>
            <a:pathLst>
              <a:path w="4864" h="128">
                <a:moveTo>
                  <a:pt x="4864" y="128"/>
                </a:moveTo>
                <a:lnTo>
                  <a:pt x="3396" y="128"/>
                </a:lnTo>
                <a:lnTo>
                  <a:pt x="3268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ffffff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21880" y="188640"/>
            <a:ext cx="6978600" cy="72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 Narrow"/>
              </a:rPr>
              <a:t>Click to edit the title text format</a:t>
            </a:r>
            <a:endParaRPr b="1" lang="en-US" sz="2800" spc="-1" strike="noStrike">
              <a:solidFill>
                <a:srgbClr val="990000"/>
              </a:solidFill>
              <a:latin typeface="Arial Narrow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822240" y="1224000"/>
            <a:ext cx="7958160" cy="53164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marL="235080" indent="-235080">
              <a:spcBef>
                <a:spcPts val="524"/>
              </a:spcBef>
              <a:buClr>
                <a:srgbClr val="99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  <a:p>
            <a:pPr lvl="1" marL="692280" indent="-235080">
              <a:spcBef>
                <a:spcPts val="524"/>
              </a:spcBef>
              <a:buClr>
                <a:srgbClr val="99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  <a:p>
            <a:pPr lvl="2" marL="1149480" indent="-235080">
              <a:spcBef>
                <a:spcPts val="524"/>
              </a:spcBef>
              <a:buClr>
                <a:srgbClr val="808080"/>
              </a:buClr>
              <a:buSzPct val="12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-228600">
              <a:spcBef>
                <a:spcPts val="524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ftr" idx="9"/>
          </p:nvPr>
        </p:nvSpPr>
        <p:spPr>
          <a:xfrm>
            <a:off x="3050640" y="6726240"/>
            <a:ext cx="3040200" cy="18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Times New Roman"/>
              </a:rPr>
              <a:t>Broadcom Proprietary &amp; Confidential.  © 2009 Broadcom Corporation.  All rights reserved.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ubTitle"/>
          </p:nvPr>
        </p:nvSpPr>
        <p:spPr>
          <a:xfrm>
            <a:off x="3290400" y="4292280"/>
            <a:ext cx="5389560" cy="789840"/>
          </a:xfrm>
          <a:prstGeom prst="rect">
            <a:avLst/>
          </a:prstGeom>
          <a:noFill/>
          <a:ln w="0">
            <a:noFill/>
          </a:ln>
        </p:spPr>
        <p:txBody>
          <a:bodyPr tIns="41400" bIns="41400" anchor="t">
            <a:noAutofit/>
          </a:bodyPr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 Narrow"/>
              </a:rPr>
              <a:t>Tim Hellman &amp; Wade Wan</a:t>
            </a: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 Narrow"/>
              </a:rPr>
              <a:t>Broadcom Corporation</a:t>
            </a: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title"/>
          </p:nvPr>
        </p:nvSpPr>
        <p:spPr>
          <a:xfrm>
            <a:off x="3290400" y="1749240"/>
            <a:ext cx="5389560" cy="170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H0441 - Motion Compensation Restrictions to Alleviate Memory Bandwidth Concerns for High Resolution Video</a:t>
            </a:r>
            <a:endParaRPr b="1" lang="en-US" sz="3200" spc="-1" strike="noStrike">
              <a:solidFill>
                <a:srgbClr val="990000"/>
              </a:solidFill>
              <a:latin typeface="Arial Narrow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21880" y="188640"/>
            <a:ext cx="6978600" cy="72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 Narrow"/>
              </a:rPr>
              <a:t>Motion Compensation Bandwidth</a:t>
            </a:r>
            <a:endParaRPr b="1" lang="en-US" sz="2800" spc="-1" strike="noStrike">
              <a:solidFill>
                <a:srgbClr val="990000"/>
              </a:solidFill>
              <a:latin typeface="Arial Narrow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822240" y="1224000"/>
            <a:ext cx="7958160" cy="53164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marL="235080" indent="-235080">
              <a:spcBef>
                <a:spcPts val="524"/>
              </a:spcBef>
              <a:buClr>
                <a:srgbClr val="99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</a:rPr>
              <a:t>HEVC MComp Bandwidth is much higher than AVC (Worst-case)</a:t>
            </a: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99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Larger filter for both Y &amp; UV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99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VC has a limit on Motion Vectors (for high level)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99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HEVC only limits 4x4 Prediction (presently)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99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HEVC worst case BW:  More than double AVC for same picture size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spcBef>
                <a:spcPts val="524"/>
              </a:spcBef>
              <a:buClr>
                <a:srgbClr val="99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</a:rPr>
              <a:t>4x8 and 8x4 are the culprits</a:t>
            </a: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99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Minimum DRAM burst size leads to lots of wasted bandwidth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spcBef>
                <a:spcPts val="524"/>
              </a:spcBef>
              <a:buClr>
                <a:srgbClr val="99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2" name="Slide Number Placeholder 3"/>
          <p:cNvSpPr/>
          <p:nvPr/>
        </p:nvSpPr>
        <p:spPr>
          <a:xfrm>
            <a:off x="8916840" y="6696000"/>
            <a:ext cx="1954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6CD67-DA7F-4EC1-986A-24CF33C37592}" type="slidenum">
              <a:rPr b="0" lang="en-US" sz="8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21880" y="188640"/>
            <a:ext cx="6978600" cy="72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 Narrow"/>
              </a:rPr>
              <a:t>Proposed Solution</a:t>
            </a:r>
            <a:endParaRPr b="1" lang="en-US" sz="2800" spc="-1" strike="noStrike">
              <a:solidFill>
                <a:srgbClr val="990000"/>
              </a:solidFill>
              <a:latin typeface="Arial Narrow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822240" y="1224000"/>
            <a:ext cx="7958160" cy="53164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marL="235080" indent="-235080">
              <a:spcBef>
                <a:spcPts val="524"/>
              </a:spcBef>
              <a:buClr>
                <a:srgbClr val="99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</a:rPr>
              <a:t>AVC Limit: 16 MVs per MBlock pair</a:t>
            </a: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99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omewhat awkward for encoder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99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Made more difficult by temporal reference (harder to control the limit)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99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Variable-sized CUs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spcBef>
                <a:spcPts val="524"/>
              </a:spcBef>
              <a:buClr>
                <a:srgbClr val="99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</a:rPr>
              <a:t>Proposed for HEVC: Uni-directional 4x8 &amp; 8x4</a:t>
            </a: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99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Limit only imposed at high levels (like AVC)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99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duces worst-case bandwidth to 20% more than AVC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99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egligible loss (0.2% Y, 0.2% UV) for Class A/B, per G392 (case C)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400"/>
              </a:spcBef>
              <a:buClr>
                <a:srgbClr val="808080"/>
              </a:buClr>
              <a:buSzPct val="120000"/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This is with no syntax change.  Could optimize syntax, as is done for 4x4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5" name="Slide Number Placeholder 3"/>
          <p:cNvSpPr/>
          <p:nvPr/>
        </p:nvSpPr>
        <p:spPr>
          <a:xfrm>
            <a:off x="8916840" y="6696000"/>
            <a:ext cx="1954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F47FB-9063-4753-B50E-1FA89047E23B}" type="slidenum">
              <a:rPr b="0" lang="en-US" sz="8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1T19:10:36Z</dcterms:created>
  <dc:creator>Reinhard Schumann</dc:creator>
  <dc:description/>
  <dc:language>en-US</dc:language>
  <cp:lastModifiedBy>Tim Hellman</cp:lastModifiedBy>
  <dcterms:modified xsi:type="dcterms:W3CDTF">2012-02-04T20:13:19Z</dcterms:modified>
  <cp:revision>278</cp:revision>
  <dc:subject/>
  <dc:title>Slide 1</dc:title>
</cp:coreProperties>
</file>