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ED57-3FAF-4130-9D0B-50275B5BC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6243-C3F1-40BD-AF8F-F009C4779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F4B0-F479-4C8D-B8D7-5691AE6ED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32D9-6FEF-4BCD-A80A-D8E14E232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BA8F-D552-40CD-BD52-0D983EAACD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AC623-A98F-4EEA-BD2A-2ADD72885C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4DAD-2116-4D8D-A2F3-E87AF47E74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EAD0-F119-4E5E-A2B4-B023A6DC5D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DAB3-4855-4E4E-A737-6D878AD71A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6AFC-A4CB-4317-B7F5-767DDDB053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8574-A0DC-422E-8179-F65E1BCCB9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7711-CC8E-4BBC-89A4-0DEBAACE5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14C2-FAA3-40CB-BC88-1B203FD71D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756E-44AC-4208-A1E5-73565532F3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A736-7A56-4D64-951F-E19949EEBD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957E-3B4A-4135-BAC9-104471458C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53D3B-4EE1-46BD-8268-CB5EFCE0A7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4F7-7BAC-4DB5-B80B-43921E6AE4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7E3-DF6D-4F57-BBCA-EC866BFEAB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F87-E364-4592-9D8F-3AC8DD2FD8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C6B-D08B-444B-86FD-3C464CE380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655-9F2E-44DB-B7F2-1045A76232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1065-EF6B-464E-9E78-ACA2F0DECC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7F4-12B7-4D0B-88F5-82BCC53D46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55B-D2EE-4DD8-9E58-C04A8A32F8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EB3-3820-471B-BD84-8F4D041388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94A-8F21-4771-A904-D3C8D5EF87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9F1-0D75-4BE5-843E-73744FC338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0DE-53B7-4DBF-B6DA-B4B056A44D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A55-D2A2-411A-B005-8A7A2823A7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C8B85-C8D8-4386-8D45-02BD754B65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7E84C-60E6-4819-86FD-8F878AC471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D058B-7DAB-4F3F-8A3C-9D79F3792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60AB-9B1F-46A9-8050-9702F5FB06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DE2F6-622D-4050-ADA6-09640308C0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0CFDD-B973-4866-8B29-4D0A42CE5F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C1379-A43C-4306-9A68-B1C3320E73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16E48-6EAE-46BF-A85B-6C98B7252A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88CFF-47A8-4D51-8D70-0198CED0FF2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DB0EE-3B1D-490A-B90D-89AE3A09BD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10BA4-EB89-4468-ADA0-B3566920DC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E23C8-59F4-469A-8982-4ABAA23645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7362A-1A01-40FF-A2A4-712FC1FCE66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66F57-EE59-4015-9E46-9D1A50C96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EF73-0308-4AE1-9E61-9113F194527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5B1A0-E603-4035-B7A5-13D70BBBB84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4AE4A-36FE-4E08-B200-CE583034901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E38A7-DDD5-4B2B-A4EB-BE2E81CDF92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D5F48-F83D-4D23-8B94-C8CF6E510BA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C062C-E544-4DD9-9A11-A6D8AB4B2C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D58E7-8ED1-4D30-806D-5F983C50A9A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26011-EB1C-4410-BB56-BBBDEA7350E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6BE9E-1F40-42D8-ADC3-273052E4353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71B44-A7D5-4B7A-ABC9-6F67AB764CA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3AE62-BDE5-4E72-81C8-9DD3EF04E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3A02-7A82-4E41-B41D-371960A2424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B7396-7ADB-4ADC-9FDB-998D1419F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D599-7AD1-413C-A013-3848B9904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1AD4-90BC-480C-B1FB-88A116B82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1C42-AC65-48B6-8358-8988965C2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620D-8132-43D5-90A3-C0E95FE729F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30FB-1D3B-4FD8-8C8F-BBD4F80BE6D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68400" algn="ctr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6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6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6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2082-1F80-4B17-8781-C156AEE8B49B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E1DC-0502-4BE1-8578-3BDDBC22F15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F235-43E6-432E-84B6-21ED7970796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720" y="1409760"/>
            <a:ext cx="84582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751"/>
              </a:spcBef>
              <a:spcAft>
                <a:spcPts val="4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JCTVC-H0438: Non-CE8</a:t>
            </a:r>
            <a:br>
              <a:rPr sz="32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굴림"/>
              </a:rPr>
              <a:t>New Chroma Band Offset (BO) Design in SAO</a:t>
            </a:r>
            <a:endParaRPr b="1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42720" y="3698640"/>
            <a:ext cx="84582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o-Shik Kim, Do-Kyoung Kw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In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ukinobu Yasugi, Tomohiro Ik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p Corporation, JAP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7E9A-DA9B-4ED7-B5F1-DA98146042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SAO Parameter Buffer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3360" y="1185840"/>
            <a:ext cx="847728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AO parameters are coded into adaptation parameter set (A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eed to be stored in a buffer until SAO processing is completed at a decoder 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uffer size is proportional to the number of partitions and SAO paramet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ed to consider the worst case to prepare enough size of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aximum number of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aximum size of SAO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CU 64x6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256 partitions in the wors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10bit video, 6 bits/offset x 16 offsets x 3 color components  = 288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otal buffer size = 10 Kbyte (256 x 288 = 9 Kbyte offset + additional infor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168640" y="3468600"/>
            <a:ext cx="4876200" cy="808200"/>
            <a:chOff x="2168640" y="3468600"/>
            <a:chExt cx="4876200" cy="808200"/>
          </a:xfrm>
        </p:grpSpPr>
        <p:sp>
          <p:nvSpPr>
            <p:cNvPr id="212" name=""/>
            <p:cNvSpPr/>
            <p:nvPr/>
          </p:nvSpPr>
          <p:spPr>
            <a:xfrm>
              <a:off x="2168640" y="3819600"/>
              <a:ext cx="1218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87600" y="3819600"/>
              <a:ext cx="24379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25880" y="3819600"/>
              <a:ext cx="1218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72120" y="34686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97680" y="34686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5560" y="34686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832400" y="4307040"/>
            <a:ext cx="54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urrent BO design: 2 band selection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6 offse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er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9B5C-CE1C-4678-8510-298D364DCC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constructed Pixel Statistic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structed Luma and Chroma statistics are quit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ed Luma pixels spread out whole dynamic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reconstructed Chroma pixels concentrate on middle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es that different BO designs are necessary for Luma and Ch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29240" y="3022560"/>
            <a:ext cx="4363560" cy="2463840"/>
            <a:chOff x="4629240" y="3022560"/>
            <a:chExt cx="4363560" cy="246384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4629240" y="3022560"/>
              <a:ext cx="218412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6804000" y="3024360"/>
              <a:ext cx="218376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4638600" y="4260960"/>
              <a:ext cx="218376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4"/>
            <a:stretch/>
          </p:blipFill>
          <p:spPr>
            <a:xfrm>
              <a:off x="6808680" y="4259160"/>
              <a:ext cx="2184120" cy="122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0" y="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676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87200" y="3030480"/>
            <a:ext cx="4362480" cy="2459160"/>
            <a:chOff x="187200" y="3030480"/>
            <a:chExt cx="4362480" cy="2459160"/>
          </a:xfrm>
        </p:grpSpPr>
        <p:pic>
          <p:nvPicPr>
            <p:cNvPr id="229" name="" descr=""/>
            <p:cNvPicPr/>
            <p:nvPr/>
          </p:nvPicPr>
          <p:blipFill>
            <a:blip r:embed="rId5"/>
            <a:stretch/>
          </p:blipFill>
          <p:spPr>
            <a:xfrm>
              <a:off x="187200" y="3032280"/>
              <a:ext cx="218448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6"/>
            <a:stretch/>
          </p:blipFill>
          <p:spPr>
            <a:xfrm>
              <a:off x="2359080" y="3030480"/>
              <a:ext cx="218448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7"/>
            <a:stretch/>
          </p:blipFill>
          <p:spPr>
            <a:xfrm>
              <a:off x="195120" y="4259160"/>
              <a:ext cx="2184480" cy="12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8"/>
            <a:stretch/>
          </p:blipFill>
          <p:spPr>
            <a:xfrm>
              <a:off x="2365200" y="4264200"/>
              <a:ext cx="2184480" cy="122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0" y="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7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680" y="5605560"/>
            <a:ext cx="44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Histograms of reconstructed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Lum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pixels in different BO typ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22680" y="5605560"/>
            <a:ext cx="460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Histograms of reconstructed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Chorm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pixels in different BO typ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BC3B-BF09-44C4-A80E-7E1E7DB753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ed Solu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4640" indent="-224640">
              <a:lnSpc>
                <a:spcPct val="90000"/>
              </a:lnSpc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4 bands an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8 offsets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ifferent BO designs for Luma and Chroam based on the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4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4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4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4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4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4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4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4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dvantages of the proposed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30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AO buffer size reduction by ha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45280" indent="-16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HM-5.0: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9.0 Kbyte = 256 x 6 x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x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45280" indent="-16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roposed: 4.5 Kbyte = 256 x 6 x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x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230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Overall bitrate reduction for Chr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209680" y="2057400"/>
            <a:ext cx="4914720" cy="831960"/>
            <a:chOff x="2209680" y="2057400"/>
            <a:chExt cx="4914720" cy="831960"/>
          </a:xfrm>
        </p:grpSpPr>
        <p:grpSp>
          <p:nvGrpSpPr>
            <p:cNvPr id="240" name=""/>
            <p:cNvGrpSpPr/>
            <p:nvPr/>
          </p:nvGrpSpPr>
          <p:grpSpPr>
            <a:xfrm>
              <a:off x="2209680" y="2425680"/>
              <a:ext cx="1227240" cy="463680"/>
              <a:chOff x="2209680" y="2425680"/>
              <a:chExt cx="1227240" cy="463680"/>
            </a:xfrm>
          </p:grpSpPr>
          <p:sp>
            <p:nvSpPr>
              <p:cNvPr id="241" name=""/>
              <p:cNvSpPr/>
              <p:nvPr/>
            </p:nvSpPr>
            <p:spPr>
              <a:xfrm>
                <a:off x="2209680" y="2425680"/>
                <a:ext cx="15228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61960" y="2425680"/>
                <a:ext cx="15264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16040" y="2425680"/>
                <a:ext cx="15228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70120" y="2425680"/>
                <a:ext cx="15228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823840" y="2425680"/>
                <a:ext cx="15264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977920" y="2425680"/>
                <a:ext cx="15264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30560" y="2425680"/>
                <a:ext cx="15228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84280" y="2425680"/>
                <a:ext cx="15264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3438360" y="2425680"/>
              <a:ext cx="1228680" cy="46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7040" y="2425680"/>
              <a:ext cx="1228680" cy="46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95720" y="2425680"/>
              <a:ext cx="1228680" cy="46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09680" y="2425680"/>
              <a:ext cx="1228680" cy="46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79320" y="2057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93960" y="2057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36680" y="2057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65360" y="2057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3438360" y="2425680"/>
              <a:ext cx="1227240" cy="463680"/>
              <a:chOff x="3438360" y="2425680"/>
              <a:chExt cx="1227240" cy="463680"/>
            </a:xfrm>
          </p:grpSpPr>
          <p:sp>
            <p:nvSpPr>
              <p:cNvPr id="258" name=""/>
              <p:cNvSpPr/>
              <p:nvPr/>
            </p:nvSpPr>
            <p:spPr>
              <a:xfrm>
                <a:off x="3438360" y="2425680"/>
                <a:ext cx="15228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90640" y="2425680"/>
                <a:ext cx="15264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744720" y="2425680"/>
                <a:ext cx="15228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98800" y="2425680"/>
                <a:ext cx="15228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052520" y="2425680"/>
                <a:ext cx="15264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206600" y="2425680"/>
                <a:ext cx="15264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59240" y="2425680"/>
                <a:ext cx="15228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12960" y="2425680"/>
                <a:ext cx="15264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667040" y="2425680"/>
              <a:ext cx="1227240" cy="463680"/>
              <a:chOff x="4667040" y="2425680"/>
              <a:chExt cx="1227240" cy="463680"/>
            </a:xfrm>
          </p:grpSpPr>
          <p:sp>
            <p:nvSpPr>
              <p:cNvPr id="267" name=""/>
              <p:cNvSpPr/>
              <p:nvPr/>
            </p:nvSpPr>
            <p:spPr>
              <a:xfrm>
                <a:off x="4667040" y="2425680"/>
                <a:ext cx="15228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819320" y="2425680"/>
                <a:ext cx="15264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973400" y="2425680"/>
                <a:ext cx="15228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27480" y="2425680"/>
                <a:ext cx="15228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81200" y="2425680"/>
                <a:ext cx="15264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435280" y="2425680"/>
                <a:ext cx="15264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87920" y="2425680"/>
                <a:ext cx="15228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741640" y="2425680"/>
                <a:ext cx="15264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895720" y="2425680"/>
              <a:ext cx="1227240" cy="463680"/>
              <a:chOff x="5895720" y="2425680"/>
              <a:chExt cx="1227240" cy="463680"/>
            </a:xfrm>
          </p:grpSpPr>
          <p:sp>
            <p:nvSpPr>
              <p:cNvPr id="276" name=""/>
              <p:cNvSpPr/>
              <p:nvPr/>
            </p:nvSpPr>
            <p:spPr>
              <a:xfrm>
                <a:off x="5895720" y="2425680"/>
                <a:ext cx="15228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048000" y="2425680"/>
                <a:ext cx="15264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02080" y="2425680"/>
                <a:ext cx="15228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356160" y="2425680"/>
                <a:ext cx="15228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09880" y="2425680"/>
                <a:ext cx="15264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663960" y="2425680"/>
                <a:ext cx="15264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16600" y="2425680"/>
                <a:ext cx="15228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70320" y="2425680"/>
                <a:ext cx="152640" cy="4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2209680" y="3403440"/>
            <a:ext cx="4915080" cy="765000"/>
            <a:chOff x="2209680" y="3403440"/>
            <a:chExt cx="4915080" cy="765000"/>
          </a:xfrm>
        </p:grpSpPr>
        <p:sp>
          <p:nvSpPr>
            <p:cNvPr id="285" name=""/>
            <p:cNvSpPr/>
            <p:nvPr/>
          </p:nvSpPr>
          <p:spPr>
            <a:xfrm>
              <a:off x="5895720" y="3698640"/>
              <a:ext cx="1229040" cy="46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87080" y="340344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38360" y="3698640"/>
              <a:ext cx="612720" cy="46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83000" y="3698640"/>
              <a:ext cx="612720" cy="46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09680" y="3698640"/>
              <a:ext cx="1228680" cy="46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63800" y="3698640"/>
              <a:ext cx="619200" cy="46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3429000" y="3705120"/>
              <a:ext cx="610920" cy="463320"/>
              <a:chOff x="3429000" y="3705120"/>
              <a:chExt cx="610920" cy="463320"/>
            </a:xfrm>
          </p:grpSpPr>
          <p:sp>
            <p:nvSpPr>
              <p:cNvPr id="292" name=""/>
              <p:cNvSpPr/>
              <p:nvPr/>
            </p:nvSpPr>
            <p:spPr>
              <a:xfrm>
                <a:off x="3429000" y="3705120"/>
                <a:ext cx="7560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504600" y="3705120"/>
                <a:ext cx="7596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581280" y="3705120"/>
                <a:ext cx="7560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960" y="3705120"/>
                <a:ext cx="7560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734640" y="3705120"/>
                <a:ext cx="7596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11320" y="3705120"/>
                <a:ext cx="7596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887280" y="3705120"/>
                <a:ext cx="7560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963960" y="3705120"/>
                <a:ext cx="7596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4051080" y="3698640"/>
              <a:ext cx="612720" cy="46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4038480" y="3705120"/>
              <a:ext cx="611280" cy="463320"/>
              <a:chOff x="4038480" y="3705120"/>
              <a:chExt cx="611280" cy="463320"/>
            </a:xfrm>
          </p:grpSpPr>
          <p:sp>
            <p:nvSpPr>
              <p:cNvPr id="302" name=""/>
              <p:cNvSpPr/>
              <p:nvPr/>
            </p:nvSpPr>
            <p:spPr>
              <a:xfrm>
                <a:off x="4038480" y="3705120"/>
                <a:ext cx="7560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114080" y="3705120"/>
                <a:ext cx="7596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91120" y="3705120"/>
                <a:ext cx="7560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7800" y="3705120"/>
                <a:ext cx="7560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44120" y="3705120"/>
                <a:ext cx="7596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421160" y="3705120"/>
                <a:ext cx="7596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497120" y="3705120"/>
                <a:ext cx="7560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573800" y="3705120"/>
                <a:ext cx="7596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667040" y="3705120"/>
              <a:ext cx="611280" cy="463320"/>
              <a:chOff x="4667040" y="3705120"/>
              <a:chExt cx="611280" cy="463320"/>
            </a:xfrm>
          </p:grpSpPr>
          <p:sp>
            <p:nvSpPr>
              <p:cNvPr id="311" name=""/>
              <p:cNvSpPr/>
              <p:nvPr/>
            </p:nvSpPr>
            <p:spPr>
              <a:xfrm>
                <a:off x="4667040" y="3705120"/>
                <a:ext cx="7560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42640" y="3705120"/>
                <a:ext cx="7596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19680" y="3705120"/>
                <a:ext cx="7560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96360" y="3705120"/>
                <a:ext cx="7560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72680" y="3705120"/>
                <a:ext cx="7596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49720" y="3705120"/>
                <a:ext cx="7596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25680" y="3705120"/>
                <a:ext cx="7560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02360" y="3705120"/>
                <a:ext cx="7596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289480" y="3705120"/>
              <a:ext cx="611280" cy="463320"/>
              <a:chOff x="5289480" y="3705120"/>
              <a:chExt cx="611280" cy="463320"/>
            </a:xfrm>
          </p:grpSpPr>
          <p:sp>
            <p:nvSpPr>
              <p:cNvPr id="320" name=""/>
              <p:cNvSpPr/>
              <p:nvPr/>
            </p:nvSpPr>
            <p:spPr>
              <a:xfrm>
                <a:off x="5289480" y="3705120"/>
                <a:ext cx="7560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65080" y="3705120"/>
                <a:ext cx="7596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42120" y="3705120"/>
                <a:ext cx="7560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518800" y="3705120"/>
                <a:ext cx="7560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95120" y="3705120"/>
                <a:ext cx="7596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672160" y="3705120"/>
                <a:ext cx="7596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748120" y="3705120"/>
                <a:ext cx="7560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24800" y="3705120"/>
                <a:ext cx="7596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4725360" y="340344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77600" y="340344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2880" y="340344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282840" y="2962440"/>
            <a:ext cx="26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Proposed BO design for Lu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149640" y="422928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Proposed BO design for Chr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CB19-05BD-4EAF-9429-2D844A1021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-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08520" y="1944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380960" y="1949400"/>
          <a:ext cx="6067440" cy="1930320"/>
        </p:xfrm>
        <a:graphic>
          <a:graphicData uri="http://schemas.openxmlformats.org/drawingml/2006/table">
            <a:tbl>
              <a:tblPr/>
              <a:tblGrid>
                <a:gridCol w="1212840"/>
                <a:gridCol w="2263680"/>
                <a:gridCol w="857160"/>
                <a:gridCol w="866880"/>
                <a:gridCol w="86688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066E-B8B2-498B-959D-E16C1FE15C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O parameter buffer size is reduced by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O types are increased from 2 t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umber of band offset reduced from 16 to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O design based on the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uma and Chroma have different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hroma BO design is further modified to improve coding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0720" y="4541760"/>
            <a:ext cx="86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ny thanks to MediaTek for cross-checking this contribution (JCTVC-H03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92A5-7DBF-4976-BEA9-D08309DE00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Kwon, Do-Kyoung</cp:lastModifiedBy>
  <dcterms:modified xsi:type="dcterms:W3CDTF">2012-01-23T00:15:23Z</dcterms:modified>
  <cp:revision>70</cp:revision>
  <dc:subject/>
  <dc:title>Presentation Title Here</dc:title>
</cp:coreProperties>
</file>