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FF70-FFBE-464C-8A39-2601FC416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8FED-3871-431F-850A-0E14278B5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3A6D-0C86-4372-B4C3-C9A9408EB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CE84-9E18-4062-96BD-630E472F9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FDD28-56EF-4F80-817E-58EDCFC078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AFD54-C067-4D0B-954B-ABE92B5DD3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826E8-00F9-4D71-BD4A-7A1896ED97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BF101-79F5-425F-B06E-6ACC31199B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2618-0D6E-45E8-AAAA-8CAD20FF3B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F095C-FF48-4A7C-8E9A-1FC14E4660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4C32E-E270-4D94-893E-A41E3167E4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6AFE-EDA3-48DA-8B54-DA43A6573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C72BB-A329-46C6-8C1B-014183445A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B4E09-E59D-44AD-BBA3-773E800AC3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A6E30-4E42-45C5-A96E-410CA999EF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B5842-09BC-440E-A39C-71ED030925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B2BED-B152-4C34-A322-C4E0CA63D7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FE7-D2A6-46A0-8214-FFF24193C5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171-B2F8-403C-B457-3DF60A44BA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44E-FC73-4A0E-8F01-9BD0EBDED0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B92-C458-463F-8C5E-6B89A5892E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7A2-F512-4987-9774-949F9FA9AB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17CD-E974-48C0-AD67-0A2AE8CCF4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9AE-691F-4E17-8EBF-B876AA24A5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B71D-66D6-4FAD-90B7-289A80FB8D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625-A49A-4027-9767-E776D0823A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E30-BA29-4CEE-A2CA-EFC7BCFAEC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1A8-61F7-411D-B55B-CE854ADE2F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2E6-0131-4F06-8760-9835733E3C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6B29-926D-4502-81A1-80F0A02773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016A1-3961-4F5A-AEA0-AC1B8110DF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C2C20-3184-480E-BB63-E3BB882853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5B85B-482D-4D89-8890-F220AA0C0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C40F-1B7C-4BF1-BC43-5B971874A4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FED52-860E-4D15-843D-EB075CDDD2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3B327-96F3-4E89-8053-93D4373501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AC898-8524-4652-BE1E-764E14A24C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17426-E6BC-4F99-AA76-4C4822977B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72E82-30D6-4CC1-99EA-3D67FAA275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7B979-E835-4189-852C-4BB3B06096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5EF35-8396-4895-AB2B-DE41C68283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EB460-EBE8-4290-B5E0-DD9CAD8A16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8691F-722F-4F62-A710-3D8A163783A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E1190-E03A-438B-978D-398DC592D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0FE7-20FC-4056-AEA7-57BCD63F4BF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524A7-F927-40C4-ADF1-E6662CA1AA4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DFB2B-A64A-49BA-A3FB-6F42BEEC069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F2D99-D162-4D75-9C59-1067475817D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95CC0-C395-4C6D-9470-798C17B403D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1BD2B-A9D5-473C-8221-6CA86D2EAFD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0B39A-185E-43A8-AA4A-0A43916B2D3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31508-891A-4D82-87D4-A27DBD9925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85C68-A337-4E6B-99AF-FF2FF76F893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9F1D5-EBBC-4140-9F71-DBA77A877CA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C924A-84AF-4C10-9925-EE2FE42A9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318C-1293-4AA8-9C60-25E831C8D76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1A2C2-C5A3-4D62-A399-27996DC8A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16B8-4D0C-48B7-BAF3-A6E0482A8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5F37-FA11-492F-98CD-C195BED64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ACFD-EC6B-4C45-AD08-D088DFE03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E081-D6FB-49C6-A42B-AAA20830277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08D9-D239-49F1-A212-422297FAC0A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68400" algn="ctr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161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16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16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6D09-69A4-4CB9-92CB-A46B315D9190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DC94-8411-4864-9971-6B16B95119B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86D6-98CA-4BB6-9BAA-9AF80834926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720" y="1590840"/>
            <a:ext cx="84582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000"/>
              </a:spcBef>
              <a:spcAft>
                <a:spcPts val="50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JCTVC-H0436: CE8 Subset d.1</a:t>
            </a:r>
            <a:br>
              <a:rPr sz="32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굴림"/>
              </a:rPr>
              <a:t>Reduced Number of Band Offsets in SAO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42720" y="369864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o-Shik Kim, Do-Kyoung Kw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In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U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1FF48-5F56-4DF7-988E-0A0C55F0F7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57680" y="3809880"/>
            <a:ext cx="2171880" cy="409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SAO Parameter Buffer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33360" y="1185840"/>
            <a:ext cx="84772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O parameters are coded into adaptation parameter set (A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ed to be stored in a buffer until SAO processing is completed at a decoder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ffer size is proportional to the number of partitions and SAO parameter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eed to consider the worst case to prepare enough size of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ximum number of par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ximum size of SAO paramete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B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uses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offsets, while EO uses 4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CU 64x64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256 partitions in the wor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0bit video, 6 bits/offset x 16 offsets X 3 color components  = 28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otal buffer size: 10 Kbyte (256x288=9 Kbyte offset + additional inform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16D6-E023-4154-8EAC-C8EF6F44E0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굴림"/>
              </a:rPr>
              <a:t>Proposed Solution for SAO Buffer Reduc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33360" y="979200"/>
            <a:ext cx="847728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urrent BO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 band selection,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굴림"/>
              </a:rPr>
              <a:t>16 offs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per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posed solu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est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4 band selection,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굴림"/>
              </a:rPr>
              <a:t>8 offse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er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O buffer size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M4.0:      9.0 Kbyte = 256 x 6 x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굴림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x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roposed: 4.5 Kbyte = 256 x 6 x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굴림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x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000160" y="1722600"/>
            <a:ext cx="4876560" cy="838080"/>
            <a:chOff x="2000160" y="1722600"/>
            <a:chExt cx="4876560" cy="838080"/>
          </a:xfrm>
        </p:grpSpPr>
        <p:sp>
          <p:nvSpPr>
            <p:cNvPr id="215" name=""/>
            <p:cNvSpPr/>
            <p:nvPr/>
          </p:nvSpPr>
          <p:spPr>
            <a:xfrm>
              <a:off x="2000160" y="2103480"/>
              <a:ext cx="12189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19120" y="2103480"/>
              <a:ext cx="243864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57760" y="2103480"/>
              <a:ext cx="12189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90320" y="17226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15880" y="17226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63760" y="17226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000160" y="3419640"/>
            <a:ext cx="4876920" cy="838080"/>
            <a:chOff x="2000160" y="3419640"/>
            <a:chExt cx="4876920" cy="838080"/>
          </a:xfrm>
        </p:grpSpPr>
        <p:sp>
          <p:nvSpPr>
            <p:cNvPr id="222" name=""/>
            <p:cNvSpPr/>
            <p:nvPr/>
          </p:nvSpPr>
          <p:spPr>
            <a:xfrm>
              <a:off x="2000160" y="3800520"/>
              <a:ext cx="12193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19480" y="3800520"/>
              <a:ext cx="12189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38440" y="3800520"/>
              <a:ext cx="12193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57760" y="3800520"/>
              <a:ext cx="12193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90320" y="341964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49520" y="341964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44800" y="341964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64120" y="341964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485080" y="5707080"/>
            <a:ext cx="4027320" cy="398880"/>
          </a:xfrm>
          <a:prstGeom prst="rect">
            <a:avLst/>
          </a:prstGeom>
          <a:solidFill>
            <a:srgbClr val="ffff00"/>
          </a:solidFill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Buffer size reduction by Ha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AE53-F56F-4295-8413-B0DA0D20AA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Proposed Solut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33360" y="1185840"/>
            <a:ext cx="847728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xtended coverage of the first and last sub-band offset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est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verall bitrate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itrate increase to encode BO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owever, more bitrate decrease in offset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695240" y="1962000"/>
            <a:ext cx="4876560" cy="1359000"/>
            <a:chOff x="1695240" y="1962000"/>
            <a:chExt cx="4876560" cy="1359000"/>
          </a:xfrm>
        </p:grpSpPr>
        <p:sp>
          <p:nvSpPr>
            <p:cNvPr id="234" name=""/>
            <p:cNvSpPr/>
            <p:nvPr/>
          </p:nvSpPr>
          <p:spPr>
            <a:xfrm>
              <a:off x="1695600" y="2419200"/>
              <a:ext cx="12189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14560" y="2419200"/>
              <a:ext cx="1218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33520" y="2419200"/>
              <a:ext cx="24382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1120" y="19620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66840" y="2419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81240" y="2419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19120" y="2419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28960" y="2419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5400000">
              <a:off x="3447360" y="1733760"/>
              <a:ext cx="152280" cy="1218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1680 h 1218600"/>
                <a:gd name="textAreaBottom" fmla="*/ 1186920 h 121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 rot="16200000">
              <a:off x="2304360" y="2266920"/>
              <a:ext cx="152640" cy="13712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5640 h 1371240"/>
                <a:gd name="textAreaBottom" fmla="*/ 133560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 rot="16200000">
              <a:off x="5200200" y="1657440"/>
              <a:ext cx="152640" cy="259056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7320 h 2590560"/>
                <a:gd name="textAreaBottom" fmla="*/ 252324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74440" y="295272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ub-band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93600" y="295272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ub-band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959E-AECC-4B5B-9A51-0E7569C71D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33360" y="955440"/>
            <a:ext cx="8477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D-rate results of Test 1: 8 band offset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D-rate results of Test 2: 8 band offset + sub-band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95600" y="409896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685880" y="4146480"/>
          <a:ext cx="5322960" cy="1819080"/>
        </p:xfrm>
        <a:graphic>
          <a:graphicData uri="http://schemas.openxmlformats.org/drawingml/2006/table">
            <a:tbl>
              <a:tblPr/>
              <a:tblGrid>
                <a:gridCol w="924120"/>
                <a:gridCol w="1922400"/>
                <a:gridCol w="825480"/>
                <a:gridCol w="825480"/>
                <a:gridCol w="82548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ll 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ow delay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ow delay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바탕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089120" y="14400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701720" y="1494000"/>
          <a:ext cx="5322960" cy="1819080"/>
        </p:xfrm>
        <a:graphic>
          <a:graphicData uri="http://schemas.openxmlformats.org/drawingml/2006/table">
            <a:tbl>
              <a:tblPr/>
              <a:tblGrid>
                <a:gridCol w="924120"/>
                <a:gridCol w="1922400"/>
                <a:gridCol w="825480"/>
                <a:gridCol w="825480"/>
                <a:gridCol w="82548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ll 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ow delay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ow delay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바탕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바탕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바탕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BCEE-E5D3-44B4-9E45-DADCA905D1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33360" y="836640"/>
            <a:ext cx="847728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ubjective quality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ettings are the same as in JCTVC-G6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 subjective quality degradation is 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678040" y="2604960"/>
          <a:ext cx="3166920" cy="1062000"/>
        </p:xfrm>
        <a:graphic>
          <a:graphicData uri="http://schemas.openxmlformats.org/drawingml/2006/table">
            <a:tbl>
              <a:tblPr/>
              <a:tblGrid>
                <a:gridCol w="790560"/>
                <a:gridCol w="850320"/>
                <a:gridCol w="686160"/>
                <a:gridCol w="839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M-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G6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Neu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Tes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Tes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2680920" y="2300400"/>
            <a:ext cx="16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te percentag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E009-48F8-4A82-A8FF-83BE733D40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O parameter buffer size is reduced by 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umber of band offset reduced from 16 to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O types are increased from 2 t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intain the similar overall subjective and objective qualities without complexity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CA1B-F022-44D2-99BB-BF086E3E6E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/>
  <dc:description/>
  <dc:language>en-US</dc:language>
  <cp:lastModifiedBy>wskim</cp:lastModifiedBy>
  <dcterms:modified xsi:type="dcterms:W3CDTF">2012-01-20T22:36:48Z</dcterms:modified>
  <cp:revision>66</cp:revision>
  <dc:subject/>
  <dc:title>Presentation Title Here</dc:title>
</cp:coreProperties>
</file>