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630F-FAE6-4E1B-870B-1C210530A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9826-14C6-46F3-B292-8FEE5F492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130D-26EA-4CB9-9B6A-63995F4BA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B480-A538-4E9F-B71C-34909BD83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0F7B8-5058-40F4-8786-63AAAC149D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C07A9-87CD-42F0-8B72-064746DB87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BBE7-9AFD-4194-8E14-4D15BB7F34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4834D-92A7-4866-B4E2-297E77B782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F869-1736-4E53-A340-3E29E25BAF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93821-E9E0-4596-B4BC-3BEF34D21B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95C62-A833-45E2-A0C6-BC09C7159E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7E4D-D0E3-4FE8-AEA6-30ACF371C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2D34-18B7-4602-AF3F-6058867860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E5990-5F27-4E68-B915-93141A1C7E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74A97-F900-4C42-A3AC-676BB22800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8EC97-3AC4-4FBB-A079-CD8819D08A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EDB18-E0ED-433F-BDE2-3B2694E71D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7C0B-745A-4C9A-827F-D7A11AC17F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0832-DD67-4C73-968E-5986CD9494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62E2-0CAA-466E-B604-EB1207E001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D5F-C32C-4D10-8C25-32FD4AF475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91EA-1D7D-448B-B249-467D2FAFEB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3BA23-1036-45C1-831F-23B71EF3BC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BA3-7E23-4095-B310-D52B2F88F5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52FD-AA65-4F16-818C-5A8C28A30A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BC8-1EA9-4FFA-AB02-E429B91A0C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B1F-6592-4BC7-AAEE-B9D3905A3A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099-5C4D-4F0E-8924-817F86EE1D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183A-AFD2-4ACF-83BA-FF11F70989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2C37-AA9B-47B9-BE96-A365E0A903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F8F78-B859-46E6-B880-7BF4806840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9E710-607D-418A-B625-BE7E2D8AFBC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2C7CE-CE50-414B-B5BA-76536D088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15AB-CF8B-4876-BC39-1CA1C2F0A4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C957E-C911-4B5B-95BC-22D605460A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29667-D15D-4740-B141-3E1563829D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3455E-DAED-495D-AB30-039AC4A0EC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1AFE1-D2F5-43AF-809E-95F390EBDA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4C50D-4AE2-4F3C-8E74-9FB82EB155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1E06F-C93B-4F3B-8130-27C0932047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53452-078C-4F24-90F1-94F519878B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93595-BA83-4E44-AFB0-621B2B1547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A7D40-0FA0-4F85-858F-92C2D41E3CF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93BE2-0F45-4735-8E8F-782589C34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49740-C768-4D9C-86C4-CCBBCBFB399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EF0BB-F842-44F9-931C-2BAFE1FE790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135DC-CDC6-4AAD-A1B5-993C17242B6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552CA-79E9-4831-AD28-50BF2E5F4E9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21E14-B556-4843-A0F5-F134B86F9E9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1DC12-65BB-4E57-A86F-FAAABF0292C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E60AB-FFD5-4278-91B5-B38592359AA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EFA59-3458-43FE-A9B4-9F8E7A6A962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54E18-41F7-4ADD-925B-2E63E3085D1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4A264-A0B8-471D-8ABA-7D1FB1DD62F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A3F5E-F3E4-4EA7-8AFE-098FD774F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B136-2DD7-49B4-B4F5-C9CAAEE971D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F0F40-C37A-460B-A2A7-AABB17910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CC86-14A1-4EF7-9188-252483657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78249-1372-4428-9BD9-482F187ED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A8B83-B81C-48EB-AB52-CAF048269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92DA-3B84-49AD-889F-078BD80A423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55C2-9AFF-4CD1-95A2-397219956EF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68400" algn="ctr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1616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16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16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51ED-2B00-42D0-99C4-CFB29719102D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6768-DF33-43E5-BBC8-C763B9C7142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1FB6-194F-498A-B9D2-8C82526F705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720" y="1590840"/>
            <a:ext cx="84582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01"/>
              </a:spcBef>
              <a:spcAft>
                <a:spcPts val="4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JCTVC-H0434: CE8 subset c</a:t>
            </a:r>
            <a:br>
              <a:rPr sz="28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굴림"/>
              </a:rPr>
              <a:t>Necessity of Sign Bits for SAO Offse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42720" y="369864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oo-Shik Kim, Do-Kyoung Kw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In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U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FAF8A-E95F-4EEA-810E-5B1DABFC78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asketballDrive AI-HE QP37 Frame 286 (HM-5.0+proposed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0" y="1727280"/>
            <a:ext cx="9144000" cy="513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C6B0-1737-4468-8A9C-17D0318814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asketballDrive AI-HE QP37 Frame 286 (Proposed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0" y="1727280"/>
            <a:ext cx="9144000" cy="513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993FB-5B9C-478D-BB9B-297D7B3182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QTerrace AI-HE QP37 Frame 194 (HM-5.0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0" y="2303640"/>
            <a:ext cx="3043080" cy="17110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3049560" y="2308320"/>
            <a:ext cx="3043440" cy="17110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6100920" y="2303640"/>
            <a:ext cx="3043080" cy="17110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934920" y="42274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M-5.0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538800" y="4227480"/>
            <a:ext cx="18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ose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is region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689160" y="42274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os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EEE92-97EA-4A01-97A1-37AA882E9B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QTerrace AI-HE QP37 Frame 194 (HM-5.0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0" y="1717560"/>
            <a:ext cx="9150480" cy="514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ECA2-9A3C-4CE1-BB8C-FFEF2FC031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QTerrace AI-HE QP37 Frame 194 (HM-5.0+proposed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0" y="172260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8F27-455F-4A44-832D-2C1007AFF8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QTerrace AI-HE QP37 Frame 194 (Proposed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1717560"/>
            <a:ext cx="9150480" cy="514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CF8B0-5048-42A3-A1E6-96AC1ACCAE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ChinaSpeed AI-HE QP37 Frame 499 (HM-5.0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rcRect l="0" t="0" r="0" b="18748"/>
          <a:stretch/>
        </p:blipFill>
        <p:spPr>
          <a:xfrm>
            <a:off x="687240" y="2736720"/>
            <a:ext cx="1627200" cy="99072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rcRect l="0" t="0" r="0" b="18748"/>
          <a:stretch/>
        </p:blipFill>
        <p:spPr>
          <a:xfrm>
            <a:off x="3703680" y="2736720"/>
            <a:ext cx="1627200" cy="9907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rcRect l="0" t="0" r="0" b="18748"/>
          <a:stretch/>
        </p:blipFill>
        <p:spPr>
          <a:xfrm>
            <a:off x="6616800" y="2736720"/>
            <a:ext cx="1627200" cy="99072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934920" y="42274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M-5.0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538800" y="4227480"/>
            <a:ext cx="18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ose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is region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89160" y="42274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os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614E-FE58-4A6E-AE8D-CC0CE4BD55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ChinaSpeed AI-HE QP37 Frame 499 (HM-5.0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rcRect l="0" t="0" r="0" b="18748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4F347-AACC-4315-85BE-3B17F41FE9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ChinaSpeed AI-HE QP37 Frame 499 (HM-5.0+proposed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rcRect l="0" t="0" r="0" b="18748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C8AB-7BC8-43BD-A905-4CB67281AE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ChinaSpeed AI-HE QP37 Frame 499 (Proposed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rcRect l="0" t="0" r="0" b="18748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620EB-FB1B-4F2D-AFDF-546DEF3F6F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Current SAO Edge Offset Desig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7728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tegories in edge offset according to edge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66200" y="2076480"/>
            <a:ext cx="8168040" cy="3095640"/>
            <a:chOff x="466200" y="2076480"/>
            <a:chExt cx="8168040" cy="3095640"/>
          </a:xfrm>
        </p:grpSpPr>
        <p:sp>
          <p:nvSpPr>
            <p:cNvPr id="212" name=""/>
            <p:cNvSpPr/>
            <p:nvPr/>
          </p:nvSpPr>
          <p:spPr>
            <a:xfrm>
              <a:off x="847440" y="329544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50920" y="352404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25200" y="329544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58720" y="3295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9600" y="329544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47440" y="245700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0800000">
              <a:off x="466200" y="245304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52360" y="2609640"/>
              <a:ext cx="45720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609560" y="2609640"/>
              <a:ext cx="45720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52360" y="2609640"/>
              <a:ext cx="0" cy="6854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09560" y="3066840"/>
              <a:ext cx="0" cy="2282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66760" y="2609640"/>
              <a:ext cx="0" cy="6854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52000" y="215244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tegory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81160" y="329544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84640" y="352404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58920" y="329544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92440" y="3295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73320" y="329544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981160" y="245700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0800000">
              <a:off x="2600280" y="245304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86080" y="2609640"/>
              <a:ext cx="45720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743280" y="3066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86080" y="2609640"/>
              <a:ext cx="0" cy="6854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43280" y="3066840"/>
              <a:ext cx="0" cy="2282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00480" y="3066840"/>
              <a:ext cx="0" cy="2282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85360" y="215244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tegory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81160" y="466704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84640" y="489564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58920" y="466704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92440" y="46670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73320" y="466704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981160" y="382860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0800000">
              <a:off x="2600280" y="382464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86080" y="44384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743280" y="3981240"/>
              <a:ext cx="45720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86080" y="4438440"/>
              <a:ext cx="0" cy="2282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43280" y="4438440"/>
              <a:ext cx="0" cy="2282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00480" y="3981240"/>
              <a:ext cx="0" cy="6854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14880" y="329544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18000" y="352404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92280" y="329544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5800" y="3295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06680" y="329544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114880" y="245700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0800000">
              <a:off x="4733280" y="245304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76640" y="2609640"/>
              <a:ext cx="45720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419440" y="2609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19440" y="2609640"/>
              <a:ext cx="0" cy="6854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76640" y="2609640"/>
              <a:ext cx="0" cy="6854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33840" y="3066840"/>
              <a:ext cx="0" cy="2282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19080" y="215244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tegory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14880" y="466704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18000" y="489564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92280" y="466704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25800" y="46670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06680" y="466704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114880" y="382860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4733280" y="382464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76640" y="398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5419440" y="3981240"/>
              <a:ext cx="45720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19440" y="4438440"/>
              <a:ext cx="0" cy="2282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76640" y="3981240"/>
              <a:ext cx="0" cy="6854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33840" y="3981240"/>
              <a:ext cx="0" cy="6854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10360" y="32191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13480" y="344772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87760" y="321912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21280" y="3219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02160" y="321912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7110360" y="238068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0800000">
              <a:off x="6728760" y="237672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53040" y="2533320"/>
              <a:ext cx="45720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7410240" y="2533320"/>
              <a:ext cx="45720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410240" y="2990520"/>
              <a:ext cx="0" cy="2282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858080" y="2533320"/>
              <a:ext cx="14040" cy="6854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10240" y="2990520"/>
              <a:ext cx="0" cy="2282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14560" y="207648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tegory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963D-0714-4143-AF8E-4DB07EE7AB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asketballDrive LB-HE QP37 Frame 146 (HM-5.0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-6480" y="2352600"/>
            <a:ext cx="3043440" cy="17114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046320" y="2352600"/>
            <a:ext cx="3043440" cy="17114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6100920" y="2352600"/>
            <a:ext cx="3043080" cy="17114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934920" y="42274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M-5.0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538800" y="4227480"/>
            <a:ext cx="18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ose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is region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689160" y="42274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os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E4E3-2759-4D24-86DD-E940693161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asketballDrive LB-HE QP37 Frame 146 (HM-5.0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-6480" y="1711440"/>
            <a:ext cx="9150480" cy="514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985C-4AD8-46D3-9866-B9C2D83FDF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asketballDrive LB-HE QP37 Frame 146 (HM-5.0+proposed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8805-A13D-4DE9-B0FE-D87ED5B27B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asketballDrive LB-HE QP37 Frame 146 (Proposed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-6480" y="1711440"/>
            <a:ext cx="9150480" cy="514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0A82-8879-4DA5-B28C-B40B0BD18B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asketballDrive LB-HE QP37 Frame 423 (HM-5.0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rcRect l="11703" t="5333" r="0" b="1596"/>
          <a:stretch/>
        </p:blipFill>
        <p:spPr>
          <a:xfrm>
            <a:off x="235080" y="2416320"/>
            <a:ext cx="2687400" cy="159372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rcRect l="11703" t="5333" r="0" b="1596"/>
          <a:stretch/>
        </p:blipFill>
        <p:spPr>
          <a:xfrm>
            <a:off x="3195720" y="2417760"/>
            <a:ext cx="2687400" cy="159372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rcRect l="11703" t="5333" r="0" b="1596"/>
          <a:stretch/>
        </p:blipFill>
        <p:spPr>
          <a:xfrm>
            <a:off x="6156360" y="2416320"/>
            <a:ext cx="2687760" cy="159372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934920" y="42274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M-5.0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38800" y="4227480"/>
            <a:ext cx="18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ose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is region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689160" y="42274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os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39B4-D0A1-45C1-8C79-AC5F004B83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asketballDrive LB-HE QP37 Frame 423 (HM-5.0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rcRect l="11703" t="5333" r="0" b="1596"/>
          <a:stretch/>
        </p:blipFill>
        <p:spPr>
          <a:xfrm>
            <a:off x="0" y="1434960"/>
            <a:ext cx="9150480" cy="54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2AAC-9F7B-40D6-83DD-4CF4A80198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asketballDrive LB-HE QP37 Frame 423 (HM-5.0+proposed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rcRect l="11703" t="5333" r="0" b="1596"/>
          <a:stretch/>
        </p:blipFill>
        <p:spPr>
          <a:xfrm>
            <a:off x="0" y="1436760"/>
            <a:ext cx="9144000" cy="542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E758-1A14-4B06-A0D3-1076CBB16E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asketballDrive LB-HE QP37 Frame 423 (Proposed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11703" t="5333" r="0" b="1596"/>
          <a:stretch/>
        </p:blipFill>
        <p:spPr>
          <a:xfrm>
            <a:off x="0" y="1434960"/>
            <a:ext cx="9151920" cy="542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9202-8C19-4049-8969-EEC87349CD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asketballDrillText LB-HE QP37 Frame 351 (HM-5.0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961920" y="2525760"/>
            <a:ext cx="1325520" cy="7635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3741840" y="2525760"/>
            <a:ext cx="1325520" cy="7635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6523200" y="2525760"/>
            <a:ext cx="1325520" cy="7635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934920" y="35672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M-5.0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538800" y="3567240"/>
            <a:ext cx="18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ose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is region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89160" y="356724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os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3823C-6456-4D1D-91BB-C5AC49A1C1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asketballDrillText LB-HE QP37 Frame 351 (HM-5.0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0" y="1582560"/>
            <a:ext cx="9144000" cy="527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5CC7-8C21-43BF-8AD4-FB330BAA2E4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Desired Behavior of SAO Edge Offse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33360" y="1185840"/>
            <a:ext cx="8477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sign of edge offset usually matches its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66200" y="2101680"/>
            <a:ext cx="8168040" cy="3096000"/>
            <a:chOff x="466200" y="2101680"/>
            <a:chExt cx="8168040" cy="3096000"/>
          </a:xfrm>
        </p:grpSpPr>
        <p:sp>
          <p:nvSpPr>
            <p:cNvPr id="291" name=""/>
            <p:cNvSpPr/>
            <p:nvPr/>
          </p:nvSpPr>
          <p:spPr>
            <a:xfrm>
              <a:off x="847440" y="33210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50920" y="35496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25200" y="332100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58720" y="3321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39600" y="332100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847440" y="2482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0800000">
              <a:off x="466200" y="247860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52360" y="263520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609560" y="263520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52360" y="2635200"/>
              <a:ext cx="0" cy="6858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09560" y="3092400"/>
              <a:ext cx="0" cy="2286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66760" y="2635200"/>
              <a:ext cx="0" cy="6858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52000" y="217800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tegory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81160" y="33210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84640" y="35496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058920" y="332100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92440" y="3321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3320" y="332100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81160" y="2482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0800000">
              <a:off x="2600280" y="247860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86080" y="263520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743280" y="3092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86080" y="2635200"/>
              <a:ext cx="0" cy="6858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43280" y="3092400"/>
              <a:ext cx="0" cy="2286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00480" y="3092400"/>
              <a:ext cx="0" cy="2286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85360" y="217800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tegory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81160" y="4692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84640" y="49212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58920" y="469260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92440" y="4692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73320" y="469260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981160" y="38545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0800000">
              <a:off x="2600280" y="385020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86080" y="4464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743280" y="400680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86080" y="4464000"/>
              <a:ext cx="0" cy="2286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43280" y="4464000"/>
              <a:ext cx="0" cy="2286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200480" y="4006800"/>
              <a:ext cx="0" cy="6858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14880" y="33210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18000" y="35496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92280" y="332100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25800" y="3321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06680" y="332100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114880" y="2482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0800000">
              <a:off x="4733280" y="247860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76640" y="263520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419440" y="2635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19440" y="2635200"/>
              <a:ext cx="0" cy="6858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76640" y="2635200"/>
              <a:ext cx="0" cy="6858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33840" y="3092400"/>
              <a:ext cx="0" cy="2286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19080" y="217800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tegory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14880" y="4692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18000" y="49212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92280" y="469260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25800" y="4692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06680" y="469260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114880" y="38545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0800000">
              <a:off x="4733280" y="385020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76640" y="4006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419440" y="400680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9440" y="4464000"/>
              <a:ext cx="0" cy="2286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76640" y="4006800"/>
              <a:ext cx="0" cy="6858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33840" y="4006800"/>
              <a:ext cx="0" cy="6858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10360" y="3244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13480" y="347328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87760" y="324468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21280" y="32446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102160" y="324468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7110360" y="2406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0800000">
              <a:off x="6728760" y="240228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53040" y="255888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410240" y="255888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10240" y="3016080"/>
              <a:ext cx="0" cy="2286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58080" y="2558880"/>
              <a:ext cx="14040" cy="6858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10240" y="3016080"/>
              <a:ext cx="0" cy="2286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14560" y="210168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tegory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457200" y="2006640"/>
            <a:ext cx="4152960" cy="345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86480" y="1978200"/>
            <a:ext cx="4152600" cy="345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500120" y="550080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굴림"/>
              </a:rPr>
              <a:t>Positive ed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720400" y="5491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  <a:ea typeface="굴림"/>
              </a:rPr>
              <a:t>Negative ed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609560" y="2692080"/>
            <a:ext cx="0" cy="361800"/>
          </a:xfrm>
          <a:prstGeom prst="line">
            <a:avLst/>
          </a:prstGeom>
          <a:ln w="255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743280" y="2701800"/>
            <a:ext cx="9720" cy="371520"/>
          </a:xfrm>
          <a:prstGeom prst="line">
            <a:avLst/>
          </a:prstGeom>
          <a:ln w="255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743280" y="4101840"/>
            <a:ext cx="9720" cy="361800"/>
          </a:xfrm>
          <a:prstGeom prst="line">
            <a:avLst/>
          </a:prstGeom>
          <a:ln w="255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5866920" y="2654280"/>
            <a:ext cx="9720" cy="343080"/>
          </a:xfrm>
          <a:prstGeom prst="line">
            <a:avLst/>
          </a:prstGeom>
          <a:ln w="25560">
            <a:solidFill>
              <a:srgbClr val="3366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86360" y="4025880"/>
            <a:ext cx="0" cy="333360"/>
          </a:xfrm>
          <a:prstGeom prst="line">
            <a:avLst/>
          </a:prstGeom>
          <a:ln w="25560">
            <a:solidFill>
              <a:srgbClr val="3366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7857720" y="2587680"/>
            <a:ext cx="9720" cy="361800"/>
          </a:xfrm>
          <a:prstGeom prst="line">
            <a:avLst/>
          </a:prstGeom>
          <a:ln w="25560">
            <a:solidFill>
              <a:srgbClr val="3366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0809-E380-46D4-82BE-39925BB832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asketballDrillText LB-HE QP37 Frame 351 (HM-5.0+proposed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0" y="1582560"/>
            <a:ext cx="9144000" cy="527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69E7-E795-48D8-B55A-11A29560CD2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asketballDrillText LB-HE QP37 Frame 351 (Proposed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0" y="1582560"/>
            <a:ext cx="9144000" cy="527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B82F-CBA4-46E6-9A1D-57E29D6F9B7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QMall LB-HE QP37 Frame 29 (HM-5.0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208080" y="2468520"/>
            <a:ext cx="2842920" cy="163836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3157560" y="2468520"/>
            <a:ext cx="2843280" cy="163836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6108840" y="2468520"/>
            <a:ext cx="2842920" cy="1638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934920" y="42274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M-5.0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538800" y="4227480"/>
            <a:ext cx="18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ose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is region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689160" y="42274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os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6736A-5EAA-4487-A22E-78B36C76B7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QMall LB-HE QP37 Frame 29 (HM-5.0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0" y="159228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0C08-407D-466F-A427-B18A46F32F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QMall LB-HE QP37 Frame 29 (HM-5.0+proposed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0" y="159228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A160-B363-4980-9A1D-F51EB10C9EE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QMall LB-HE QP37 Frame 29 (Proposed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0" y="159228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B4EC6-05E3-4266-8B09-E5B9D54293C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QMall LB-HE QP37 Frame 102 (HM-5.0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rcRect l="10842" t="11249" r="0" b="0"/>
          <a:stretch/>
        </p:blipFill>
        <p:spPr>
          <a:xfrm>
            <a:off x="547560" y="1104840"/>
            <a:ext cx="3757680" cy="216216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2"/>
          <a:srcRect l="10842" t="11249" r="0" b="0"/>
          <a:stretch/>
        </p:blipFill>
        <p:spPr>
          <a:xfrm>
            <a:off x="4816440" y="1106640"/>
            <a:ext cx="3757680" cy="216216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3"/>
          <a:srcRect l="10842" t="11249" r="0" b="0"/>
          <a:stretch/>
        </p:blipFill>
        <p:spPr>
          <a:xfrm>
            <a:off x="2698920" y="3745080"/>
            <a:ext cx="3757320" cy="216216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1885680" y="326556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M-5.0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025960" y="3265560"/>
            <a:ext cx="34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osed only for this region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63240" y="58942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os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4D5B8-8B29-4BF3-8A07-853D2390DC5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QMall LB-HE QP37 Frame 102 (HM-5.0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rcRect l="10842" t="11249" r="0" b="0"/>
          <a:stretch/>
        </p:blipFill>
        <p:spPr>
          <a:xfrm>
            <a:off x="0" y="1595520"/>
            <a:ext cx="9144000" cy="526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C17EE-533D-463E-A5E2-D2C9EDA16C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QMall LB-HE QP37 Frame 102 (HM-5.0+proposed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rcRect l="10842" t="11249" r="0" b="0"/>
          <a:stretch/>
        </p:blipFill>
        <p:spPr>
          <a:xfrm>
            <a:off x="0" y="1596960"/>
            <a:ext cx="9144000" cy="526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12CC-0149-4BA6-96B1-8A2746C4C72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QMall LB-HE QP37 Frame 102 (Proposed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rcRect l="10842" t="11249" r="0" b="0"/>
          <a:stretch/>
        </p:blipFill>
        <p:spPr>
          <a:xfrm>
            <a:off x="0" y="1596960"/>
            <a:ext cx="9144000" cy="526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565E-350B-400F-859B-84DE56E379C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Desired Behavior of SAO Edge Offse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33360" y="1185840"/>
            <a:ext cx="8477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ercentage of sign match for edge offset :</a:t>
            </a:r>
            <a:br>
              <a:rPr sz="2000"/>
            </a:br>
            <a:r>
              <a:rPr b="1" i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99.4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match on ave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248320" y="218268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463680" y="2579760"/>
          <a:ext cx="8280360" cy="2122560"/>
        </p:xfrm>
        <a:graphic>
          <a:graphicData uri="http://schemas.openxmlformats.org/drawingml/2006/table">
            <a:tbl>
              <a:tblPr/>
              <a:tblGrid>
                <a:gridCol w="777960"/>
                <a:gridCol w="583920"/>
                <a:gridCol w="666720"/>
                <a:gridCol w="666720"/>
                <a:gridCol w="586080"/>
                <a:gridCol w="581040"/>
                <a:gridCol w="668160"/>
                <a:gridCol w="665280"/>
                <a:gridCol w="584280"/>
                <a:gridCol w="583920"/>
                <a:gridCol w="665280"/>
                <a:gridCol w="668160"/>
                <a:gridCol w="5828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I-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8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A-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8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B-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P-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v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1428E-AC3B-4996-AADD-6354630F7D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vidyo3 LB-HE QP37 Frame 226 (HM-5.0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206280" y="1008000"/>
            <a:ext cx="4067280" cy="22878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4863960" y="1008000"/>
            <a:ext cx="4067280" cy="22878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2556000" y="3649680"/>
            <a:ext cx="4066920" cy="228744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1885680" y="326556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M-5.0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025960" y="3265560"/>
            <a:ext cx="34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osed only for this region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63240" y="58942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os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C67E-D51D-48F4-8168-56D1E77A6EC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vidyo3 LB-HE QP37 Frame 226 (HM-5.0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0" y="171612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30F5-DDB1-4D16-AB0D-04C3FD2F14D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vidyo3 LB-HE QP37 Frame 226 (HM-5.0+proposed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0" y="171612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B9DF2-93FE-4288-876C-A95AA5E6101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vidyo3 LB-HE QP37 Frame 226 (Proposed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171612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6C2F2-7BAC-4EA7-B3BD-29EA3695D18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33360" y="1185840"/>
            <a:ext cx="84772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D-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nchor 1: HM-5.0, offset is set to 0 when mismatch happens, and sign is coded for all non-zero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nchor 2: HM-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532200" y="23875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1685880" y="2735280"/>
          <a:ext cx="5322960" cy="3335400"/>
        </p:xfrm>
        <a:graphic>
          <a:graphicData uri="http://schemas.openxmlformats.org/drawingml/2006/table">
            <a:tbl>
              <a:tblPr/>
              <a:tblGrid>
                <a:gridCol w="971640"/>
                <a:gridCol w="1874880"/>
                <a:gridCol w="825480"/>
                <a:gridCol w="825480"/>
                <a:gridCol w="8254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M-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Enc. only so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ll In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ow delay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ow delay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바탕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M-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ll In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ow delay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ow delay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바탕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바탕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바탕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9936-A570-41F4-9959-39597F968D3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33360" y="1185840"/>
            <a:ext cx="84772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ubjective quality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ettings are the same as in JCTVC-F320 and JCTVC-G6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Visual artifact is re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 subjective quality degradation is ob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473120" y="3336840"/>
          <a:ext cx="4662720" cy="909720"/>
        </p:xfrm>
        <a:graphic>
          <a:graphicData uri="http://schemas.openxmlformats.org/drawingml/2006/table">
            <a:tbl>
              <a:tblPr/>
              <a:tblGrid>
                <a:gridCol w="1460520"/>
                <a:gridCol w="1262160"/>
                <a:gridCol w="1008000"/>
                <a:gridCol w="9320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nc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G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Neu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G680 Enc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M-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2" name=""/>
          <p:cNvSpPr/>
          <p:nvPr/>
        </p:nvSpPr>
        <p:spPr>
          <a:xfrm>
            <a:off x="1433160" y="2957400"/>
            <a:ext cx="19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Vote percenta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%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00F2-072E-4475-B235-9D045BCE592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Summary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99.4% cases edge offset sigh matches its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en edge offset sign mismatches its category, “salt and pepper” like artifact can occ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posed to remove offset sign coding and always match it to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610A-AA55-4265-8997-C17961FEB75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Artifact from SAO Edge Offse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33360" y="1185840"/>
            <a:ext cx="8477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When mismatched sign is used, contrast increases and causes arti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47800" y="3273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50920" y="35020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25200" y="32734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58720" y="3273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39600" y="3273480"/>
            <a:ext cx="4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47800" y="2435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0800000">
            <a:off x="466200" y="2431080"/>
            <a:ext cx="3628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52360" y="246384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609560" y="246384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152360" y="2463840"/>
            <a:ext cx="0" cy="80964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609560" y="3044880"/>
            <a:ext cx="0" cy="22860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066760" y="2587680"/>
            <a:ext cx="0" cy="68580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152000" y="21304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categor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981160" y="32734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84640" y="35020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58920" y="32734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592440" y="3273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73320" y="3273480"/>
            <a:ext cx="4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2981160" y="2435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2599920" y="2431080"/>
            <a:ext cx="3628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86080" y="244152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743280" y="28987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86080" y="2463840"/>
            <a:ext cx="0" cy="80964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735360" y="2897280"/>
            <a:ext cx="0" cy="37620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200480" y="2897280"/>
            <a:ext cx="0" cy="37620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85720" y="21304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categor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1160" y="46450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284640" y="48736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058920" y="46450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92440" y="46450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973320" y="4645080"/>
            <a:ext cx="4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981160" y="3807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0800000">
            <a:off x="2599920" y="3802680"/>
            <a:ext cx="3628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86080" y="43005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3743280" y="384336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87880" y="4284720"/>
            <a:ext cx="6120" cy="36036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27440" y="4284720"/>
            <a:ext cx="15840" cy="36036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192560" y="3851280"/>
            <a:ext cx="0" cy="79380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114880" y="3273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418360" y="35020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192640" y="32734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726160" y="3273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107040" y="3273480"/>
            <a:ext cx="4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114880" y="2435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10800000">
            <a:off x="4734000" y="2431080"/>
            <a:ext cx="3628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77000" y="275112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419800" y="27511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19800" y="2735280"/>
            <a:ext cx="0" cy="53820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877000" y="2735280"/>
            <a:ext cx="0" cy="53820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334200" y="3208320"/>
            <a:ext cx="0" cy="6516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419440" y="195264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categor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114880" y="477684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8360" y="500544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92640" y="477684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726160" y="47768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07040" y="4776840"/>
            <a:ext cx="4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114880" y="39387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10800000">
            <a:off x="4734000" y="3934440"/>
            <a:ext cx="3628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77000" y="4222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419800" y="42228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419800" y="4664160"/>
            <a:ext cx="0" cy="11268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77000" y="4214880"/>
            <a:ext cx="0" cy="56196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334200" y="4222800"/>
            <a:ext cx="0" cy="55404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110360" y="319716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413840" y="34257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188120" y="319716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721640" y="3197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102520" y="3197160"/>
            <a:ext cx="4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7110360" y="23590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10800000">
            <a:off x="6729480" y="2354760"/>
            <a:ext cx="3628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853400" y="2635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7410600" y="2635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410600" y="3068640"/>
            <a:ext cx="0" cy="12852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858080" y="2651040"/>
            <a:ext cx="14400" cy="54612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310600" y="3078000"/>
            <a:ext cx="0" cy="11916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414920" y="187632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category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749840" y="1943280"/>
            <a:ext cx="4152960" cy="345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9560" y="1930320"/>
            <a:ext cx="4152960" cy="3457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792400" y="543708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굴림"/>
              </a:rPr>
              <a:t>Positive ed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473840" y="544356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  <a:ea typeface="굴림"/>
              </a:rPr>
              <a:t>Negative ed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870520" y="2374560"/>
            <a:ext cx="0" cy="361800"/>
          </a:xfrm>
          <a:prstGeom prst="line">
            <a:avLst/>
          </a:prstGeom>
          <a:ln w="255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7858080" y="2251080"/>
            <a:ext cx="9720" cy="371520"/>
          </a:xfrm>
          <a:prstGeom prst="line">
            <a:avLst/>
          </a:prstGeom>
          <a:ln w="255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5873760" y="3867120"/>
            <a:ext cx="9360" cy="362160"/>
          </a:xfrm>
          <a:prstGeom prst="line">
            <a:avLst/>
          </a:prstGeom>
          <a:ln w="255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598760" y="2932200"/>
            <a:ext cx="9360" cy="342720"/>
          </a:xfrm>
          <a:prstGeom prst="line">
            <a:avLst/>
          </a:prstGeom>
          <a:ln w="25560">
            <a:solidFill>
              <a:srgbClr val="3366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732120" y="4311720"/>
            <a:ext cx="0" cy="333360"/>
          </a:xfrm>
          <a:prstGeom prst="line">
            <a:avLst/>
          </a:prstGeom>
          <a:ln w="25560">
            <a:solidFill>
              <a:srgbClr val="3366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3736440" y="2906640"/>
            <a:ext cx="9720" cy="362160"/>
          </a:xfrm>
          <a:prstGeom prst="line">
            <a:avLst/>
          </a:prstGeom>
          <a:ln w="25560">
            <a:solidFill>
              <a:srgbClr val="3366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09720" y="5892840"/>
            <a:ext cx="2526120" cy="398880"/>
          </a:xfrm>
          <a:prstGeom prst="rect">
            <a:avLst/>
          </a:prstGeom>
          <a:solidFill>
            <a:srgbClr val="ffff00"/>
          </a:solidFill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Need a Fail Sa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CD3D-3C41-4289-8484-A34696DA29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Proposed Solut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33360" y="1185840"/>
            <a:ext cx="860112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urrent HM-5.0 design of edge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Both positive and negative values are allowed for all edge 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ign and absolute value are coded separ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posed mod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ignal edge offset as absolute value (as in HM-5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fer sign of edge offset from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ositive sign for category 1 &amp;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gative sign for category 3 &amp;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7844-5681-44B5-B5A8-7E0FA267F9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nly AI-HE and LB-HE cases with QP 37 have been investi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3 cases per each example are in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case: Result of HM-5.0, which shows SAO arti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case: Result of HM-5.0 where the proposed method is applied only for the place shown in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case: Result of the proposed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isual Quality Investigat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8B052-D22E-458E-80C0-A2847E4112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asketballDrive AI-HE QP37 Frame 286 (HM-5.0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395280" y="2792520"/>
            <a:ext cx="2286000" cy="128268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3298680" y="2792520"/>
            <a:ext cx="2286000" cy="12826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6202440" y="2792520"/>
            <a:ext cx="2286000" cy="12826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934920" y="42274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M-5.0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38800" y="4227480"/>
            <a:ext cx="18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ose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is region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689160" y="42274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os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40398-B95F-4DEA-9CD4-2A2A284D0B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BasketballDrive AI-HE QP37 Frame 286 (HM-5.0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0" y="1727280"/>
            <a:ext cx="9144000" cy="513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80B2-A4F3-4495-AF30-EE025CCF1A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/>
  <dc:description/>
  <dc:language>en-US</dc:language>
  <cp:lastModifiedBy>wskim</cp:lastModifiedBy>
  <dcterms:modified xsi:type="dcterms:W3CDTF">2012-01-21T00:21:06Z</dcterms:modified>
  <cp:revision>89</cp:revision>
  <dc:subject/>
  <dc:title>Presentation Title Here</dc:title>
</cp:coreProperties>
</file>