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ng" ContentType="image/png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E79C10-D15B-4DDE-8F69-AECB70370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B6A187-21C2-4AD6-B1F4-C640CAB7E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3CBC24-31D5-4E8E-ADA2-7C1E6BF60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610-2F61-4536-AB93-715A6656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D518-A5BF-4CDD-BA20-E4417817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DB03-800D-415F-851C-3D0E95844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ADE3-68CD-4BBA-9B98-EFA5A2FE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621-34FE-4F89-8D9F-599948DB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7760-D2E9-4E83-9D2C-788120A8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843-67E2-44ED-AC6D-3E14D5D9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2CF-89AD-492A-86A9-24C4659C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DC3B-1CD7-4D65-B699-F4ED53A9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5778-13B2-4751-B166-1894AED8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06A0-DC90-4193-B251-F81A5208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8DB8-ACA2-406B-B012-2CB60A20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e4e6f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F1FA-659D-447E-A506-C5FACB7E92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676160"/>
            <a:ext cx="800100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0433: Reference Picture Set Signaling Method -  RPS Delete Operation Signaling Meth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40381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chin Deshpande, Kiran Misra, Andrew Seg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p Labs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EC19-29DC-46B4-970B-E4994D2FC3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Case U2 Example (3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ictures 16, 12 and 10 the correct RPS can be signaled efficiently by referring to RPS sent in P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-8,-10,-12,-16} with our proposed delete signaling to delete -1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-4,-6,4} with our proposed delete signaling to delete -6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-2,-4,2,6} with our proposed signaling to delete -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ill be more efficient than signaling the new correct RPS {-8, -12, -16}, {-4,4}, {-2,2,6} in slice header for each of these pi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06CA-2B47-420F-91F2-84487FFF16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00200" y="3962520"/>
          <a:ext cx="608328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962520"/>
                    <a:ext cx="60832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Case U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mory optimizing encoder which uses one (or more) LTRP for portion of the video may decide to keep the decoder picture buffer memory requirement same as when using only STRP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 if initially the encoder is using random access configuration for encoding as in JCTVC-G1036d03 section 2.1 then decoder picture buffer needs memory to store 5 STRP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for a portion of the video, encoder decides to use one LTRP, then to keep the same reduced memory requirement for the decoder (i.e. not to increase it to 6 frames) encoder may decide to only use 4 STRPs during this time when 1 LTRP is u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 the encoder will choose not to use one of the short-term reference pictures when encod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r can efficiently signal this by referring to RPS sent in PPS and signaling a delete operation for one of the STRPs using our proposed syn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60F8-690D-4BCA-AF89-9DD36034D0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ocument proposed syntax to efficiently signal a delete operation for removing select reference pictures from a previously signaled reference picture set (RP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pproach can be used to efficiently signal a new partial RPS by referring to a RPS signaled in PP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ropose to adopt the proposed approach in HEV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9C8A-B0A8-4FE7-B161-6C0957B68F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91404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C WD5 does not support a delete operation on a previously signaled (via picture parameter set) reference picture set (RPS) to signal a new partial R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TVC-G637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pruning of reference picture s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use case supported was first GOP following a random access point where some of the pictures signaled in RPS are not avai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proposed a syntax which can signal number of short term reference pictures that are omitted from a particular RPS signaled in the P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in G637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pports omitt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ecu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rt-term reference pictures from a reference picture s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situations where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mission of one or more reference pictures from a reference picture set is desir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B6C9-2AC2-476A-81E2-FB51191E80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ropose a method to signal delete operation on a previously signaled RPS to efficiently signal a new R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approach is useful in following use c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1: Signaling RPS for pictures in first GOP after a random access point (e.g. use case 2.1 in JCTVC-G1036d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2: Signaling RPS efficiently via a delete operation on a previous signaled RPS for the case where a reference picture was lost and was signaled by decoder to the encoder via feedback and the lost picture is no longer used as a reference picture by the encoder. (e.g. use case 3.3 in JCTVC-G1036d03 and similar use case in non low-delay condition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3: A memory optimizing encoder, which uses one (or more) LTRP for portion of the vide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proposed signaling consists of a flag in PPS and slice header and a bit field in slice header for each picture in RPS. The bit field signals 1 or 0 values to indicate keep/ delete corresponding reference picture from the indicated reference pictur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B085-99E8-43C7-8AEF-F5516FFA99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Syntax: P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1219320" y="3124080"/>
            <a:ext cx="731520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lete_pics_info_present_flag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 to 1 specifies that slice header may signal delete operation from the short-term reference picture set included in the picture parameter 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 to 0 specifies that no delete operation is signaled in the slice header for the short-term reference picture set included in the picture parameter 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600200" y="876240"/>
          <a:ext cx="608328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876240"/>
                    <a:ext cx="60832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osed Syntax: Slice Hea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5486400" y="914400"/>
            <a:ext cx="3352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keep_pics_info_present_flag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 to 1 specifies that this slice header includes keep_pic_flag values indicating information regarding keeping or deleting short term reference pictures from the reference picture set with index short_term_ref_pic_set_idx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 to 0 specifies that this slice header does not include information regarding keeping or deleting short term reference pictures from the reference picture set with index short_term_ref_pic_set_idx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04920" y="1143000"/>
          <a:ext cx="496080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49608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Content Placeholder 2"/>
          <p:cNvSpPr/>
          <p:nvPr/>
        </p:nvSpPr>
        <p:spPr>
          <a:xfrm>
            <a:off x="609480" y="4648320"/>
            <a:ext cx="8077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keep_pic_flag[j]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 to 1 specifies that the corresponding j th short term reference picture from the reference picture set in the picture parameter set with index short_term_ref_pic_set_idx should be kep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 to 0 specifies that the corresponding j th short term reference picture from the reference picture set in the picture parameter set with index short_term_ref_pic_set_idx should be deleted (omitted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Case U1 Example (1/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1: Signaling RPS for picture in first GOP after RAP  (e.g. use case 2.1 in JCTVC-G1036d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first GOP after random access point some of the reference pictures indicated in RPS are not availa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n be signaled efficiently using our proposed meth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n example for first GO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icture with POC 4 the reference picture set {-4, 4} can be signaled efficiently by referring to RPS {-4,-6,4} sent in PPS and signaling a delete for -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will be more efficient than signaling the new correct RPS  {-4,4} in slice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D8BA-66D6-4A77-B82E-BCB5DEDACD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Case U1 Example (2/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GOP (also applies to first GOP after a R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49AF-534F-460A-8928-8F5E667985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083280" cy="3606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5626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Case U2 Example (1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2: Signaling RPS via a delete operation on a previous signaled RPS for the case where a reference picture was lost (e.g. use case 3.3 in JCTVC-G1036d03 and similar use case in non low delay cond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Any Picture Lo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2AB2-13B5-424A-9558-151A16F7CC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3880" y="2971800"/>
          <a:ext cx="6083280" cy="35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971800"/>
                    <a:ext cx="608328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Case U2 Example (2/3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icture Loss/ Corruption: Assume picture with POC 6 was received corrupted/ lost at the decoder, this was signaled by decoder by feedback to the encoder and encoder then did not use picture 6 as reference picture when encoding next GOP – including pictures with POC 10, 12,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A8FA-B997-4E60-9FA8-4A4B025471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23880" y="2959200"/>
          <a:ext cx="6083280" cy="351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959200"/>
                    <a:ext cx="6083280" cy="35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8:33:39Z</dcterms:created>
  <dc:creator>lkerofsky</dc:creator>
  <dc:description/>
  <dc:language>en-US</dc:language>
  <cp:lastModifiedBy>Sachin Deshpande</cp:lastModifiedBy>
  <dcterms:modified xsi:type="dcterms:W3CDTF">2012-02-01T00:17:01Z</dcterms:modified>
  <cp:revision>949</cp:revision>
  <dc:subject/>
  <dc:title>Slide 1</dc:title>
</cp:coreProperties>
</file>