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B93F-32DE-41D2-B3BB-30C3CC24A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スライド番号プレースホルダ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D997-4048-4F8E-9F77-BAEC7CF7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D44E-6BEB-4C52-8B38-203C5D4537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59E1-AE57-4B81-93F4-AD479C4655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3404-B97F-4B52-BF0A-1A92B83C37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C457-B9A3-4FEC-95DB-4DE760D6B6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62C6-ECA9-4320-8351-16E661AA2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943B-5329-4E98-B0D4-B0D4782BA5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29C2-BDC4-44C3-A8C1-89077DF8E3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2FC0-EFFE-4547-B416-DE7F47DD6B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2556-E41A-4915-90CB-93B17E829F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38A6-768C-43B9-9DC0-66426871B1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A493-86CF-4D8A-99B3-033B8A097E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9C52-ACB2-4555-A221-3DE62ABC65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6505F-4850-4678-85C4-480BC28A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74129-B6F4-4389-BFE5-0B5BFAD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FD03B-408B-4E7D-98E6-4DB3D5B9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19233-DBD9-440C-97B8-87E59DD8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7E455-4BAF-464C-B169-3700BA13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6A527-56A5-4893-B5A4-F2C32A56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B6432-DE5D-4552-95BF-74C0A5B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CB7E9-84EC-47BA-856F-FAD4776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6CD11-4EE3-4575-9657-5BB560B0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9612D-7526-4E5A-B149-58ACFE44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9D31F-60DA-40B0-8862-B9F2EBB2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FC0AE-AB4C-4EC5-B336-ACA6436C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C3AC-E377-43F2-A395-07D4490963F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JCTVC-H04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55A4-805D-4562-B564-225692F9886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3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メイリオ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2340000"/>
            <a:ext cx="797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entury Gothic"/>
              </a:rPr>
              <a:t>Harmonization of number of ALF classes between RA and BA modes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20720" y="306036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hsan Maani, Ali Tabatabai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20720" y="431928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Proposal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JCTVC-H0409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メイリオ"/>
              </a:rPr>
              <a:t>Jan  31 2012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HM5 ALF Classifica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16 classes for Region Adaptive (RA) mode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15 classed for Block Adaptive (BA) mode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Since the rest of the ALF code (both encoder and decoder) is shared between RA and BA modes, many branches should be included in different parts of the code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This contribution does not suggest a particular number (8, 15 , or 16) of classes, but rather suggests to use the same number of classes for the two mod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680F-59EF-44A2-AD06-D968B16F341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ALF BA Classifica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25280" y="3976560"/>
            <a:ext cx="880272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Merge the direction of the blocks with no activity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ince they have no direction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This can be done by a small table or by checking the activity and skip direction calculation when zero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aClassTable[direction][activity]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961A-6B1D-4D8A-8591-0AC5FFF71AF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8"/>
          <p:cNvGrpSpPr/>
          <p:nvPr/>
        </p:nvGrpSpPr>
        <p:grpSpPr>
          <a:xfrm>
            <a:off x="512640" y="1801800"/>
            <a:ext cx="3704400" cy="2340360"/>
            <a:chOff x="512640" y="1801800"/>
            <a:chExt cx="3704400" cy="2340360"/>
          </a:xfrm>
        </p:grpSpPr>
        <p:sp>
          <p:nvSpPr>
            <p:cNvPr id="224" name="Rectangle 5"/>
            <p:cNvSpPr/>
            <p:nvPr/>
          </p:nvSpPr>
          <p:spPr>
            <a:xfrm>
              <a:off x="1223640" y="2260440"/>
              <a:ext cx="479520" cy="37620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1728360" y="2260440"/>
              <a:ext cx="479520" cy="37620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2234880" y="2257200"/>
              <a:ext cx="479520" cy="37620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2739960" y="2260440"/>
              <a:ext cx="480960" cy="37620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3255840" y="2257200"/>
              <a:ext cx="479520" cy="37620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>
              <a:off x="1220400" y="2781000"/>
              <a:ext cx="479520" cy="3776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>
              <a:off x="1734840" y="2781000"/>
              <a:ext cx="480960" cy="3776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>
              <a:off x="2241360" y="2777760"/>
              <a:ext cx="479520" cy="3776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2747880" y="2781000"/>
              <a:ext cx="479520" cy="3776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3262320" y="2777760"/>
              <a:ext cx="479520" cy="3776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>
              <a:off x="1220400" y="3287520"/>
              <a:ext cx="479520" cy="3776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>
              <a:off x="1734840" y="3287520"/>
              <a:ext cx="480960" cy="3776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2241360" y="3284280"/>
              <a:ext cx="479520" cy="3776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2747880" y="3287520"/>
              <a:ext cx="479520" cy="3776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>
              <a:off x="3262320" y="3284280"/>
              <a:ext cx="479520" cy="3776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GP創英角ｺﾞｼｯｸUB"/>
                  <a:ea typeface="HGP創英角ｺﾞｼｯｸUB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Straight Arrow Connector 22"/>
            <p:cNvCxnSpPr/>
            <p:nvPr/>
          </p:nvCxnSpPr>
          <p:spPr>
            <a:xfrm>
              <a:off x="781920" y="2120760"/>
              <a:ext cx="3349440" cy="2160"/>
            </a:xfrm>
            <a:prstGeom prst="straightConnector1">
              <a:avLst/>
            </a:prstGeom>
            <a:ln w="31680">
              <a:solidFill>
                <a:srgbClr val="0d0d0d"/>
              </a:solidFill>
              <a:miter/>
              <a:headEnd len="med" type="oval" w="med"/>
              <a:tailEnd len="lg" type="stealth" w="lg"/>
            </a:ln>
          </p:spPr>
        </p:cxnSp>
        <p:cxnSp>
          <p:nvCxnSpPr>
            <p:cNvPr id="240" name="Straight Arrow Connector 24"/>
            <p:cNvCxnSpPr/>
            <p:nvPr/>
          </p:nvCxnSpPr>
          <p:spPr>
            <a:xfrm flipH="1">
              <a:off x="945360" y="2009160"/>
              <a:ext cx="2160" cy="1656360"/>
            </a:xfrm>
            <a:prstGeom prst="straightConnector1">
              <a:avLst/>
            </a:prstGeom>
            <a:ln w="31680">
              <a:solidFill>
                <a:srgbClr val="0d0d0d"/>
              </a:solidFill>
              <a:miter/>
              <a:headEnd len="med" type="oval" w="med"/>
              <a:tailEnd len="lg" type="stealth" w="lg"/>
            </a:ln>
          </p:spPr>
        </p:cxnSp>
        <p:sp>
          <p:nvSpPr>
            <p:cNvPr id="241" name="TextBox 26"/>
            <p:cNvSpPr/>
            <p:nvPr/>
          </p:nvSpPr>
          <p:spPr>
            <a:xfrm>
              <a:off x="1201680" y="1801800"/>
              <a:ext cx="30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dobe Arabic"/>
                  <a:ea typeface="Adobe Arabic"/>
                </a:rPr>
                <a:t>Quantized block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27"/>
            <p:cNvSpPr/>
            <p:nvPr/>
          </p:nvSpPr>
          <p:spPr>
            <a:xfrm rot="16200000">
              <a:off x="-262800" y="2967480"/>
              <a:ext cx="195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dobe Arabic"/>
                  <a:ea typeface="Adobe Arabic"/>
                </a:rPr>
                <a:t>Block dir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Box 29"/>
          <p:cNvSpPr/>
          <p:nvPr/>
        </p:nvSpPr>
        <p:spPr>
          <a:xfrm>
            <a:off x="1438200" y="14000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HM 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0"/>
          <p:cNvSpPr/>
          <p:nvPr/>
        </p:nvSpPr>
        <p:spPr>
          <a:xfrm>
            <a:off x="6478560" y="1339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6284880" y="2319480"/>
            <a:ext cx="479520" cy="3776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6791400" y="2316240"/>
            <a:ext cx="479520" cy="3776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5"/>
          <p:cNvSpPr/>
          <p:nvPr/>
        </p:nvSpPr>
        <p:spPr>
          <a:xfrm>
            <a:off x="7296120" y="2319480"/>
            <a:ext cx="479520" cy="3776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6"/>
          <p:cNvSpPr/>
          <p:nvPr/>
        </p:nvSpPr>
        <p:spPr>
          <a:xfrm>
            <a:off x="7812000" y="2316240"/>
            <a:ext cx="479520" cy="3776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6291360" y="2841480"/>
            <a:ext cx="479160" cy="378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6797520" y="2838600"/>
            <a:ext cx="479520" cy="3776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7302600" y="2841480"/>
            <a:ext cx="479160" cy="378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7818480" y="2838600"/>
            <a:ext cx="479520" cy="3776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775480" y="2320920"/>
            <a:ext cx="479160" cy="140508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291360" y="3348000"/>
            <a:ext cx="479160" cy="378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797520" y="3344760"/>
            <a:ext cx="479520" cy="378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7302600" y="3348000"/>
            <a:ext cx="479160" cy="378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7818480" y="3344760"/>
            <a:ext cx="479520" cy="378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47"/>
          <p:cNvCxnSpPr/>
          <p:nvPr/>
        </p:nvCxnSpPr>
        <p:spPr>
          <a:xfrm>
            <a:off x="5338800" y="2181240"/>
            <a:ext cx="3347280" cy="2160"/>
          </a:xfrm>
          <a:prstGeom prst="straightConnector1">
            <a:avLst/>
          </a:prstGeom>
          <a:ln w="31680">
            <a:solidFill>
              <a:srgbClr val="0d0d0d"/>
            </a:solidFill>
            <a:miter/>
            <a:headEnd len="med" type="oval" w="med"/>
            <a:tailEnd len="lg" type="stealth" w="lg"/>
          </a:ln>
        </p:spPr>
      </p:cxnSp>
      <p:cxnSp>
        <p:nvCxnSpPr>
          <p:cNvPr id="259" name="Straight Arrow Connector 48"/>
          <p:cNvCxnSpPr/>
          <p:nvPr/>
        </p:nvCxnSpPr>
        <p:spPr>
          <a:xfrm flipH="1">
            <a:off x="5501520" y="2070000"/>
            <a:ext cx="2520" cy="1656720"/>
          </a:xfrm>
          <a:prstGeom prst="straightConnector1">
            <a:avLst/>
          </a:prstGeom>
          <a:ln w="31680">
            <a:solidFill>
              <a:srgbClr val="0d0d0d"/>
            </a:solidFill>
            <a:miter/>
            <a:headEnd len="med" type="oval" w="med"/>
            <a:tailEnd len="lg" type="stealth" w="lg"/>
          </a:ln>
        </p:spPr>
      </p:cxnSp>
      <p:sp>
        <p:nvSpPr>
          <p:cNvPr id="260" name="TextBox 49"/>
          <p:cNvSpPr/>
          <p:nvPr/>
        </p:nvSpPr>
        <p:spPr>
          <a:xfrm>
            <a:off x="5757480" y="186048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Arabic"/>
                <a:ea typeface="Adobe Arabic"/>
              </a:rPr>
              <a:t>Quantized block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0"/>
          <p:cNvSpPr/>
          <p:nvPr/>
        </p:nvSpPr>
        <p:spPr>
          <a:xfrm rot="16200000">
            <a:off x="4278960" y="302832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Arabic"/>
                <a:ea typeface="Adobe Arabic"/>
              </a:rPr>
              <a:t>Block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8315280" y="2320920"/>
            <a:ext cx="479520" cy="3762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8321760" y="2841480"/>
            <a:ext cx="479520" cy="378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8321760" y="3348000"/>
            <a:ext cx="479520" cy="378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3AA8-2913-4023-924C-14BB2744062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192320" y="1785960"/>
          <a:ext cx="2844720" cy="3914640"/>
        </p:xfrm>
        <a:graphic>
          <a:graphicData uri="http://schemas.openxmlformats.org/drawingml/2006/table">
            <a:tbl>
              <a:tblPr/>
              <a:tblGrid>
                <a:gridCol w="825480"/>
                <a:gridCol w="672840"/>
                <a:gridCol w="673200"/>
                <a:gridCol w="6732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099040" y="1785960"/>
          <a:ext cx="2844720" cy="391464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284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ehsan</cp:lastModifiedBy>
  <dcterms:modified xsi:type="dcterms:W3CDTF">2012-02-01T17:18:51Z</dcterms:modified>
  <cp:revision>174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