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0ACC-90AB-47E3-BD14-FE18E4DF8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78F2-240E-4D1C-A7DA-5A79F721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3175-2A2F-4BBB-A953-6E85D58E1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8076-E1B4-4C5E-8DD5-030496ED2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790A-2EC2-4516-AF17-1F419455E8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AD7F-81F2-45C9-833E-082C61D08B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8AF6-4ABC-4D6D-8C7D-2839B9CB7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59D1-1CF2-4EC1-8C7C-B759838149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1097-070E-4961-BC8E-C74D07981A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E8A9-D001-407D-ADFE-812618E576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B47E-6351-47E2-A1B1-D1583CC59A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D1B7-CA8D-47D1-B4FA-BD23626AE8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29B7-65DB-408D-BB5C-BF284A52A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FB87-6EEE-48D1-812B-E9B8E8165D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9B5A-1811-4129-966F-2358A6DB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BE11E-013A-4531-B12B-BE3BD0B8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CFCAD-C016-4DEC-A579-52933DEF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5957B-1601-4C78-9743-A2711055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DC5E7-38D6-4053-AA61-B6789B48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285C0-4CBF-4703-B8C0-ECEEFB1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EF37B-E9B3-4A54-A766-9EF9256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A92D0-FE67-4B98-8355-20F017B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7F006-AAEB-450F-B04E-1E071EE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DDE9E-A155-4183-865F-23E19A9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21B6-E700-48CB-A7DA-7734B340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EC33-82E4-410A-91C4-08333174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BB1-903A-4560-A001-9FFB12DC8C4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H04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CBC-7670-476A-9470-C1AA394B2EA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700360"/>
            <a:ext cx="829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2f2f2"/>
                </a:solidFill>
                <a:latin typeface="Century Gothic"/>
              </a:rPr>
              <a:t>Intra mode clean up: </a:t>
            </a:r>
            <a:br>
              <a:rPr sz="3600"/>
            </a:br>
            <a:r>
              <a:rPr b="0" lang="en-CA" sz="3600" spc="-1" strike="noStrike">
                <a:solidFill>
                  <a:srgbClr val="f2f2f2"/>
                </a:solidFill>
                <a:latin typeface="Century Gothic"/>
              </a:rPr>
              <a:t>coding using logical mode numbering and its extension to 3MPM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492360"/>
            <a:ext cx="77025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hsan Maani, Ali Tabataba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535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H0407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Jan  31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Cleaner design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de numbers have clear meaning (systematic naming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Simple mapping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mple converting modes from 35 to 18 (or 19) for 4x4 PU ( </a:t>
            </a:r>
            <a:r>
              <a:rPr b="0" lang="en-US" sz="1800" spc="-1" strike="noStrike">
                <a:solidFill>
                  <a:srgbClr val="000000"/>
                </a:solidFill>
                <a:latin typeface="Gill Sans MT Condensed"/>
                <a:ea typeface="Consolas"/>
              </a:rPr>
              <a:t>clearing LS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Removal of several look-up tabl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 Condensed"/>
                <a:ea typeface="Consolas"/>
              </a:rPr>
              <a:t>aucIntraDirToScanIdx, m_aucIntraFilter, g_aucAngIntraModeOrder, g_aucDCTDSTMode_Hor, g_aucDCTDSTMode_Ver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Simplifying Fast Intra Mode Decision Algorithm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ce modes have clear names, various FMD algorithms can be envisaged -&gt; e.g., a hierarchical approach (in analogy to fast motion estimation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Simple extension to 3 MPM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rings coding gain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C12-3BED-432C-947B-3F1C1F39D75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HM5 Luma Intra Mode Number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Calibri"/>
              </a:rPr>
              <a:t>Bit stream 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mode number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meaning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herited from AVC. Supposedly sorted in their occurrence frequenc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not true in HEVC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Calibri"/>
              </a:rPr>
              <a:t>Logical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mode number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ningful mode numbers. Similar directions have close numbers.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Because bit stream numbers have no meaning many look-up tables have to be inserted in the code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MD Scan, Intra Smoothing, Intra Prediction, MD Transform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1440-21BC-42A7-AA8B-8031C909C3B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Benefits of Logical Mode Number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Cleaner design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de numbers have clear meaning (systematic naming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Simple mapping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mple converting modes from 35 to 18 (or 19) for 4x4 PU ( </a:t>
            </a:r>
            <a:r>
              <a:rPr b="0" lang="en-US" sz="1800" spc="-1" strike="noStrike">
                <a:solidFill>
                  <a:srgbClr val="000000"/>
                </a:solidFill>
                <a:latin typeface="Gill Sans MT Condensed"/>
                <a:ea typeface="Consolas"/>
              </a:rPr>
              <a:t>clear LS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Removal of several look-up tabl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 Condensed"/>
                <a:ea typeface="Consolas"/>
              </a:rPr>
              <a:t>aucIntraDirToScanIdx, m_aucIntraFilter, g_aucAngIntraModeOrder, g_aucDCTDSTMode_Hor, g_aucDCTDSTMode_Ver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Simplifying Fast Intra Mode Decision Algorithm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ce modes have clear names, various FMD algorithms can be envisaged -&gt; e.g., a hierarchical approach (in analogy to fast motion estimation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acilitating other algorithm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eighboring and perpendicular modes can be easily derived. This simplifies some algorithms such as 3 MPM algorithm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AA1F-DDE1-409D-896F-BC979414EC5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roposed Intra Mode Nam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C059-542E-4785-A645-75D34A0413F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"/>
          <p:cNvGraphicFramePr/>
          <p:nvPr/>
        </p:nvGraphicFramePr>
        <p:xfrm>
          <a:off x="4599000" y="1798560"/>
          <a:ext cx="467532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9000" y="1798560"/>
                    <a:ext cx="467532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 txBox="1"/>
          <p:nvPr/>
        </p:nvSpPr>
        <p:spPr>
          <a:xfrm>
            <a:off x="125280" y="1412640"/>
            <a:ext cx="458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ystematic numbering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4x4 PUs only support even angular number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Simple mapping from 35 modes to 19 for 4x4 Pu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Calibri"/>
                <a:ea typeface="Calibri"/>
              </a:rPr>
              <a:t>Current HM5 mapping  to planar is not accurate (just a patch-up solution)</a:t>
            </a: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Removal of several look-up tables and replacing them with simple logic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  <a:ea typeface="Consolas"/>
              </a:rPr>
              <a:t>aucIntraDirToScanIdx[5][36]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  <a:ea typeface="Consolas"/>
              </a:rPr>
              <a:t>m_aucIntraFilter[5][36]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  <a:ea typeface="Consolas"/>
              </a:rPr>
              <a:t>g_aucAngIntraModeOrder[36]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  <a:ea typeface="Consolas"/>
              </a:rPr>
              <a:t>g_aucDCTDSTMode_Hor[36]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  <a:ea typeface="Consolas"/>
              </a:rPr>
              <a:t>g_aucDCTDSTMode_Ver[36]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4837680" y="149076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: Planar, 1: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Intra Mode Renaming 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C5B4-82FD-4FD0-A429-F7F5658A6F5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019240" y="1836720"/>
          <a:ext cx="4864320" cy="193032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125280" y="4073040"/>
            <a:ext cx="880272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Difference with HM5.0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dified Intra Mode Nam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 Modes for 4x4 PUs (to have a symmetric solution – no gain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fferent mapping from 35 to 19 modes for 4x4 PU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Extension to 3 MPM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Why 3 MPM?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mplified remaining mode coding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FL codes </a:t>
            </a: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can be used for remaining modes of all PU size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ing the new Intra mode naming, computation of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MPM is simple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does not need a look-up table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ding gain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About 0.3%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additional complexity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No additional context, or memory requirement – jus a few simple operation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5BE-66F8-4ED6-85FC-1D427AB791E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mputation/Decoding of 3 MPM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3AC4-1444-4967-9806-A69B99BB40D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5280" y="1486080"/>
          <a:ext cx="8802720" cy="1126800"/>
        </p:xfrm>
        <a:graphic>
          <a:graphicData uri="http://schemas.openxmlformats.org/drawingml/2006/table">
            <a:tbl>
              <a:tblPr/>
              <a:tblGrid>
                <a:gridCol w="3246480"/>
                <a:gridCol w="5556240"/>
              </a:tblGrid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ighbouring modes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Ms (three MP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olas"/>
                          <a:ea typeface="Times New Roman"/>
                        </a:rPr>
                        <a:t>iLeftIntraDir == iAboveIntr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olas"/>
                          <a:ea typeface="Times New Roman"/>
                        </a:rPr>
                        <a:t>iLeftIntraDir, iLeftIntraDir-  , iLeftIntraDir+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olas"/>
                          <a:ea typeface="Times New Roman"/>
                        </a:rPr>
                        <a:t>iLeftIntraDir != iAboveIntr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olas"/>
                          <a:ea typeface="Times New Roman"/>
                        </a:rPr>
                        <a:t>iLeftIntraDir, iAboveIntraDir, Planar/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Object 2"/>
          <p:cNvGraphicFramePr/>
          <p:nvPr/>
        </p:nvGraphicFramePr>
        <p:xfrm>
          <a:off x="0" y="0"/>
          <a:ext cx="14292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429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"/>
          <p:cNvGraphicFramePr/>
          <p:nvPr/>
        </p:nvGraphicFramePr>
        <p:xfrm>
          <a:off x="0" y="0"/>
          <a:ext cx="14292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429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3"/>
          <p:cNvGraphicFramePr/>
          <p:nvPr/>
        </p:nvGraphicFramePr>
        <p:xfrm>
          <a:off x="6635880" y="1828800"/>
          <a:ext cx="2314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1828800"/>
                    <a:ext cx="2314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4"/>
          <p:cNvGraphicFramePr/>
          <p:nvPr/>
        </p:nvGraphicFramePr>
        <p:xfrm>
          <a:off x="8435880" y="1838160"/>
          <a:ext cx="231840" cy="29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5880" y="1838160"/>
                    <a:ext cx="2318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Box 11"/>
          <p:cNvSpPr/>
          <p:nvPr/>
        </p:nvSpPr>
        <p:spPr>
          <a:xfrm>
            <a:off x="360000" y="2743200"/>
            <a:ext cx="274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2 for 4x4 PU size and 1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236520" y="2724120"/>
          <a:ext cx="23184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520" y="2724120"/>
                    <a:ext cx="2318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3867120" y="3191040"/>
          <a:ext cx="5221440" cy="30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7120" y="3191040"/>
                    <a:ext cx="52214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Box 15"/>
          <p:cNvSpPr/>
          <p:nvPr/>
        </p:nvSpPr>
        <p:spPr>
          <a:xfrm>
            <a:off x="317160" y="444960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Caslon Pro"/>
              </a:rPr>
              <a:t>Decoding tree of 3 MP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1095480" y="4202280"/>
            <a:ext cx="7383240" cy="2125440"/>
          </a:xfrm>
          <a:prstGeom prst="rect">
            <a:avLst/>
          </a:prstGeom>
          <a:solidFill>
            <a:srgbClr val="7030a0">
              <a:alpha val="29000"/>
            </a:srgbClr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1095480" y="4203720"/>
            <a:ext cx="763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0] = iLeftIntraD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1] = iAboveIntraD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f (iLeftIntraDir &amp;&amp; iAboveIntraDir ) //angular or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2] = PLANAR_ID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2] =  (iLeftIntraDir+iAboveIntraDir)&lt;2? VER_IDX : DC_ID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1095480" y="1449360"/>
            <a:ext cx="7383240" cy="2319480"/>
          </a:xfrm>
          <a:prstGeom prst="rect">
            <a:avLst/>
          </a:prstGeom>
          <a:solidFill>
            <a:srgbClr val="003366">
              <a:alpha val="29000"/>
            </a:srgbClr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Appendix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49A7-062E-4C71-A643-B080296E735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1302480" y="1460520"/>
            <a:ext cx="6490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f (iLeftIntraDir &gt;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Inc = (PU4x4 ? 2 : 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0] = iLeftIntraD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LeftIntraDir-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1] = 2 + ((iLeftIntraDir-iInc) &amp; 0b111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2] = 2 + ((iLeftIntraDir+iInc) &amp; 0b111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0] = PLANAR_IDX; uiIntraDirPred[1] = DC_ID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uiIntraDirPred[2] = VER_ID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095480" y="111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  <a:ea typeface="Times New Roman"/>
              </a:rPr>
              <a:t>iLeftIntraDir == iAboveIntra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1095480" y="3868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  <a:ea typeface="Times New Roman"/>
              </a:rPr>
              <a:t>iLeftIntraDir != iAboveIntra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 for 3 MPM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18D-4E9A-4ED3-AFA1-AE827536A5A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139840" y="2247840"/>
          <a:ext cx="4864320" cy="274320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2" name="TextBox 6"/>
          <p:cNvSpPr/>
          <p:nvPr/>
        </p:nvSpPr>
        <p:spPr>
          <a:xfrm>
            <a:off x="1980720" y="5048280"/>
            <a:ext cx="328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fornian FB"/>
              </a:rPr>
              <a:t>No additional context (compared to HM5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ehsan</cp:lastModifiedBy>
  <dcterms:modified xsi:type="dcterms:W3CDTF">2012-02-05T00:17:42Z</dcterms:modified>
  <cp:revision>213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