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GP創英角ｺﾞｼｯｸUB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7DD6-3C97-4C6D-BF68-6E28E8F4B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スライド番号プレースホルダ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00EB-6E61-4627-AC94-21A5A6497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AD604-65BD-486C-9690-70B3103E026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BD7A0-E881-4FFA-8C3E-CF97FC71D2A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5AEEF-B275-414B-8FCC-8CD77D86173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9FB55-2515-4243-B43F-ADCAF63474E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326E7-5FEB-4277-A7A8-47AE7B6034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38AFC-6100-407A-9D40-494404BE03C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499F0-E78E-4459-88B0-863265286C9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B7255-7375-4D30-9F78-A9A0653DEC1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5708C-9EC6-487A-8C07-4F26D7ED305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DBEDA-7381-4344-B9DD-938217ECAA3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7A011-6EC8-4C73-81D8-27B058CC838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93106-1BD3-401B-9E38-1FF9F7B43BA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297C0-BE86-49E8-999B-80A93EA51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B39AE-F147-41ED-B8BD-544031C3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766F9-E08D-4F81-AF58-8AE21189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8F649-B232-43E2-B327-60EE931A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A07ED-4BD7-4D6C-AD9D-B8934A7C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2733F2-F191-4563-BF77-7223A996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B0FDB-3BFD-48F1-817C-E107E9CA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4C53A-03B2-4F6A-BCE8-F4E15D4E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21F75-39AA-4347-99E1-DBD07E48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4F9B6-5ECA-4449-AEAB-66FCE694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7D687-9169-4FE2-A5A1-805F9354E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726E9-57F6-44FF-AC97-4CA4AADE2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23" descr="GBM_top_4-3.jpg"/>
          <p:cNvPicPr/>
          <p:nvPr/>
        </p:nvPicPr>
        <p:blipFill>
          <a:blip r:embed="rId2"/>
          <a:srcRect l="0" t="0" r="285" b="375"/>
          <a:stretch/>
        </p:blipFill>
        <p:spPr>
          <a:xfrm>
            <a:off x="-6480" y="0"/>
            <a:ext cx="9153720" cy="686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図 23" descr="GBM_top_4-3.jpg"/>
          <p:cNvPicPr/>
          <p:nvPr/>
        </p:nvPicPr>
        <p:blipFill>
          <a:blip r:embed="rId2"/>
          <a:srcRect l="0" t="0" r="285" b="375"/>
          <a:stretch/>
        </p:blipFill>
        <p:spPr>
          <a:xfrm>
            <a:off x="-6480" y="0"/>
            <a:ext cx="9153720" cy="686268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36" descr="16_9_logo位置0902w"/>
          <p:cNvPicPr/>
          <p:nvPr/>
        </p:nvPicPr>
        <p:blipFill>
          <a:blip r:embed="rId3"/>
          <a:stretch/>
        </p:blipFill>
        <p:spPr>
          <a:xfrm>
            <a:off x="7932600" y="276120"/>
            <a:ext cx="878040" cy="30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正方形/長方形 22"/>
          <p:cNvSpPr/>
          <p:nvPr/>
        </p:nvSpPr>
        <p:spPr>
          <a:xfrm>
            <a:off x="-1440" y="-111240"/>
            <a:ext cx="9142200" cy="642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0" y="6315120"/>
            <a:ext cx="9140760" cy="54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3"/>
          <p:cNvSpPr/>
          <p:nvPr/>
        </p:nvSpPr>
        <p:spPr>
          <a:xfrm>
            <a:off x="0" y="0"/>
            <a:ext cx="9140760" cy="54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0" y="6426360"/>
            <a:ext cx="914076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線コネクタ 25"/>
          <p:cNvSpPr/>
          <p:nvPr/>
        </p:nvSpPr>
        <p:spPr>
          <a:xfrm flipH="1">
            <a:off x="430200" y="6473880"/>
            <a:ext cx="1440" cy="216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6" descr="16_9_logo位置0902w"/>
          <p:cNvPicPr/>
          <p:nvPr/>
        </p:nvPicPr>
        <p:blipFill>
          <a:blip r:embed="rId2"/>
          <a:stretch/>
        </p:blipFill>
        <p:spPr>
          <a:xfrm>
            <a:off x="8175600" y="144360"/>
            <a:ext cx="773280" cy="265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sldNum" idx="1"/>
          </p:nvPr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6439-3DB6-4ED2-BD8B-5CF2204F9018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rPr>
              <a:t>JCTVC-H040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正方形/長方形 22"/>
          <p:cNvSpPr/>
          <p:nvPr/>
        </p:nvSpPr>
        <p:spPr>
          <a:xfrm>
            <a:off x="1440" y="0"/>
            <a:ext cx="9142560" cy="642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0" y="6426360"/>
            <a:ext cx="914076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6" descr="16_9_logo位置0902w"/>
          <p:cNvPicPr/>
          <p:nvPr/>
        </p:nvPicPr>
        <p:blipFill>
          <a:blip r:embed="rId2"/>
          <a:stretch/>
        </p:blipFill>
        <p:spPr>
          <a:xfrm>
            <a:off x="8175600" y="144360"/>
            <a:ext cx="773280" cy="265320"/>
          </a:xfrm>
          <a:prstGeom prst="rect">
            <a:avLst/>
          </a:prstGeom>
          <a:ln w="0">
            <a:noFill/>
          </a:ln>
        </p:spPr>
      </p:pic>
      <p:sp>
        <p:nvSpPr>
          <p:cNvPr id="122" name="直線コネクタ 18"/>
          <p:cNvSpPr/>
          <p:nvPr/>
        </p:nvSpPr>
        <p:spPr>
          <a:xfrm flipH="1">
            <a:off x="430200" y="6473880"/>
            <a:ext cx="1440" cy="216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ftr" idx="3"/>
          </p:nvPr>
        </p:nvSpPr>
        <p:spPr>
          <a:xfrm>
            <a:off x="1260000" y="6473880"/>
            <a:ext cx="5759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rPr>
              <a:t>Department    Copyrigh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4"/>
          </p:nvPr>
        </p:nvSpPr>
        <p:spPr>
          <a:xfrm>
            <a:off x="576000" y="6473880"/>
            <a:ext cx="647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HGP創英角ｺﾞｼｯｸUB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HGP創英角ｺﾞｼｯｸUB"/>
              </a:rPr>
              <a:t>09.10.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5A2D-D825-45C5-927C-56EEE3179253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図 23" descr="GBM_top_4-3.jpg"/>
          <p:cNvPicPr/>
          <p:nvPr/>
        </p:nvPicPr>
        <p:blipFill>
          <a:blip r:embed="rId2"/>
          <a:srcRect l="0" t="0" r="285" b="375"/>
          <a:stretch/>
        </p:blipFill>
        <p:spPr>
          <a:xfrm>
            <a:off x="-6480" y="0"/>
            <a:ext cx="9153720" cy="6862680"/>
          </a:xfrm>
          <a:prstGeom prst="rect">
            <a:avLst/>
          </a:prstGeom>
          <a:ln w="0">
            <a:noFill/>
          </a:ln>
        </p:spPr>
      </p:pic>
      <p:sp>
        <p:nvSpPr>
          <p:cNvPr id="163" name="正方形/長方形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図 9" descr="mblogo_w.pdf"/>
          <p:cNvPicPr/>
          <p:nvPr/>
        </p:nvPicPr>
        <p:blipFill>
          <a:blip r:embed="rId3"/>
          <a:stretch/>
        </p:blipFill>
        <p:spPr>
          <a:xfrm>
            <a:off x="3600360" y="3114720"/>
            <a:ext cx="1943280" cy="658800"/>
          </a:xfrm>
          <a:prstGeom prst="rect">
            <a:avLst/>
          </a:prstGeom>
          <a:ln w="0">
            <a:noFill/>
          </a:ln>
        </p:spPr>
      </p:pic>
      <p:sp>
        <p:nvSpPr>
          <p:cNvPr id="165" name="テキスト ボックス 3"/>
          <p:cNvSpPr/>
          <p:nvPr/>
        </p:nvSpPr>
        <p:spPr>
          <a:xfrm>
            <a:off x="360360" y="6012000"/>
            <a:ext cx="84232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397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7f7f7f"/>
                </a:solidFill>
                <a:latin typeface="Arial"/>
                <a:ea typeface="メイリオ"/>
              </a:rPr>
              <a:t>“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メイリオ"/>
              </a:rPr>
              <a:t>Sony” or “make.believe” is a registered trademark of Sony Corporation.</a:t>
            </a:r>
            <a:br>
              <a:rPr sz="1000"/>
            </a:b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メイリオ"/>
              </a:rPr>
              <a:t>Names of Sony products and services are the registered trademarks and/or trademarks of Sony Corporation or its Group companies.</a:t>
            </a:r>
            <a:br>
              <a:rPr sz="1000"/>
            </a:b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メイリオ"/>
              </a:rPr>
              <a:t>Other company names and product names are the registered trademarks and/or trademarks of the respective compani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GP創英角ｺﾞｼｯｸUB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20720" y="2340000"/>
            <a:ext cx="79740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entury Gothic"/>
              </a:rPr>
              <a:t>Flexible Band Offset Mode in SAO</a:t>
            </a:r>
            <a:endParaRPr b="0" lang="en-US" sz="36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720720" y="3060360"/>
            <a:ext cx="770256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Ehsan Maani, Ohji Nakagami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720720" y="4319280"/>
            <a:ext cx="770256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TC Avant Garde Std Bk"/>
              </a:rPr>
              <a:t>Proposal</a:t>
            </a:r>
            <a:endParaRPr b="0" lang="en-US" sz="14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12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TC Avant Garde Std Bk"/>
              </a:rPr>
              <a:t>JCTVC-H0406</a:t>
            </a:r>
            <a:endParaRPr b="0" lang="en-US" sz="14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720720" y="6048000"/>
            <a:ext cx="77025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TC Avant Garde Std Bk"/>
                <a:ea typeface="メイリオ"/>
              </a:rPr>
              <a:t>Jan  31 2012</a:t>
            </a:r>
            <a:endParaRPr b="0" lang="en-US" sz="1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SAO in HM 5.0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25280" y="1412640"/>
            <a:ext cx="8802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4 Edge Offset (EO) modes 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4 offsets each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2 Band Offset (BO) modes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16 offsets each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  <a:ea typeface="Calibri"/>
              </a:rPr>
              <a:t>Decoder needs a temporary buffer to store offset information. Size of the buffer is proportional to max offsets (16)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  <a:ea typeface="Calibri"/>
              </a:rPr>
              <a:t>Most offsets in BO modes are either zero or have small impact on distortion since not that many pixels in that band -&gt; making the BO mode expensive to select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D46F-8C95-4F0D-9379-5A9257EED643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H04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Proposed changes in SAO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25280" y="1412640"/>
            <a:ext cx="8802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4 Edge Offset (EO) modes 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4 offsets each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1 Band Offset (BO) mode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4 offsets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  <a:ea typeface="Calibri"/>
              </a:rPr>
              <a:t>Simplified solution. Instead of introducing new modes with various offset numbers.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  <a:ea typeface="Calibri"/>
              </a:rPr>
              <a:t>Size of temporary buffer at decoder is reduced by ~75%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  <a:ea typeface="Calibri"/>
              </a:rPr>
              <a:t>BO mode is more affordable and thus selected more often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CE5C-05FD-4628-B477-1213BCC4ED91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H04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25280" y="1412640"/>
            <a:ext cx="8802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  <a:ea typeface="Calibri"/>
              </a:rPr>
              <a:t>“</a:t>
            </a:r>
            <a:r>
              <a:rPr b="0" lang="en-US" sz="2000" spc="-1" strike="noStrike">
                <a:solidFill>
                  <a:srgbClr val="595959"/>
                </a:solidFill>
                <a:latin typeface="Calibri"/>
                <a:ea typeface="Calibri"/>
              </a:rPr>
              <a:t>First band with nonzero offset” is between 0 to 31. FL code is used to transmit.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  <a:ea typeface="Calibri"/>
              </a:rPr>
              <a:t>Encoder selects the 4 bands with the most impact. Distortion impact of an offset only requires a few arithmetic operations since the </a:t>
            </a:r>
            <a:r>
              <a:rPr b="0" i="1" lang="en-US" sz="2000" spc="-1" strike="noStrike">
                <a:solidFill>
                  <a:srgbClr val="00b0f0"/>
                </a:solidFill>
                <a:latin typeface="Calibri"/>
                <a:ea typeface="Calibri"/>
              </a:rPr>
              <a:t>offset</a:t>
            </a:r>
            <a:r>
              <a:rPr b="0" lang="en-US" sz="2000" spc="-1" strike="noStrike">
                <a:solidFill>
                  <a:srgbClr val="595959"/>
                </a:solidFill>
                <a:latin typeface="Calibri"/>
                <a:ea typeface="Calibri"/>
              </a:rPr>
              <a:t>, the </a:t>
            </a:r>
            <a:r>
              <a:rPr b="0" i="1" lang="en-US" sz="2000" spc="-1" strike="noStrike">
                <a:solidFill>
                  <a:srgbClr val="00b0f0"/>
                </a:solidFill>
                <a:latin typeface="Calibri"/>
                <a:ea typeface="Calibri"/>
              </a:rPr>
              <a:t>pixel counts </a:t>
            </a:r>
            <a:r>
              <a:rPr b="0" lang="en-US" sz="2000" spc="-1" strike="noStrike">
                <a:solidFill>
                  <a:srgbClr val="595959"/>
                </a:solidFill>
                <a:latin typeface="Calibri"/>
                <a:ea typeface="Calibri"/>
              </a:rPr>
              <a:t>(in each band), and </a:t>
            </a:r>
            <a:r>
              <a:rPr b="0" i="1" lang="en-US" sz="2000" spc="-1" strike="noStrike">
                <a:solidFill>
                  <a:srgbClr val="00b0f0"/>
                </a:solidFill>
                <a:latin typeface="Calibri"/>
                <a:ea typeface="Calibri"/>
              </a:rPr>
              <a:t>pixel sums </a:t>
            </a:r>
            <a:r>
              <a:rPr b="0" lang="en-US" sz="2000" spc="-1" strike="noStrike">
                <a:solidFill>
                  <a:srgbClr val="595959"/>
                </a:solidFill>
                <a:latin typeface="Calibri"/>
                <a:ea typeface="Calibri"/>
              </a:rPr>
              <a:t>are already known (pre-computed).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Selection of Bands in BO mode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4C25-56D1-443A-9966-333A96D0536C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H04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1"/>
          <a:stretch/>
        </p:blipFill>
        <p:spPr>
          <a:xfrm>
            <a:off x="1752480" y="3867120"/>
            <a:ext cx="6015240" cy="30492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22"/>
          <p:cNvSpPr/>
          <p:nvPr/>
        </p:nvSpPr>
        <p:spPr>
          <a:xfrm>
            <a:off x="3657600" y="3790800"/>
            <a:ext cx="762120" cy="304920"/>
          </a:xfrm>
          <a:prstGeom prst="rect">
            <a:avLst/>
          </a:prstGeom>
          <a:solidFill>
            <a:srgbClr val="ff0000">
              <a:alpha val="49000"/>
            </a:srgbClr>
          </a:solidFill>
          <a:ln cap="rnd" w="1908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Straight Arrow Connector 23"/>
          <p:cNvCxnSpPr/>
          <p:nvPr/>
        </p:nvCxnSpPr>
        <p:spPr>
          <a:xfrm>
            <a:off x="1752480" y="3714840"/>
            <a:ext cx="190584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diamond" w="lg"/>
            <a:tailEnd len="lg" type="stealth" w="lg"/>
          </a:ln>
        </p:spPr>
      </p:cxnSp>
      <p:cxnSp>
        <p:nvCxnSpPr>
          <p:cNvPr id="230" name="Straight Arrow Connector 25"/>
          <p:cNvCxnSpPr/>
          <p:nvPr/>
        </p:nvCxnSpPr>
        <p:spPr>
          <a:xfrm>
            <a:off x="3657240" y="4172040"/>
            <a:ext cx="762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graphicFrame>
        <p:nvGraphicFramePr>
          <p:cNvPr id="231" name="Object 3"/>
          <p:cNvGraphicFramePr/>
          <p:nvPr/>
        </p:nvGraphicFramePr>
        <p:xfrm>
          <a:off x="1569960" y="1863720"/>
          <a:ext cx="5983200" cy="47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69960" y="1863720"/>
                    <a:ext cx="59832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TextBox 27"/>
          <p:cNvSpPr/>
          <p:nvPr/>
        </p:nvSpPr>
        <p:spPr>
          <a:xfrm>
            <a:off x="131400" y="140184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 5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8"/>
          <p:cNvSpPr/>
          <p:nvPr/>
        </p:nvSpPr>
        <p:spPr>
          <a:xfrm>
            <a:off x="287640" y="264780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9"/>
          <p:cNvSpPr/>
          <p:nvPr/>
        </p:nvSpPr>
        <p:spPr>
          <a:xfrm>
            <a:off x="801360" y="3343320"/>
            <a:ext cx="502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Arabic"/>
                <a:ea typeface="Adobe Arabic"/>
              </a:rPr>
              <a:t>First band for which offset is trans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30"/>
          <p:cNvSpPr/>
          <p:nvPr/>
        </p:nvSpPr>
        <p:spPr>
          <a:xfrm>
            <a:off x="2610360" y="4140360"/>
            <a:ext cx="57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Arabic"/>
                <a:ea typeface="Adobe Arabic"/>
              </a:rPr>
              <a:t>4 offsets if transmitted for 4 consecutive 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93BD-C09D-4B14-80BB-3DF85E968E10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H04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604800" y="1793880"/>
          <a:ext cx="2844720" cy="3914640"/>
        </p:xfrm>
        <a:graphic>
          <a:graphicData uri="http://schemas.openxmlformats.org/drawingml/2006/table">
            <a:tbl>
              <a:tblPr/>
              <a:tblGrid>
                <a:gridCol w="825480"/>
                <a:gridCol w="673200"/>
                <a:gridCol w="673200"/>
                <a:gridCol w="672840"/>
              </a:tblGrid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All Intra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A (8bit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9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Random Access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A (8bit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5289480" y="1785960"/>
          <a:ext cx="2844720" cy="3914640"/>
        </p:xfrm>
        <a:graphic>
          <a:graphicData uri="http://schemas.openxmlformats.org/drawingml/2006/table">
            <a:tbl>
              <a:tblPr/>
              <a:tblGrid>
                <a:gridCol w="825480"/>
                <a:gridCol w="673200"/>
                <a:gridCol w="673200"/>
                <a:gridCol w="672840"/>
              </a:tblGrid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Low delay B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1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1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Low delay P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HGP創英角ｺﾞｼｯｸUB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9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3"/>
          <p:cNvSpPr/>
          <p:nvPr/>
        </p:nvSpPr>
        <p:spPr>
          <a:xfrm>
            <a:off x="3454560" y="4175280"/>
            <a:ext cx="2060280" cy="831600"/>
          </a:xfrm>
          <a:prstGeom prst="rect">
            <a:avLst/>
          </a:prstGeom>
          <a:solidFill>
            <a:srgbClr val="003366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2"/>
          <p:cNvSpPr/>
          <p:nvPr/>
        </p:nvSpPr>
        <p:spPr>
          <a:xfrm>
            <a:off x="3865680" y="2400480"/>
            <a:ext cx="2011320" cy="831600"/>
          </a:xfrm>
          <a:prstGeom prst="rect">
            <a:avLst/>
          </a:prstGeom>
          <a:solidFill>
            <a:srgbClr val="003366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400" y="57780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Visual Quality Evaluation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6F86-9DFD-41B3-B8A8-3857115F0D19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H04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246240" y="1687680"/>
            <a:ext cx="3162240" cy="46051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2"/>
          <a:stretch/>
        </p:blipFill>
        <p:spPr>
          <a:xfrm>
            <a:off x="5962680" y="1660680"/>
            <a:ext cx="3181320" cy="4624200"/>
          </a:xfrm>
          <a:prstGeom prst="rect">
            <a:avLst/>
          </a:prstGeom>
          <a:ln w="0">
            <a:noFill/>
          </a:ln>
        </p:spPr>
      </p:pic>
      <p:sp>
        <p:nvSpPr>
          <p:cNvPr id="249" name="TextBox 7"/>
          <p:cNvSpPr/>
          <p:nvPr/>
        </p:nvSpPr>
        <p:spPr>
          <a:xfrm>
            <a:off x="3857040" y="2427120"/>
            <a:ext cx="2114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M 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 percentage: 1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AO partitions:  3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8"/>
          <p:cNvSpPr/>
          <p:nvPr/>
        </p:nvSpPr>
        <p:spPr>
          <a:xfrm>
            <a:off x="3404520" y="4235400"/>
            <a:ext cx="2114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 percentage: 1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AO partitions:  34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9"/>
          <p:cNvSpPr/>
          <p:nvPr/>
        </p:nvSpPr>
        <p:spPr>
          <a:xfrm>
            <a:off x="2824920" y="1274760"/>
            <a:ext cx="379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.PartyScene” frame #44, LowDelayP_HE, QP 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ight Arrow 10"/>
          <p:cNvSpPr/>
          <p:nvPr/>
        </p:nvSpPr>
        <p:spPr>
          <a:xfrm>
            <a:off x="5514840" y="4286160"/>
            <a:ext cx="44784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ight Arrow 11"/>
          <p:cNvSpPr/>
          <p:nvPr/>
        </p:nvSpPr>
        <p:spPr>
          <a:xfrm rot="10800000">
            <a:off x="3419280" y="2530080"/>
            <a:ext cx="446040" cy="485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25280" y="1412640"/>
            <a:ext cx="8802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Simplified solution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armonized number of offset across SAO modes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educed decoder buffer to hold SAO parameters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Coding gain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ding gain for all natural images 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1830-5B09-4E75-8572-86DCBE4FF301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H04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21:41:31Z</dcterms:created>
  <dc:creator>Sony Customer</dc:creator>
  <dc:description/>
  <dc:language>en-US</dc:language>
  <cp:lastModifiedBy>ehsan</cp:lastModifiedBy>
  <dcterms:modified xsi:type="dcterms:W3CDTF">2012-02-01T17:01:59Z</dcterms:modified>
  <cp:revision>170</cp:revision>
  <dc:subject/>
  <dc:title>Sony’s Perspective on the CE Indust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20010AEFE09DCD06140A9660BDD0E512771</vt:lpwstr>
  </property>
  <property fmtid="{D5CDD505-2E9C-101B-9397-08002B2CF9AE}" pid="3" name="Description">
    <vt:lpwstr/>
  </property>
  <property fmtid="{D5CDD505-2E9C-101B-9397-08002B2CF9AE}" pid="4" name="ImageCreateDate">
    <vt:lpwstr/>
  </property>
  <property fmtid="{D5CDD505-2E9C-101B-9397-08002B2CF9AE}" pid="5" name="Published On">
    <vt:lpwstr>2011-03-31T00:00:00Z</vt:lpwstr>
  </property>
  <property fmtid="{D5CDD505-2E9C-101B-9397-08002B2CF9AE}" pid="6" name="Research Categories">
    <vt:lpwstr>;#ALL RESEARCH;#Market Overviews &amp; Share;#Sony Market Research;#ALL CONSUMER ELECTRONICS;#3D;#Blu-ray Disc &amp; DVD;#Digital Imaging;#eBook;#HDTV;#PC/Notebook/Netbook;#Tablets;#ALL BRAND RESEARCH;#Sony;#</vt:lpwstr>
  </property>
  <property fmtid="{D5CDD505-2E9C-101B-9397-08002B2CF9AE}" pid="7" name="Vendor">
    <vt:lpwstr>17</vt:lpwstr>
  </property>
</Properties>
</file>