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AE5-FABC-43FE-8CC7-2336C12B3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862-D7D0-4F16-AC8D-4A5B1711C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E62-7144-4D94-A471-A0D2D3F4C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F75A-31E0-4B92-8938-192D8512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0E3-B7E1-4C73-A462-5501F60A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C05-1C5D-4461-8AAC-AB4E5B38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7B9-24EE-4B01-B3FF-2F169035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5AE2-F55F-49E4-90A2-AADA4866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37FA6-350C-44C7-BC48-8A8C9BA2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F8331-1EF4-40FB-B458-7E8C387B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14CE5-E68F-45BA-8AA3-40887C1F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7B610-0E69-437E-8CE4-FDD54EF4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55476-81FA-4CAA-B6D4-A154F4A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12AF-A865-4258-8AD1-3978950F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F59D-EEC9-47D4-B36C-E7B6A975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BFC79-9621-4506-844C-10A63A6E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8D116-1420-428E-93E7-4143FC63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B412-ED94-405C-95FE-B883FDE2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40A8-96A8-48F6-BC2D-84FFD350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D82-674D-4B7F-88C4-289D714E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552EB-647C-469E-986A-6874B908A3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524D6-C32A-4569-B6E2-473AEEBE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C8FE-293F-4D33-A4DE-D9B9CD93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6D3CE-E20B-460F-87BE-8620655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5B32-3576-44C0-98C5-F5A00C08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3389-5B47-4F4E-A759-33EB8568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F6E4-CC19-401B-8338-8320C106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91173-217F-4FCC-B8BF-29F7D2A5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16398-1DC8-4EB2-88D8-829FC66C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07884-DD16-436A-B7FF-0888F830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D10BD-0D33-4096-887E-C3A512D9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A44BA-301D-46DE-AB4C-A7F3DB69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D71E5-F275-4A22-A152-528424CBAB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191-4F90-4197-A394-EC0D7F20B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63B-6DA6-427D-9670-6F978C43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413-CA0A-4635-86D0-D168BA8D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11F-B95A-4935-8797-A786855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EF6F-4931-4B7F-8470-B09417B83F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CDBE-7BA3-48EC-8D16-7CAAEB70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8A2D-84E3-498E-8F8C-44060800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9FE3-E7E8-41FA-ADF5-B03BDCFA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C1D9-BA1C-4350-9B7F-C752C531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AB8-3391-4A54-B007-FC519AE6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A917-CC01-4DBC-8025-A3C88946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F4E-A229-4802-BDD8-43364AE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CD3A-A8A5-4C21-8974-D15E9635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9822-94EC-4996-BF91-58276538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9823-4ED3-4605-AFCC-61302109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66A5-37FD-430C-88EA-2E5900A4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6D58-0BE1-4DD2-AE3C-CED7BB7F7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F3E70-3FF8-4071-B575-70F2EE08A9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361EAF-C5DB-4C4F-88B9-15439AF8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1EFE6-5032-45CD-9A1C-F2C57EE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622CC-636F-4741-B9CA-DB97211A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E71EF-88FF-4FAA-A732-651C577C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039-0902-4767-BFDA-0BB94B3D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25DC2-CCBD-46A2-B519-19488D38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4EF68-30FF-451F-AC23-43AD4733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6FA82-7646-4B14-A59D-D4D8FDB2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F37ED-3F73-452D-92DB-0D2041CC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489BE0-B18E-407B-86DD-9302B67E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F0564-6DEE-474D-A53C-2CEEF34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3614E-8D0A-450F-821E-FB03B5C411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8902-44BA-42D7-9BEF-03D3745C3207}" type="datetime3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4e5e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e5e6"/>
                </a:solidFill>
                <a:latin typeface="Times New Roman"/>
              </a:rPr>
              <a:t>Vidyo Inc. Proprietary, Confidential &amp; Patent Pending Inform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53B-6AE5-4242-960F-3FB780918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5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9D48-BECA-4E7E-8AA2-1F85BF372D81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Date Placeholder 3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5B3F-A2A9-4D54-A595-2C513A74D817}" type="datetime3">
              <a:rPr b="0" lang="en-US" sz="900" spc="-1" strike="noStrike">
                <a:solidFill>
                  <a:srgbClr val="f2f2f2"/>
                </a:solidFill>
                <a:latin typeface="Arial Narrow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Footer Placeholder 2"/>
          <p:cNvSpPr/>
          <p:nvPr/>
        </p:nvSpPr>
        <p:spPr>
          <a:xfrm>
            <a:off x="1479600" y="6627960"/>
            <a:ext cx="41148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Arial"/>
              </a:rPr>
              <a:t>Vidyo Inc. Proprietary, Confidential &amp; Patent Pending Informatio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956-0B26-4F11-B6DE-A17018608E89}" type="datetime3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4e5e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4e5e6"/>
                </a:solidFill>
                <a:latin typeface="Times New Roman"/>
              </a:rPr>
              <a:t>Vidyo Inc. Proprietary, Confidential &amp; Patent Pend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D901-3D94-4ECB-B034-F8A8DD931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2590920" y="433440"/>
            <a:ext cx="2031840" cy="141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ppt_new blue_title line.jpg"/>
          <p:cNvPicPr/>
          <p:nvPr/>
        </p:nvPicPr>
        <p:blipFill>
          <a:blip r:embed="rId3"/>
          <a:stretch/>
        </p:blipFill>
        <p:spPr>
          <a:xfrm>
            <a:off x="1752480" y="2216160"/>
            <a:ext cx="7010640" cy="146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title_blue hex.jpg"/>
          <p:cNvPicPr/>
          <p:nvPr/>
        </p:nvPicPr>
        <p:blipFill>
          <a:blip r:embed="rId4"/>
          <a:stretch/>
        </p:blipFill>
        <p:spPr>
          <a:xfrm>
            <a:off x="8153280" y="5943600"/>
            <a:ext cx="633600" cy="676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FINAL SIDEBAR2.jpg"/>
          <p:cNvPicPr/>
          <p:nvPr/>
        </p:nvPicPr>
        <p:blipFill>
          <a:blip r:embed="rId5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4"/>
          </p:nvPr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B28A-4E43-454A-984A-F622C39A9821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5670360" y="657180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2f2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Times New Roman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ppt_new blue_title line.jpg"/>
          <p:cNvPicPr/>
          <p:nvPr/>
        </p:nvPicPr>
        <p:blipFill>
          <a:blip r:embed="rId2"/>
          <a:stretch/>
        </p:blipFill>
        <p:spPr>
          <a:xfrm>
            <a:off x="1752480" y="2216160"/>
            <a:ext cx="7010640" cy="14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title_blue hex.jpg"/>
          <p:cNvPicPr/>
          <p:nvPr/>
        </p:nvPicPr>
        <p:blipFill>
          <a:blip r:embed="rId3"/>
          <a:stretch/>
        </p:blipFill>
        <p:spPr>
          <a:xfrm>
            <a:off x="8153280" y="5943600"/>
            <a:ext cx="633600" cy="676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INAL SIDEBAR2.jpg"/>
          <p:cNvPicPr/>
          <p:nvPr/>
        </p:nvPicPr>
        <p:blipFill>
          <a:blip r:embed="rId4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5"/>
          <a:stretch/>
        </p:blipFill>
        <p:spPr>
          <a:xfrm>
            <a:off x="2590920" y="433440"/>
            <a:ext cx="2031840" cy="1415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174" name="Slide Number Placeholder 5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E0F5-6B41-4EE3-9A37-2E13D53DA370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5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80A7-0186-48FF-96BD-0EB7EA4994ED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Date Placeholder 3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0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6"/>
          </p:nvPr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D04B-69F5-4E35-B989-4A4CF2BB71AA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7"/>
          </p:nvPr>
        </p:nvSpPr>
        <p:spPr>
          <a:xfrm>
            <a:off x="5670360" y="657180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2f2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Times New Roman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C:\Documents and Settings\Marty Hollander\My Documents\Vidyo\Marketing\Presentations\New Template Design\Blue Gray\Final\Vidyo_Logo_Vertical_TM.png"/>
          <p:cNvPicPr/>
          <p:nvPr/>
        </p:nvPicPr>
        <p:blipFill>
          <a:blip r:embed="rId2"/>
          <a:stretch/>
        </p:blipFill>
        <p:spPr>
          <a:xfrm>
            <a:off x="7547040" y="431640"/>
            <a:ext cx="1279440" cy="892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NEW TOPBAR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17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8" descr="ppt_new blue_bullet line2.jpg"/>
          <p:cNvPicPr/>
          <p:nvPr/>
        </p:nvPicPr>
        <p:blipFill>
          <a:blip r:embed="rId4"/>
          <a:stretch/>
        </p:blipFill>
        <p:spPr>
          <a:xfrm>
            <a:off x="76320" y="1427040"/>
            <a:ext cx="8762760" cy="74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ppt_new blue_bottom bar.jpg"/>
          <p:cNvPicPr/>
          <p:nvPr/>
        </p:nvPicPr>
        <p:blipFill>
          <a:blip r:embed="rId5"/>
          <a:stretch/>
        </p:blipFill>
        <p:spPr>
          <a:xfrm>
            <a:off x="0" y="6404040"/>
            <a:ext cx="9144000" cy="453960"/>
          </a:xfrm>
          <a:prstGeom prst="rect">
            <a:avLst/>
          </a:prstGeom>
          <a:ln w="0">
            <a:noFill/>
          </a:ln>
        </p:spPr>
      </p:pic>
      <p:sp>
        <p:nvSpPr>
          <p:cNvPr id="309" name="TextBox 10"/>
          <p:cNvSpPr/>
          <p:nvPr/>
        </p:nvSpPr>
        <p:spPr>
          <a:xfrm>
            <a:off x="5518080" y="6608880"/>
            <a:ext cx="29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MS PGothic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8"/>
          </p:nvPr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8EB-C198-44D3-8AAC-318B06A59AD5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dt" idx="9"/>
          </p:nvPr>
        </p:nvSpPr>
        <p:spPr>
          <a:xfrm>
            <a:off x="5670360" y="6571800"/>
            <a:ext cx="106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2f2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Times New Roman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pt_new blue_title line.jpg"/>
          <p:cNvPicPr/>
          <p:nvPr/>
        </p:nvPicPr>
        <p:blipFill>
          <a:blip r:embed="rId2"/>
          <a:stretch/>
        </p:blipFill>
        <p:spPr>
          <a:xfrm>
            <a:off x="1876320" y="4686480"/>
            <a:ext cx="7010640" cy="145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3"/>
          <a:stretch/>
        </p:blipFill>
        <p:spPr>
          <a:xfrm>
            <a:off x="7391520" y="5486400"/>
            <a:ext cx="1600200" cy="114444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0" y="5867280"/>
            <a:ext cx="190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  <a:ea typeface="Arial"/>
              </a:rPr>
              <a:t>Vidyo Inc. Proprietary, Confidential &amp; Patent Pending Informatio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53" name="Picture 9" descr="FINAL SIDEBAR2.jpg"/>
          <p:cNvPicPr/>
          <p:nvPr/>
        </p:nvPicPr>
        <p:blipFill>
          <a:blip r:embed="rId4"/>
          <a:stretch/>
        </p:blipFill>
        <p:spPr>
          <a:xfrm>
            <a:off x="0" y="0"/>
            <a:ext cx="210816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14600" y="2415960"/>
            <a:ext cx="5943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w Class E videoconferencing source conten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2514240" y="41148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onkap Jang, Jill Boyce, Danny Hong, Adeel Abb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dyo In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Background/Objectiv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Concerns about “Deinterlace” artifacts in the existing Class E sequences were raised by JCT participan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Vidyo was asked to capture new replacement Class E sequences without such artifact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 initial test sequence was provided to T. Suzuki, who confirmed that the camera did not create such artifacts, before the provided sequences were captur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FFA-B3D3-4255-A621-8826D1F72B5D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mera Specific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ony EVI-HD7V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pprox. 2M effective pixel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x optical zoo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hutter speed = 1/60 was used for the cap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ain from -3 to +18d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E5D-C7E6-42BB-8EAE-B6BB308C1CB9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ew Sequence Inform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Video conferencing scen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mera was mounted on tripod, no panning or zoom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, 2, and 4 people present in the sequenc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280x</a:t>
            </a: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720 60 fp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 Narrow"/>
              </a:rPr>
              <a:t>Sequenc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 Narrow"/>
              </a:rPr>
              <a:t>Johnny_1280x720_60p.yu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ristenAndSara_1280x720_60p.yu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1680" indent="-28584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ourPeople_1280x720_60p.yu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Encoding bitrates in a similar range, but slightly higher than existing Class E sequenc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E7FA-01C5-4DDD-8387-78B2DA37B266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till images of sequenc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1" name="Content Placeholder 5" descr="johnny-445-1044_1280x720_60p.jpg"/>
          <p:cNvPicPr/>
          <p:nvPr/>
        </p:nvPicPr>
        <p:blipFill>
          <a:blip r:embed="rId1"/>
          <a:srcRect l="0" t="-3482" r="0" b="-3482"/>
          <a:stretch/>
        </p:blipFill>
        <p:spPr>
          <a:xfrm>
            <a:off x="609480" y="1447920"/>
            <a:ext cx="3733920" cy="2247840"/>
          </a:xfrm>
          <a:prstGeom prst="rect">
            <a:avLst/>
          </a:prstGeom>
          <a:ln w="0">
            <a:noFill/>
          </a:ln>
        </p:spPr>
      </p:pic>
      <p:sp>
        <p:nvSpPr>
          <p:cNvPr id="502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AE57-63B8-4F6B-AEB3-F1FA6E64597B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4" name="Picture 6" descr="kristen-and-sara-384-983_1280x720_60p.jpg"/>
          <p:cNvPicPr/>
          <p:nvPr/>
        </p:nvPicPr>
        <p:blipFill>
          <a:blip r:embed="rId2"/>
          <a:stretch/>
        </p:blipFill>
        <p:spPr>
          <a:xfrm>
            <a:off x="4648320" y="1523880"/>
            <a:ext cx="3733560" cy="2103480"/>
          </a:xfrm>
          <a:prstGeom prst="rect">
            <a:avLst/>
          </a:prstGeom>
          <a:ln w="0">
            <a:noFill/>
          </a:ln>
        </p:spPr>
      </p:pic>
      <p:sp>
        <p:nvSpPr>
          <p:cNvPr id="505" name="TextBox 9"/>
          <p:cNvSpPr/>
          <p:nvPr/>
        </p:nvSpPr>
        <p:spPr>
          <a:xfrm>
            <a:off x="1159560" y="36576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Johnny_1280x720_60p.yuv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4898880" y="3657600"/>
            <a:ext cx="31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KristenAndSara_1280x720_60p.yuv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7" name="TextBox 11"/>
          <p:cNvSpPr/>
          <p:nvPr/>
        </p:nvSpPr>
        <p:spPr>
          <a:xfrm>
            <a:off x="3068280" y="617220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ourPeople_1280x720_60p.yuv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8" name="Picture 10" descr="C:\Users\jill\Pictures\FourPeople.jpg"/>
          <p:cNvPicPr/>
          <p:nvPr/>
        </p:nvPicPr>
        <p:blipFill>
          <a:blip r:embed="rId3"/>
          <a:stretch/>
        </p:blipFill>
        <p:spPr>
          <a:xfrm>
            <a:off x="2614680" y="4059360"/>
            <a:ext cx="37335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coding Comparison - H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4F1-01F7-40C1-AA5B-C472D256145F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457200" y="1828800"/>
          <a:ext cx="4038480" cy="3967200"/>
        </p:xfrm>
        <a:graphic>
          <a:graphicData uri="http://schemas.openxmlformats.org/drawingml/2006/table">
            <a:tbl>
              <a:tblPr/>
              <a:tblGrid>
                <a:gridCol w="1130400"/>
                <a:gridCol w="596880"/>
                <a:gridCol w="749160"/>
                <a:gridCol w="520920"/>
                <a:gridCol w="520560"/>
                <a:gridCol w="520560"/>
              </a:tblGrid>
              <a:tr h="180720">
                <a:tc gridSpan="6"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IS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5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47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78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3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nAndS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78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44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19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27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Peop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14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1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64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5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6.5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65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45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73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0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92.5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48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0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85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29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1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03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4648320" y="1828800"/>
          <a:ext cx="4038480" cy="3967200"/>
        </p:xfrm>
        <a:graphic>
          <a:graphicData uri="http://schemas.openxmlformats.org/drawingml/2006/table">
            <a:tbl>
              <a:tblPr/>
              <a:tblGrid>
                <a:gridCol w="1130040"/>
                <a:gridCol w="596880"/>
                <a:gridCol w="749520"/>
                <a:gridCol w="520560"/>
                <a:gridCol w="520920"/>
                <a:gridCol w="520560"/>
              </a:tblGrid>
              <a:tr h="180720">
                <a:tc gridSpan="6"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-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IS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3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.4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nAndS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0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2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3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2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.5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Peop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0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7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7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2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6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4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5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8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7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3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coding Comparison - LC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457200" y="1905120"/>
          <a:ext cx="4038480" cy="3967200"/>
        </p:xfrm>
        <a:graphic>
          <a:graphicData uri="http://schemas.openxmlformats.org/drawingml/2006/table">
            <a:tbl>
              <a:tblPr/>
              <a:tblGrid>
                <a:gridCol w="1130400"/>
                <a:gridCol w="596880"/>
                <a:gridCol w="749160"/>
                <a:gridCol w="520920"/>
                <a:gridCol w="520560"/>
                <a:gridCol w="520560"/>
              </a:tblGrid>
              <a:tr h="181800">
                <a:tc gridSpan="6"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-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IS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98.9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44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27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9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nAndS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89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5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07.3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63.3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Peop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93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9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88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6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81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2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2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22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75.2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81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7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32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4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8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88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3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9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58.0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21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6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8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70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6.3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3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32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2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1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7677-9FCE-466A-95D6-DBAC81678803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800600" y="1905120"/>
          <a:ext cx="4038480" cy="3967200"/>
        </p:xfrm>
        <a:graphic>
          <a:graphicData uri="http://schemas.openxmlformats.org/drawingml/2006/table">
            <a:tbl>
              <a:tblPr/>
              <a:tblGrid>
                <a:gridCol w="1130400"/>
                <a:gridCol w="596880"/>
                <a:gridCol w="749160"/>
                <a:gridCol w="520920"/>
                <a:gridCol w="520560"/>
                <a:gridCol w="520560"/>
              </a:tblGrid>
              <a:tr h="181800">
                <a:tc gridSpan="6"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B-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ISl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b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8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6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8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4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nAndSa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4.4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8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6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8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7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.4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2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Peop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2.2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0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.9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.5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40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.7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2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7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8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5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6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8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.7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9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3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7.73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3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2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8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0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2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.18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3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9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6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.7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4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9.55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1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5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5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7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19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2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0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.1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1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.4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66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7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84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The sequences have been uploaded to the University of Hannover ftp site, ftp.tnt.uni-hannover.de , in the NewClassE directory, and can be accessed using the same login and password as for the other HEVC source sequenc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Subjective viewing has been scheduled for Sat Feb. 4, in the viewing room, starting at 6:30pm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Vidyo will donate the content to the public domai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285840" indent="-285840"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702640" y="643428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9E4A-6CCB-4091-B1C8-3AF8E806D00F}" type="slidenum">
              <a:rPr b="1" lang="en-US" sz="12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2" name="Date Placeholder 4"/>
          <p:cNvSpPr/>
          <p:nvPr/>
        </p:nvSpPr>
        <p:spPr>
          <a:xfrm>
            <a:off x="5670720" y="65721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2f2f2"/>
                </a:solidFill>
                <a:latin typeface="Arial Narrow"/>
              </a:rPr>
              <a:t>JCTVC-H0389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0:04:50Z</dcterms:created>
  <dc:creator>Marty Hollander</dc:creator>
  <dc:description/>
  <dc:language>en-US</dc:language>
  <cp:lastModifiedBy>Jill Boyce</cp:lastModifiedBy>
  <dcterms:modified xsi:type="dcterms:W3CDTF">2012-02-09T18:37:42Z</dcterms:modified>
  <cp:revision>35</cp:revision>
  <dc:subject/>
  <dc:title>Slide 1</dc:title>
</cp:coreProperties>
</file>