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5808-6246-42E5-A896-E5BD3AE45C04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EAF-7CCD-4E32-BBAF-A845AED3A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F917-3046-4F81-9022-FA2B829BBB80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29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D23-376E-4178-8135-504BBA80272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0804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038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7EF9-0972-4511-B635-2C8D98C388C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840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038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2204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PS partial updat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, Semih Esenlik, Viktor Wahadaniah,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37760" y="6497640"/>
            <a:ext cx="50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e 01.-10. Februar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meter sets partial update: state of the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ed AP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tate of the a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rrently proposed approaches for partial upd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wbacks of thes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hat information is copied from where?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ules are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 chain of references are not robust to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7600" y="1341360"/>
          <a:ext cx="8844120" cy="822240"/>
        </p:xfrm>
        <a:graphic>
          <a:graphicData uri="http://schemas.openxmlformats.org/drawingml/2006/table">
            <a:tbl>
              <a:tblPr/>
              <a:tblGrid>
                <a:gridCol w="4422960"/>
                <a:gridCol w="44211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buClr>
                          <a:srgbClr val="0000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APS referenced 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lice header</a:t>
                      </a:r>
                      <a:endParaRPr b="1" lang="en-US" sz="2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buClr>
                          <a:srgbClr val="000066"/>
                        </a:buClr>
                        <a:buSzPct val="75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 data from already transmitted APS</a:t>
                      </a:r>
                      <a:endParaRPr b="1" lang="en-US" sz="24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9" name="Group 42"/>
          <p:cNvGrpSpPr/>
          <p:nvPr/>
        </p:nvGrpSpPr>
        <p:grpSpPr>
          <a:xfrm>
            <a:off x="324000" y="2492280"/>
            <a:ext cx="3652560" cy="1728720"/>
            <a:chOff x="324000" y="2492280"/>
            <a:chExt cx="3652560" cy="1728720"/>
          </a:xfrm>
        </p:grpSpPr>
        <p:sp>
          <p:nvSpPr>
            <p:cNvPr id="100" name="Rectangle 4"/>
            <p:cNvSpPr/>
            <p:nvPr/>
          </p:nvSpPr>
          <p:spPr>
            <a:xfrm>
              <a:off x="1158840" y="3644640"/>
              <a:ext cx="165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lice header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324000" y="2492280"/>
              <a:ext cx="8348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1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374840" y="2492640"/>
              <a:ext cx="8348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2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3141720" y="2492280"/>
              <a:ext cx="8348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n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104" name="Straight Arrow Connector 11"/>
            <p:cNvCxnSpPr/>
            <p:nvPr/>
          </p:nvCxnSpPr>
          <p:spPr>
            <a:xfrm flipH="1" flipV="1">
              <a:off x="942120" y="2924280"/>
              <a:ext cx="432360" cy="72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5" name="Straight Arrow Connector 13"/>
            <p:cNvCxnSpPr/>
            <p:nvPr/>
          </p:nvCxnSpPr>
          <p:spPr>
            <a:xfrm flipV="1">
              <a:off x="1792080" y="2924280"/>
              <a:ext cx="1080" cy="72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6" name="Straight Arrow Connector 15"/>
            <p:cNvCxnSpPr/>
            <p:nvPr/>
          </p:nvCxnSpPr>
          <p:spPr>
            <a:xfrm flipV="1">
              <a:off x="2598480" y="2924280"/>
              <a:ext cx="720360" cy="72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Straight Connector 18"/>
            <p:cNvSpPr/>
            <p:nvPr/>
          </p:nvSpPr>
          <p:spPr>
            <a:xfrm>
              <a:off x="2022840" y="3285000"/>
              <a:ext cx="575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108" name="Group 43"/>
          <p:cNvGrpSpPr/>
          <p:nvPr/>
        </p:nvGrpSpPr>
        <p:grpSpPr>
          <a:xfrm>
            <a:off x="5032440" y="2421000"/>
            <a:ext cx="3284640" cy="2087640"/>
            <a:chOff x="5032440" y="2421000"/>
            <a:chExt cx="3284640" cy="2087640"/>
          </a:xfrm>
        </p:grpSpPr>
        <p:sp>
          <p:nvSpPr>
            <p:cNvPr id="109" name="Rectangle 26"/>
            <p:cNvSpPr/>
            <p:nvPr/>
          </p:nvSpPr>
          <p:spPr>
            <a:xfrm>
              <a:off x="5032440" y="2421000"/>
              <a:ext cx="1656720" cy="57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lice header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481520" y="2492640"/>
              <a:ext cx="8355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1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7481520" y="3140640"/>
              <a:ext cx="8355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2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7481520" y="4076640"/>
              <a:ext cx="8355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S n</a:t>
              </a:r>
              <a:endParaRPr b="1" lang="en-US" sz="20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113" name="Straight Arrow Connector 33"/>
            <p:cNvCxnSpPr>
              <a:stCxn id="109" idx="3"/>
            </p:cNvCxnSpPr>
            <p:nvPr/>
          </p:nvCxnSpPr>
          <p:spPr>
            <a:xfrm>
              <a:off x="6688800" y="2708280"/>
              <a:ext cx="793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4" name="Straight Arrow Connector 35"/>
            <p:cNvCxnSpPr>
              <a:endCxn id="111" idx="0"/>
            </p:cNvCxnSpPr>
            <p:nvPr/>
          </p:nvCxnSpPr>
          <p:spPr>
            <a:xfrm>
              <a:off x="7899120" y="2924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5" name="Straight Arrow Connector 37"/>
            <p:cNvCxnSpPr>
              <a:endCxn id="112" idx="0"/>
            </p:cNvCxnSpPr>
            <p:nvPr/>
          </p:nvCxnSpPr>
          <p:spPr>
            <a:xfrm>
              <a:off x="7899120" y="3572640"/>
              <a:ext cx="1080" cy="5043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6" name="Straight Arrow Connector 41"/>
            <p:cNvCxnSpPr>
              <a:endCxn id="112" idx="0"/>
            </p:cNvCxnSpPr>
            <p:nvPr/>
          </p:nvCxnSpPr>
          <p:spPr>
            <a:xfrm>
              <a:off x="7899120" y="3932280"/>
              <a:ext cx="108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ice header: only one APS id sign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ide APS for each set of data (Q-matrix, SAO, ALF, ..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py“ flag to know whether a new parameter set signalled or the parameter set is copied from another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ce to other APS to know where to cop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76040" y="2766960"/>
            <a:ext cx="88599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ed synta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87640" y="617040"/>
            <a:ext cx="2403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APS refered to shall not copy the parameters from another APS to avoid long chains of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APS shall not refer to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520" y="623880"/>
          <a:ext cx="6315120" cy="5756400"/>
        </p:xfrm>
        <a:graphic>
          <a:graphicData uri="http://schemas.openxmlformats.org/drawingml/2006/table">
            <a:tbl>
              <a:tblPr/>
              <a:tblGrid>
                <a:gridCol w="5523120"/>
                <a:gridCol w="792000"/>
              </a:tblGrid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rbsp( 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Descriptor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id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scaling_list_data_present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de-DE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 ( aps_scaling_list_data_present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scaling_list_data_copy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deblocking_filter_present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 ( aps_deblocking_filter_present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deblocking_filter_copy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sample_adaptive_offset_present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 ( aps_sample_adaptive_offset_present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sample_adaptive_offset_copy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ps_adaptive_loop_filter_present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 ( aps_adaptive_loop_filter_present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adaptive_loop_filter_copy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( aps_scaling_list_data_present_flag &amp;&amp; !aps_scaling_list_data_copy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scaling_list_param( 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else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id_QM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( aps_deblocking_filter_present_flag &amp;&amp; !aps_deblocking_filter_copy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disable_deblocking_filter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if (!disable_deblocking_filter_flag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beta_ offset_div2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tc_offset_div2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else if(aps_deblocking_filter_present_flag &amp;&amp; aps_deblocking_filter_copy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id_deb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( aps_sample_adaptive_offset_present_flag &amp;&amp;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!aps_sample_adaptive_offset_copy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sao_param( 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else if(aps_sample_adaptive_offset_present_flag &amp;&amp;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sample_adaptive_offset_copy_flag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id_sao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if( aps_adaptive_loop_filter_present_flag &amp;&amp;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!aps_adaptive_loop_filter_copy_flag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alf_param( 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else if(aps_adaptive_loop_filter_present_flag &amp;&amp;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adaptive_loop_filter_copy_flag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aps_id_alf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rbsp_trailing_bits( 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274920" y="1346040"/>
            <a:ext cx="3313080" cy="711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mantics of present flags are changed to indicate whether the tool is used by the refering slice or not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 for APS partial update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roduction of „copy“ flag on top of the „present“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ct referencing to other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vantages of the proposed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r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ambiguities to determine what is copied from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ror robustness by avoiding long chains of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Virginie Drugeon</dc:creator>
  <dc:description/>
  <dc:language>en-US</dc:language>
  <cp:lastModifiedBy>semih.esenlik</cp:lastModifiedBy>
  <dcterms:modified xsi:type="dcterms:W3CDTF">2012-02-03T18:02:26Z</dcterms:modified>
  <cp:revision>1730</cp:revision>
  <dc:subject/>
  <dc:title>JCTVC-E258</dc:title>
</cp:coreProperties>
</file>