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FCA2-B44F-427F-B9FA-85EDE7A06EA6}" type="datetime5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1D3A-CF0E-48A6-B288-51CC73BD0B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765C-06DE-4C68-A495-521B7E52F768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4C1D-6183-470F-8AC9-457359714B02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808040" y="6597720"/>
            <a:ext cx="116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H0380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7BE1-2B3E-428C-B5C9-3E05A0567C1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8400" y="160200"/>
            <a:ext cx="132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H0380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220464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HG 15: SPS and PPS syntax modification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58560" y="3141720"/>
            <a:ext cx="6435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irginie Drugeon, Viktor Wahadaniah,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171680" y="6497640"/>
            <a:ext cx="47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8</a:t>
            </a:r>
            <a:r>
              <a:rPr b="1" i="1" lang="en-US" sz="1600" spc="-1" strike="noStrike" baseline="30000">
                <a:solidFill>
                  <a:srgbClr val="f8f8f8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 JCT-VC meeting, San Jose, 1-10 February 2012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ck size sign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lice gran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ed SPS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Block size signall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st of syntax elements related to block sizes in the S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urrent coding in working draft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7600" y="1268280"/>
          <a:ext cx="8844120" cy="2024280"/>
        </p:xfrm>
        <a:graphic>
          <a:graphicData uri="http://schemas.openxmlformats.org/drawingml/2006/table">
            <a:tbl>
              <a:tblPr/>
              <a:tblGrid>
                <a:gridCol w="2479680"/>
                <a:gridCol w="1657440"/>
                <a:gridCol w="4707000"/>
              </a:tblGrid>
              <a:tr h="559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 size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of possible values </a:t>
                      </a:r>
                      <a:br>
                        <a:rPr sz="1600"/>
                      </a:b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C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on test conditions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um CU size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CU or SCU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x8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16x16 / 32x32 / 64x64 / </a:t>
                      </a:r>
                      <a:r>
                        <a:rPr b="0" lang="en-CA" sz="1600" spc="-1" strike="noStrike">
                          <a:solidFill>
                            <a:srgbClr val="0a0aff"/>
                          </a:solidFill>
                          <a:latin typeface="Arial"/>
                        </a:rPr>
                        <a:t>128x128?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 CU size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CU or LCU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x16 / 32x32 / </a:t>
                      </a: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x64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en-CA" sz="1600" spc="-1" strike="noStrike">
                          <a:solidFill>
                            <a:srgbClr val="0a0aff"/>
                          </a:solidFill>
                          <a:latin typeface="Arial"/>
                        </a:rPr>
                        <a:t>128x128?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um transform size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r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x4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x8 / 16x16 / 32x32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 transform size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Tr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x4 / 8x8 / 16x16 / </a:t>
                      </a: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x32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um PCM CU size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PCMCU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a0aff"/>
                          </a:solidFill>
                          <a:latin typeface="Arial"/>
                        </a:rPr>
                        <a:t>8x8?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16x16 / 32x32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 PCM CU size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PCMCU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a0aff"/>
                          </a:solidFill>
                          <a:latin typeface="Arial"/>
                        </a:rPr>
                        <a:t>8x8? 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16x16 / 32x32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47600" y="4005360"/>
          <a:ext cx="8844120" cy="1950840"/>
        </p:xfrm>
        <a:graphic>
          <a:graphicData uri="http://schemas.openxmlformats.org/drawingml/2006/table">
            <a:tbl>
              <a:tblPr/>
              <a:tblGrid>
                <a:gridCol w="5864400"/>
                <a:gridCol w="2979720"/>
              </a:tblGrid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2_min_coding_block_size_minus3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(v)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2_diff_max_min_coding_block_size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(v)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2_min_transform_block_size_minus2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(v)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2_diff_max_min_transform_block_size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(v)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( pcm_enabled_flag ) {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2_min_pcm_coding_block_size_minus3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(v)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2_diff_max_min_pcm_coding_block_size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(v)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6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Block size signall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7240" y="7646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lationships between the block siz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se the dependencies between the block sizes to cod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de the LCU size first with log2_max_coding_block_size_minu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2549520" y="1773360"/>
                <a:ext cx="39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Tr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inCU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axC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2556000" y="2521080"/>
                <a:ext cx="38084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Tr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axTr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axC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1116000" y="3357720"/>
                <a:ext cx="7064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CU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inPCMCU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axPCMCU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axC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lice granular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element slice_granularity in P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 coded using fixed length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lues depend on the selected minimum and maximum CU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lue 0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re prob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only possible value for several combi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s for improv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posal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ve slice_granularity to 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 truncated Golomb codes to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 dependency to selected SCU and LCU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posal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 exp-Golomb codes to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posed SPS synta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7600" y="765000"/>
          <a:ext cx="8844120" cy="5472360"/>
        </p:xfrm>
        <a:graphic>
          <a:graphicData uri="http://schemas.openxmlformats.org/drawingml/2006/table">
            <a:tbl>
              <a:tblPr/>
              <a:tblGrid>
                <a:gridCol w="7809120"/>
                <a:gridCol w="1035000"/>
              </a:tblGrid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eq_parameter_set_rbsp( ) {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Descriptor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…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log2_max_coding_block_size_minus4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ue(v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log2_diff_min_max_coding_block_size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ue(v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log2_diff_max_transform_block_coding_block_size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ue(v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log2_diff_min_max_transform_block_size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ue(v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 ( pcm_enabled_flag ) {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log2_diff_max_pcm_coding_block_size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ue(v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log2_diff_max_min_pcm_coding_block_size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ue(v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ax_transform_hierarchy_depth_inter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e(v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ax_transform_hierarchy_depth_intra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e(v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hroma_pred_from_luma_enabled_flag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oop_filter_across_slice_flag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ample_adaptive_offset_enabled_flag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adaptive_loop_filter_enabled_flag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 ( pcm_enabled_flag 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pcm_loop_filter_disable_flag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temporal_id_nesting_flag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nter_4x4_enabled_flag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if ( log2_max_coding_block_size_minus4 != 0 &amp;&amp;</a:t>
                      </a:r>
                      <a:r>
                        <a:rPr b="0" sz="12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 </a:t>
                      </a:r>
                      <a:r>
                        <a:rPr b="0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log2_diff_min_max_coding_block_size != 0 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slice_granularity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te(v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…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rbsp_trailing_bits( )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7240" y="907920"/>
            <a:ext cx="88441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modified syntax is propo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ock sizes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ice granularity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vantages of the proposed 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eaner desig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rong block sizes combinations cannot be signalled any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rong values of slice granularity cannot be signalled any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ding redundancies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Virginie Drugeon</dc:creator>
  <dc:description/>
  <dc:language>en-US</dc:language>
  <cp:lastModifiedBy>Viktor Wahadaniah</cp:lastModifiedBy>
  <dcterms:modified xsi:type="dcterms:W3CDTF">2012-02-03T05:05:15Z</dcterms:modified>
  <cp:revision>1723</cp:revision>
  <dc:subject/>
  <dc:title>JCTVC-E258</dc:title>
</cp:coreProperties>
</file>