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5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7"/>
          <p:cNvSpPr/>
          <p:nvPr/>
        </p:nvSpPr>
        <p:spPr>
          <a:xfrm>
            <a:off x="7907040" y="65977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H376</a:t>
            </a:r>
            <a:endParaRPr b="0" lang="en-US" sz="14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" name="Text Box 98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71DB-8D04-48E7-BD1E-A15C3B7096E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00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3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Rectangle 10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44" name="Picture 109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0"/>
          <p:cNvSpPr/>
          <p:nvPr/>
        </p:nvSpPr>
        <p:spPr>
          <a:xfrm>
            <a:off x="108360" y="16020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H376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162828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Low-delay support for AP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85720" y="3692520"/>
            <a:ext cx="3915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emih Esenl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irginie Druge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45680" y="6497640"/>
            <a:ext cx="504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8th JCT-VC meeting, San Jose 01.-10. February 201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1596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619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627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635280" y="1270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61596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1619280" y="228132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62728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3635280" y="2278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61128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614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622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3630600" y="3284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677880" y="131904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1" name="TextBox 17"/>
          <p:cNvSpPr/>
          <p:nvPr/>
        </p:nvSpPr>
        <p:spPr>
          <a:xfrm>
            <a:off x="1782720" y="1324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2" name="TextBox 18"/>
          <p:cNvSpPr/>
          <p:nvPr/>
        </p:nvSpPr>
        <p:spPr>
          <a:xfrm>
            <a:off x="2792520" y="13366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3" name="TextBox 19"/>
          <p:cNvSpPr/>
          <p:nvPr/>
        </p:nvSpPr>
        <p:spPr>
          <a:xfrm>
            <a:off x="3807000" y="1344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4" name="TextBox 20"/>
          <p:cNvSpPr/>
          <p:nvPr/>
        </p:nvSpPr>
        <p:spPr>
          <a:xfrm>
            <a:off x="672840" y="24210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2"/>
          <p:cNvSpPr/>
          <p:nvPr/>
        </p:nvSpPr>
        <p:spPr>
          <a:xfrm>
            <a:off x="611280" y="3289320"/>
            <a:ext cx="1012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7" name="Straight Connector 30"/>
          <p:cNvSpPr/>
          <p:nvPr/>
        </p:nvSpPr>
        <p:spPr>
          <a:xfrm flipH="1" flipV="1">
            <a:off x="1614600" y="2281320"/>
            <a:ext cx="9360" cy="100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8" name="Straight Connector 31"/>
          <p:cNvSpPr/>
          <p:nvPr/>
        </p:nvSpPr>
        <p:spPr>
          <a:xfrm>
            <a:off x="1623960" y="228132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59" name="Straight Connector 32"/>
          <p:cNvSpPr/>
          <p:nvPr/>
        </p:nvSpPr>
        <p:spPr>
          <a:xfrm>
            <a:off x="2616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0" name="Straight Connector 33"/>
          <p:cNvSpPr/>
          <p:nvPr/>
        </p:nvSpPr>
        <p:spPr>
          <a:xfrm>
            <a:off x="3624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4643280" y="1635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1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2" name="TextBox 35"/>
          <p:cNvSpPr/>
          <p:nvPr/>
        </p:nvSpPr>
        <p:spPr>
          <a:xfrm>
            <a:off x="4643280" y="3114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3" name="TextBox 24"/>
          <p:cNvSpPr/>
          <p:nvPr/>
        </p:nvSpPr>
        <p:spPr>
          <a:xfrm>
            <a:off x="279252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1785960" y="2440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5" name="TextBox 24"/>
          <p:cNvSpPr/>
          <p:nvPr/>
        </p:nvSpPr>
        <p:spPr>
          <a:xfrm>
            <a:off x="281628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6" name="TextBox 24"/>
          <p:cNvSpPr/>
          <p:nvPr/>
        </p:nvSpPr>
        <p:spPr>
          <a:xfrm>
            <a:off x="176220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7" name="TextBox 24"/>
          <p:cNvSpPr/>
          <p:nvPr/>
        </p:nvSpPr>
        <p:spPr>
          <a:xfrm>
            <a:off x="755640" y="354816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8" name="TextBox 24"/>
          <p:cNvSpPr/>
          <p:nvPr/>
        </p:nvSpPr>
        <p:spPr>
          <a:xfrm>
            <a:off x="383364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56360" y="1209600"/>
            <a:ext cx="2028960" cy="123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APS_id 1, APS_inner_id 0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ATRIX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B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0" name="TextBox 20"/>
          <p:cNvSpPr/>
          <p:nvPr/>
        </p:nvSpPr>
        <p:spPr>
          <a:xfrm>
            <a:off x="3708360" y="24400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7681400">
            <a:off x="5124240" y="2557080"/>
            <a:ext cx="1316160" cy="163800"/>
          </a:xfrm>
          <a:prstGeom prst="rightArrow">
            <a:avLst>
              <a:gd name="adj1" fmla="val 50000"/>
              <a:gd name="adj2" fmla="val 200879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08720" y="1700280"/>
            <a:ext cx="577800" cy="163440"/>
          </a:xfrm>
          <a:prstGeom prst="rightArrow">
            <a:avLst>
              <a:gd name="adj1" fmla="val 50000"/>
              <a:gd name="adj2" fmla="val 8838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73" name="Content Placeholder 29"/>
          <p:cNvSpPr/>
          <p:nvPr/>
        </p:nvSpPr>
        <p:spPr>
          <a:xfrm>
            <a:off x="179280" y="4799160"/>
            <a:ext cx="884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ragmentation is based on the delay requirements. In the current example no fragmentation is done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ssible scenario: Picture based filter estimation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9900"/>
                </a:solidFill>
                <a:latin typeface="Arial"/>
              </a:rPr>
              <a:t>As opposed to signalling parameters in the slice, slice 2 can reuse filters 1 and 2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ling of ALF and SAO parameters in the slice header causes significant coding loss in the case of LCU-based ALF and SAO appro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ve shared SAO and ALF parameters to the APS. Keep LCU-specific information in the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vide a fragmentation scheme for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nefit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iminate the coding loss due to partitioning of a frame into multiple slices for ALF and S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Table 7" descr=""/>
          <p:cNvPicPr/>
          <p:nvPr/>
        </p:nvPicPr>
        <p:blipFill>
          <a:blip r:embed="rId1"/>
          <a:stretch/>
        </p:blipFill>
        <p:spPr>
          <a:xfrm>
            <a:off x="1822320" y="2584440"/>
            <a:ext cx="54928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Table 5" descr=""/>
          <p:cNvPicPr/>
          <p:nvPr/>
        </p:nvPicPr>
        <p:blipFill>
          <a:blip r:embed="rId1"/>
          <a:stretch/>
        </p:blipFill>
        <p:spPr>
          <a:xfrm>
            <a:off x="2048040" y="755640"/>
            <a:ext cx="50418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Table 3" descr=""/>
          <p:cNvPicPr/>
          <p:nvPr/>
        </p:nvPicPr>
        <p:blipFill>
          <a:blip r:embed="rId1"/>
          <a:stretch/>
        </p:blipFill>
        <p:spPr>
          <a:xfrm>
            <a:off x="1255680" y="1974960"/>
            <a:ext cx="66499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LCU-based ALF and SA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Coding loss in LCU-based ALF/SAO in the case of multiple slices pe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posal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ow-Delay APS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40976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411280" y="1268280"/>
            <a:ext cx="1008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41964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4427640" y="1270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40976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411280" y="2281320"/>
            <a:ext cx="100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341964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427640" y="2278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0328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2406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3414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4422600" y="3289320"/>
            <a:ext cx="1008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469880" y="131904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575440" y="1324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585960" y="13366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599720" y="1344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1466640" y="24210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2583360" y="24210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59316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8" name="TextBox 24"/>
          <p:cNvSpPr/>
          <p:nvPr/>
        </p:nvSpPr>
        <p:spPr>
          <a:xfrm>
            <a:off x="464004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6372360" y="127332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List of filters for reus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0" name="TextBox 26"/>
          <p:cNvSpPr/>
          <p:nvPr/>
        </p:nvSpPr>
        <p:spPr>
          <a:xfrm>
            <a:off x="7164720" y="160956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1" name="TextBox 27"/>
          <p:cNvSpPr/>
          <p:nvPr/>
        </p:nvSpPr>
        <p:spPr>
          <a:xfrm>
            <a:off x="7167960" y="19270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ackground: LCU-based ALF/SA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7240" y="4797360"/>
            <a:ext cx="8844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303120" indent="-303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CU-based filter parameter estimation instead of frame-based esti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ach LCU can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84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e new filter coefficient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844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use filters that are generated in a previous L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3120" indent="-303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2340000" y="992160"/>
            <a:ext cx="21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rame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2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4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2d050"/>
                                      </p:to>
                                    </p:animClr>
                                    <p:set>
                                      <p:cBhvr>
                                        <p:cTn id="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25606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56400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57200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580000" y="1270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256068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3564000" y="228132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457200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580000" y="2278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5560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55932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456732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5575320" y="328932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622240" y="131904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3727440" y="1324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4737600" y="13366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5751360" y="1344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1" name="TextBox 20"/>
          <p:cNvSpPr/>
          <p:nvPr/>
        </p:nvSpPr>
        <p:spPr>
          <a:xfrm>
            <a:off x="2617560" y="24210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2" name="TextBox 21"/>
          <p:cNvSpPr/>
          <p:nvPr/>
        </p:nvSpPr>
        <p:spPr>
          <a:xfrm>
            <a:off x="3735360" y="24210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474552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579168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 of LCU-based ALF/SA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7240" y="4797360"/>
            <a:ext cx="8844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the LCU-based SAO and ALF approaches filter parameters are signalled in the slice header or interleaved within the LCU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t the slice boundaries the spatial prediction mechanism has to be brok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Problem: Reduction in the SAO and ALF coding gain due to the fact that reuse of filters among slices is not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"/>
          <p:cNvSpPr/>
          <p:nvPr/>
        </p:nvSpPr>
        <p:spPr>
          <a:xfrm>
            <a:off x="2556000" y="3289320"/>
            <a:ext cx="1012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8" name="Straight Connector 30"/>
          <p:cNvSpPr/>
          <p:nvPr/>
        </p:nvSpPr>
        <p:spPr>
          <a:xfrm flipH="1" flipV="1">
            <a:off x="3559320" y="2281320"/>
            <a:ext cx="9360" cy="100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39" name="Straight Connector 31"/>
          <p:cNvSpPr/>
          <p:nvPr/>
        </p:nvSpPr>
        <p:spPr>
          <a:xfrm>
            <a:off x="3568680" y="228132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0" name="Straight Connector 32"/>
          <p:cNvSpPr/>
          <p:nvPr/>
        </p:nvSpPr>
        <p:spPr>
          <a:xfrm>
            <a:off x="456084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1" name="Straight Connector 33"/>
          <p:cNvSpPr/>
          <p:nvPr/>
        </p:nvSpPr>
        <p:spPr>
          <a:xfrm>
            <a:off x="556884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1547640" y="2060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1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1547640" y="357516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4" name="Straight Connector 37"/>
          <p:cNvSpPr/>
          <p:nvPr/>
        </p:nvSpPr>
        <p:spPr>
          <a:xfrm flipV="1">
            <a:off x="3568680" y="2281320"/>
            <a:ext cx="99216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5" name="Straight Connector 38"/>
          <p:cNvSpPr/>
          <p:nvPr/>
        </p:nvSpPr>
        <p:spPr>
          <a:xfrm flipV="1">
            <a:off x="4567320" y="2276640"/>
            <a:ext cx="99036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6" name="Straight Connector 39"/>
          <p:cNvSpPr/>
          <p:nvPr/>
        </p:nvSpPr>
        <p:spPr>
          <a:xfrm flipV="1">
            <a:off x="5595840" y="2273400"/>
            <a:ext cx="99216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7" name="Straight Connector 40"/>
          <p:cNvSpPr/>
          <p:nvPr/>
        </p:nvSpPr>
        <p:spPr>
          <a:xfrm flipH="1" flipV="1">
            <a:off x="5580000" y="2281320"/>
            <a:ext cx="100800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8" name="Straight Connector 42"/>
          <p:cNvSpPr/>
          <p:nvPr/>
        </p:nvSpPr>
        <p:spPr>
          <a:xfrm flipH="1" flipV="1">
            <a:off x="4564080" y="2281320"/>
            <a:ext cx="1008000" cy="100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49" name="Straight Connector 43"/>
          <p:cNvSpPr/>
          <p:nvPr/>
        </p:nvSpPr>
        <p:spPr>
          <a:xfrm flipH="1" flipV="1">
            <a:off x="3580920" y="2287080"/>
            <a:ext cx="1008360" cy="10083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blem: Coding results for H0274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89000"/>
          <a:ext cx="8064360" cy="20289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ne slice per picture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Multi slice per picture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Number of slices per frame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Coding loss due to filter table refresh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8720">
                      <a:solidFill>
                        <a:srgbClr val="f8f8f8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B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8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1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.3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872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E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2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3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ass F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1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4%</a:t>
                      </a:r>
                      <a:endParaRPr b="0" lang="en-US" sz="1800" spc="-1" strike="noStrike" u="sng">
                        <a:solidFill>
                          <a:srgbClr val="000066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cbcbd3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 txBox="1"/>
          <p:nvPr/>
        </p:nvSpPr>
        <p:spPr>
          <a:xfrm>
            <a:off x="147600" y="764640"/>
            <a:ext cx="888840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llowing table presents the coding loss of H0274* compared to HM5.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0274 utilizes LCU-based ALF and SAO filter parameter esti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Coding gain of ALF and SAO drops as the number of slices per picture incre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Arial"/>
              </a:rPr>
              <a:t>Coding loss in the last column stems from the fact that filters cannot be reused in the following sl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8640" indent="-3686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CE8.a.4: One-stage/Two-stage SAO and ALF with LCU-based syn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al: Low-delay APS fragm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7240" y="764640"/>
            <a:ext cx="8844120" cy="56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rrent LCU-based ALF/SAO propos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ing of ALF/SAO data within each slice and no sharing of ALF/SAO data between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gnificantly reduced coding efficiency for multiple slices pe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ding of ALF/SAO data in APS fragments, which share ALF/SAO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Proposal: Low-delay APS fragm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2030760" cy="25923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3429000"/>
            <a:ext cx="8844120" cy="25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49200" indent="-3492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syntax element APS_inner_id to identify APS frag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first APS fragment (identified by APS_inner_id == 0) is similar to current APS model, it carri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6520" indent="-34380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blo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66520" indent="-34380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-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66520" indent="-34380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O and ALF paramet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SAO and ALF parameters are sent in following fragments as they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l the slices in a frame has to refer to same APS_i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 a slice refers to [APS_id = M, APS_inner_id = N], all APS fragments with APS_id = M and APS_inner_id &lt;= N are activ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4111560" y="620640"/>
            <a:ext cx="4276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61596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619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2627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635280" y="1270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1596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619280" y="228132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62728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3635280" y="2278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61128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614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2622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3630600" y="3284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677880" y="131904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6" name="TextBox 17"/>
          <p:cNvSpPr/>
          <p:nvPr/>
        </p:nvSpPr>
        <p:spPr>
          <a:xfrm>
            <a:off x="1782720" y="1324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2792520" y="13366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3807000" y="1344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672840" y="24210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traight Connector 2"/>
          <p:cNvSpPr/>
          <p:nvPr/>
        </p:nvSpPr>
        <p:spPr>
          <a:xfrm>
            <a:off x="611280" y="3289320"/>
            <a:ext cx="1012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2" name="Straight Connector 30"/>
          <p:cNvSpPr/>
          <p:nvPr/>
        </p:nvSpPr>
        <p:spPr>
          <a:xfrm flipH="1" flipV="1">
            <a:off x="1614600" y="2281320"/>
            <a:ext cx="9360" cy="100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3" name="Straight Connector 31"/>
          <p:cNvSpPr/>
          <p:nvPr/>
        </p:nvSpPr>
        <p:spPr>
          <a:xfrm>
            <a:off x="1623960" y="228132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4" name="Straight Connector 32"/>
          <p:cNvSpPr/>
          <p:nvPr/>
        </p:nvSpPr>
        <p:spPr>
          <a:xfrm>
            <a:off x="2616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5" name="Straight Connector 33"/>
          <p:cNvSpPr/>
          <p:nvPr/>
        </p:nvSpPr>
        <p:spPr>
          <a:xfrm>
            <a:off x="3624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6" name="TextBox 34"/>
          <p:cNvSpPr/>
          <p:nvPr/>
        </p:nvSpPr>
        <p:spPr>
          <a:xfrm>
            <a:off x="4643280" y="1635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1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7" name="TextBox 35"/>
          <p:cNvSpPr/>
          <p:nvPr/>
        </p:nvSpPr>
        <p:spPr>
          <a:xfrm>
            <a:off x="4643280" y="3114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8" name="TextBox 24"/>
          <p:cNvSpPr/>
          <p:nvPr/>
        </p:nvSpPr>
        <p:spPr>
          <a:xfrm>
            <a:off x="279252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1785960" y="2440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0" name="TextBox 24"/>
          <p:cNvSpPr/>
          <p:nvPr/>
        </p:nvSpPr>
        <p:spPr>
          <a:xfrm>
            <a:off x="281628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1" name="TextBox 24"/>
          <p:cNvSpPr/>
          <p:nvPr/>
        </p:nvSpPr>
        <p:spPr>
          <a:xfrm>
            <a:off x="176220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2" name="TextBox 24"/>
          <p:cNvSpPr/>
          <p:nvPr/>
        </p:nvSpPr>
        <p:spPr>
          <a:xfrm>
            <a:off x="755640" y="354816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383364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56360" y="1209600"/>
            <a:ext cx="2028960" cy="1056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APS_id 1, APS_inner_id 0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ATRIX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B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68960" y="2997360"/>
            <a:ext cx="2003400" cy="50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APS_id 1, APS_inner_id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3708360" y="24400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6920" y="3193920"/>
            <a:ext cx="577800" cy="163800"/>
          </a:xfrm>
          <a:prstGeom prst="rightArrow">
            <a:avLst>
              <a:gd name="adj1" fmla="val 50000"/>
              <a:gd name="adj2" fmla="val 8818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8720" y="1700280"/>
            <a:ext cx="577800" cy="163440"/>
          </a:xfrm>
          <a:prstGeom prst="rightArrow">
            <a:avLst>
              <a:gd name="adj1" fmla="val 50000"/>
              <a:gd name="adj2" fmla="val 8838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6200000">
            <a:off x="6983280" y="2459160"/>
            <a:ext cx="578160" cy="358560"/>
          </a:xfrm>
          <a:prstGeom prst="rightArrow">
            <a:avLst>
              <a:gd name="adj1" fmla="val 50000"/>
              <a:gd name="adj2" fmla="val 4031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0" name="Content Placeholder 29"/>
          <p:cNvSpPr/>
          <p:nvPr/>
        </p:nvSpPr>
        <p:spPr>
          <a:xfrm>
            <a:off x="179280" y="4799160"/>
            <a:ext cx="884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irst APS fragment is transmitted as soon as the encoding of slice 1 is complete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ilter parameters are sent in fragment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S fragments can be scheduled according to delay requirement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"/>
          <p:cNvSpPr/>
          <p:nvPr/>
        </p:nvSpPr>
        <p:spPr>
          <a:xfrm>
            <a:off x="61596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619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627280" y="1268280"/>
            <a:ext cx="1008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635280" y="1270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1596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619280" y="228132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627280" y="2276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3635280" y="2278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61128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614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2622600" y="328608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3630600" y="3284640"/>
            <a:ext cx="10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677880" y="131904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4" name="TextBox 17"/>
          <p:cNvSpPr/>
          <p:nvPr/>
        </p:nvSpPr>
        <p:spPr>
          <a:xfrm>
            <a:off x="1782720" y="1324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2792520" y="13366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6" name="TextBox 19"/>
          <p:cNvSpPr/>
          <p:nvPr/>
        </p:nvSpPr>
        <p:spPr>
          <a:xfrm>
            <a:off x="3807000" y="1344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672840" y="242100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ample 1, combined parameter li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traight Connector 2"/>
          <p:cNvSpPr/>
          <p:nvPr/>
        </p:nvSpPr>
        <p:spPr>
          <a:xfrm>
            <a:off x="611280" y="3289320"/>
            <a:ext cx="1012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0" name="Straight Connector 30"/>
          <p:cNvSpPr/>
          <p:nvPr/>
        </p:nvSpPr>
        <p:spPr>
          <a:xfrm flipH="1" flipV="1">
            <a:off x="1614600" y="2281320"/>
            <a:ext cx="9360" cy="100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1" name="Straight Connector 31"/>
          <p:cNvSpPr/>
          <p:nvPr/>
        </p:nvSpPr>
        <p:spPr>
          <a:xfrm>
            <a:off x="1623960" y="228132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2" name="Straight Connector 32"/>
          <p:cNvSpPr/>
          <p:nvPr/>
        </p:nvSpPr>
        <p:spPr>
          <a:xfrm>
            <a:off x="2616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3" name="Straight Connector 33"/>
          <p:cNvSpPr/>
          <p:nvPr/>
        </p:nvSpPr>
        <p:spPr>
          <a:xfrm>
            <a:off x="3624120" y="2276640"/>
            <a:ext cx="1014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4" name="TextBox 34"/>
          <p:cNvSpPr/>
          <p:nvPr/>
        </p:nvSpPr>
        <p:spPr>
          <a:xfrm>
            <a:off x="4643280" y="1635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1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4643280" y="3114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Slice 2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6" name="TextBox 24"/>
          <p:cNvSpPr/>
          <p:nvPr/>
        </p:nvSpPr>
        <p:spPr>
          <a:xfrm>
            <a:off x="2792520" y="24354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7" name="TextBox 24"/>
          <p:cNvSpPr/>
          <p:nvPr/>
        </p:nvSpPr>
        <p:spPr>
          <a:xfrm>
            <a:off x="1785960" y="24400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8" name="TextBox 24"/>
          <p:cNvSpPr/>
          <p:nvPr/>
        </p:nvSpPr>
        <p:spPr>
          <a:xfrm>
            <a:off x="281628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176220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755640" y="354816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3833640" y="354348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Reus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56360" y="1209600"/>
            <a:ext cx="2028960" cy="1056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Combined parameters list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ATRIX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B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3708360" y="2440080"/>
            <a:ext cx="88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Generate 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0800000">
            <a:off x="5506560" y="3193560"/>
            <a:ext cx="577800" cy="163800"/>
          </a:xfrm>
          <a:prstGeom prst="rightArrow">
            <a:avLst>
              <a:gd name="adj1" fmla="val 50000"/>
              <a:gd name="adj2" fmla="val 88187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5508360" y="1700280"/>
            <a:ext cx="577800" cy="163440"/>
          </a:xfrm>
          <a:prstGeom prst="rightArrow">
            <a:avLst>
              <a:gd name="adj1" fmla="val 50000"/>
              <a:gd name="adj2" fmla="val 8838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6" name="Content Placeholder 29"/>
          <p:cNvSpPr/>
          <p:nvPr/>
        </p:nvSpPr>
        <p:spPr>
          <a:xfrm>
            <a:off x="179280" y="4799160"/>
            <a:ext cx="884412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bined parameter sets are constructed by appending fragments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9900"/>
                </a:solidFill>
                <a:latin typeface="Arial"/>
              </a:rPr>
              <a:t>Slice 2 can now reuse filters 1 and 2 from slice 1, since they are in its combined parameters list.</a:t>
            </a: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 marL="384120" indent="-38412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68960" y="2781360"/>
            <a:ext cx="2028960" cy="123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36000" bIns="10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Combined parameters list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ATRIX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B_param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1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2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ilter 3</a:t>
            </a:r>
            <a:endParaRPr b="0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Thomas Wedi</dc:creator>
  <dc:description/>
  <dc:language>en-US</dc:language>
  <cp:lastModifiedBy>semih.esenlik</cp:lastModifiedBy>
  <dcterms:modified xsi:type="dcterms:W3CDTF">2012-02-05T03:00:21Z</dcterms:modified>
  <cp:revision>2106</cp:revision>
  <dc:subject/>
  <dc:title>Template</dc:title>
</cp:coreProperties>
</file>