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907040" y="65977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H372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F60A-B4EB-41BD-8705-FBDB63650D1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08360" y="160200"/>
            <a:ext cx="121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H372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06964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Line memory reduction fix for independent slices and tile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85720" y="3692520"/>
            <a:ext cx="39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emih Ese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nn-Kathrin Seif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45680" y="6497640"/>
            <a:ext cx="504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8th JCT-VC meeting, San Jose 01.-10. February 2012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M51_BQMall_LD_HE_QP37_frame251"/>
          <p:cNvPicPr/>
          <p:nvPr/>
        </p:nvPicPr>
        <p:blipFill>
          <a:blip r:embed="rId1"/>
          <a:srcRect l="0" t="27557" r="0" b="0"/>
          <a:stretch/>
        </p:blipFill>
        <p:spPr>
          <a:xfrm>
            <a:off x="0" y="457200"/>
            <a:ext cx="55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" descr="Tiles_BQMall_LD_HE_QP37_frame251"/>
          <p:cNvPicPr/>
          <p:nvPr/>
        </p:nvPicPr>
        <p:blipFill>
          <a:blip r:embed="rId2"/>
          <a:srcRect l="0" t="27456" r="8305" b="752"/>
          <a:stretch/>
        </p:blipFill>
        <p:spPr>
          <a:xfrm>
            <a:off x="3887640" y="3481560"/>
            <a:ext cx="5550120" cy="3247920"/>
          </a:xfrm>
          <a:prstGeom prst="rect">
            <a:avLst/>
          </a:prstGeom>
          <a:ln w="0">
            <a:noFill/>
          </a:ln>
        </p:spPr>
      </p:pic>
      <p:sp>
        <p:nvSpPr>
          <p:cNvPr id="115" name="Oval 5"/>
          <p:cNvSpPr/>
          <p:nvPr/>
        </p:nvSpPr>
        <p:spPr>
          <a:xfrm>
            <a:off x="1592280" y="2085840"/>
            <a:ext cx="1684440" cy="335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1947960" y="2708280"/>
            <a:ext cx="1184040" cy="289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278080" y="3357720"/>
            <a:ext cx="8539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27160" y="6005520"/>
            <a:ext cx="2549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Sequence: RaceHorses, LD HE, 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QP 37, frame no. 251 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553000" y="1645560"/>
            <a:ext cx="755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HM5.1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291920" y="69951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 u="sng">
                <a:solidFill>
                  <a:srgbClr val="000066"/>
                </a:solidFill>
                <a:uFillTx/>
                <a:latin typeface="Times New Roman"/>
                <a:ea typeface="MS Mincho"/>
              </a:rPr>
              <a:t>Proposal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5479920" y="5110200"/>
            <a:ext cx="1684440" cy="334800"/>
          </a:xfrm>
          <a:prstGeom prst="ellipse">
            <a:avLst/>
          </a:pr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5835600" y="5734080"/>
            <a:ext cx="1184400" cy="287280"/>
          </a:xfrm>
          <a:prstGeom prst="ellipse">
            <a:avLst/>
          </a:pr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6167520" y="6381720"/>
            <a:ext cx="852480" cy="287280"/>
          </a:xfrm>
          <a:prstGeom prst="ellipse">
            <a:avLst/>
          </a:pr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2813040" y="5003280"/>
            <a:ext cx="103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PROPOSAL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Visual analysis, multiple t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M51_RaceHorses_RA_HE_QP32_frame74"/>
          <p:cNvPicPr/>
          <p:nvPr/>
        </p:nvPicPr>
        <p:blipFill>
          <a:blip r:embed="rId1"/>
          <a:srcRect l="17590" t="33016" r="28219" b="0"/>
          <a:stretch/>
        </p:blipFill>
        <p:spPr>
          <a:xfrm>
            <a:off x="0" y="692280"/>
            <a:ext cx="4525920" cy="388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Tiles_RaceHorses_RA_HE_QP32_frame74"/>
          <p:cNvPicPr/>
          <p:nvPr/>
        </p:nvPicPr>
        <p:blipFill>
          <a:blip r:embed="rId2"/>
          <a:srcRect l="17593" t="33396" r="28411" b="0"/>
          <a:stretch/>
        </p:blipFill>
        <p:spPr>
          <a:xfrm>
            <a:off x="4560840" y="2879640"/>
            <a:ext cx="4568760" cy="3934080"/>
          </a:xfrm>
          <a:prstGeom prst="rect">
            <a:avLst/>
          </a:prstGeom>
          <a:ln w="0">
            <a:noFill/>
          </a:ln>
        </p:spPr>
      </p:pic>
      <p:sp>
        <p:nvSpPr>
          <p:cNvPr id="129" name="Oval 3"/>
          <p:cNvSpPr/>
          <p:nvPr/>
        </p:nvSpPr>
        <p:spPr>
          <a:xfrm>
            <a:off x="0" y="2630520"/>
            <a:ext cx="4525920" cy="503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4560840" y="4824360"/>
            <a:ext cx="4568760" cy="506520"/>
          </a:xfrm>
          <a:prstGeom prst="ellipse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44440" y="6009480"/>
            <a:ext cx="1951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Sequence: RaceHorses, RA_HE, QP32, frame 74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645440" y="1551960"/>
            <a:ext cx="53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HM5.1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496320" y="551772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PROPOSAL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Visual analysis, multiple t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M51_BQMall_RA_HE_QP37_frame347"/>
          <p:cNvPicPr/>
          <p:nvPr/>
        </p:nvPicPr>
        <p:blipFill>
          <a:blip r:embed="rId1"/>
          <a:srcRect l="0" t="36326" r="0" b="0"/>
          <a:stretch/>
        </p:blipFill>
        <p:spPr>
          <a:xfrm>
            <a:off x="108000" y="576360"/>
            <a:ext cx="4903560" cy="3573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" descr="Tiles_BQMall_RA_HE_QP37_frame347"/>
          <p:cNvPicPr/>
          <p:nvPr/>
        </p:nvPicPr>
        <p:blipFill>
          <a:blip r:embed="rId2"/>
          <a:srcRect l="0" t="35387" r="0" b="0"/>
          <a:stretch/>
        </p:blipFill>
        <p:spPr>
          <a:xfrm>
            <a:off x="4572000" y="3068640"/>
            <a:ext cx="490392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Oval 3"/>
          <p:cNvSpPr/>
          <p:nvPr/>
        </p:nvSpPr>
        <p:spPr>
          <a:xfrm>
            <a:off x="2279520" y="1413000"/>
            <a:ext cx="16336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1531800" y="3573360"/>
            <a:ext cx="879480" cy="34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6743880" y="3933720"/>
            <a:ext cx="1644480" cy="503280"/>
          </a:xfrm>
          <a:prstGeom prst="ellipse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6012000" y="6148440"/>
            <a:ext cx="863640" cy="376200"/>
          </a:xfrm>
          <a:prstGeom prst="ellipse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233280" y="5969880"/>
            <a:ext cx="210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Sequence: BQMall, RA_HE, QP37, frame 347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4859280" y="158076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HM5.1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3492360" y="4942800"/>
            <a:ext cx="100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PROPOSAL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Visual analysis, multiple t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uble padding at independent slice and tile boundaries. At independent slice and tile boundaries boundary padding and VB padding are applied at the sam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witch off VB padding at independent slice and tile boundaries, since no line memory is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ding gain 0.2% for independent tiles and 0.1% for independent sl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mprovement in the subjective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p filtering across slice and tile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lication of double padding at independent tile/slice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Loop filtering accross slice/tile boundaries</a:t>
            </a:r>
            <a:endParaRPr b="0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wo flags in the SPS to control the loop filters at tile and slice bounda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a0aff"/>
                </a:solidFill>
                <a:latin typeface="Arial"/>
              </a:rPr>
              <a:t>loop_filter_across_slice_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a0aff"/>
                </a:solidFill>
                <a:latin typeface="Arial"/>
              </a:rPr>
              <a:t>loop_filter_across_tile_fl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CA" sz="2400" spc="-1" strike="noStrike">
                <a:solidFill>
                  <a:srgbClr val="0a0aff"/>
                </a:solidFill>
                <a:latin typeface="Arial"/>
              </a:rPr>
              <a:t>loop_filter_across_slice_flag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s 0, loop filters do not cross slice bounda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imilar situation for </a:t>
            </a:r>
            <a:r>
              <a:rPr b="0" lang="en-CA" sz="2400" spc="-1" strike="noStrike">
                <a:solidFill>
                  <a:srgbClr val="0a0aff"/>
                </a:solidFill>
                <a:latin typeface="Arial"/>
              </a:rPr>
              <a:t>loop_filter_across_tile_flag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Line memory at independent slice and tile boundaries</a:t>
            </a:r>
            <a:endParaRPr b="0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92" name="Picture 2" descr="Picture1"/>
          <p:cNvPicPr/>
          <p:nvPr/>
        </p:nvPicPr>
        <p:blipFill>
          <a:blip r:embed="rId1"/>
          <a:stretch/>
        </p:blipFill>
        <p:spPr>
          <a:xfrm>
            <a:off x="1878120" y="836640"/>
            <a:ext cx="5383080" cy="2790720"/>
          </a:xfrm>
          <a:prstGeom prst="rect">
            <a:avLst/>
          </a:prstGeom>
          <a:ln w="0">
            <a:noFill/>
          </a:ln>
        </p:spPr>
      </p:pic>
      <p:sp>
        <p:nvSpPr>
          <p:cNvPr id="93" name="Content Placeholder 2"/>
          <p:cNvSpPr/>
          <p:nvPr/>
        </p:nvSpPr>
        <p:spPr>
          <a:xfrm>
            <a:off x="147600" y="3984480"/>
            <a:ext cx="884412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4120" indent="-38412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xample (</a:t>
            </a:r>
            <a:r>
              <a:rPr b="0" lang="en-CA" sz="1800" spc="-1" strike="noStrike">
                <a:solidFill>
                  <a:srgbClr val="0a0aff"/>
                </a:solidFill>
                <a:latin typeface="Arial"/>
              </a:rPr>
              <a:t>loop_filter_across_slice_fla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is equal to 0): 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952560" indent="-37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uring the processing of LCU 8 with ALF, pixels from LCU 14 are not required.  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952560" indent="-37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uring the processing of LCU 14 with ALF, pixels from LCU 8 are not required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CA" sz="1800" spc="-1" strike="noStrike">
                <a:solidFill>
                  <a:srgbClr val="0a0aff"/>
                </a:solidFill>
                <a:latin typeface="Arial"/>
              </a:rPr>
              <a:t>loop_filter_across_slice_flag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is 0; no line memory required for ALF along slice boundaries.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CA" sz="1800" spc="-1" strike="noStrike">
                <a:solidFill>
                  <a:srgbClr val="0a0aff"/>
                </a:solidFill>
                <a:latin typeface="Arial"/>
              </a:rPr>
              <a:t>loop_filter_across_tile_flag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is 0; no line memory required for ALF along tile boundaries.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roblem</a:t>
            </a:r>
            <a:endParaRPr b="0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95" name="Picture 1258" descr="Picture2"/>
          <p:cNvPicPr/>
          <p:nvPr/>
        </p:nvPicPr>
        <p:blipFill>
          <a:blip r:embed="rId1"/>
          <a:stretch/>
        </p:blipFill>
        <p:spPr>
          <a:xfrm>
            <a:off x="2050920" y="836640"/>
            <a:ext cx="4819680" cy="3097080"/>
          </a:xfrm>
          <a:prstGeom prst="rect">
            <a:avLst/>
          </a:prstGeom>
          <a:ln w="0">
            <a:noFill/>
          </a:ln>
        </p:spPr>
      </p:pic>
      <p:sp>
        <p:nvSpPr>
          <p:cNvPr id="96" name="Content Placeholder 2"/>
          <p:cNvSpPr/>
          <p:nvPr/>
        </p:nvSpPr>
        <p:spPr>
          <a:xfrm>
            <a:off x="147600" y="4560840"/>
            <a:ext cx="8844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uble padding occurs at independent slice and tile boundaries. 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irtual Boundary padding is applied on top of boundary padding although it is not actually required.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roposal</a:t>
            </a:r>
            <a:endParaRPr b="0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147600" y="692280"/>
            <a:ext cx="88441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wo simple rules are included in Virtual Boundary padding operation for line memory red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CA" sz="2000" spc="-1" strike="noStrike">
                <a:solidFill>
                  <a:srgbClr val="0a0aff"/>
                </a:solidFill>
                <a:latin typeface="Arial"/>
              </a:rPr>
              <a:t>loop_filter_across_slice_flag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is 0, then Virtual Boundary padding is not applied at horizontal slice bound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CA" sz="2000" spc="-1" strike="noStrike">
                <a:solidFill>
                  <a:srgbClr val="0a0aff"/>
                </a:solidFill>
                <a:latin typeface="Arial"/>
              </a:rPr>
              <a:t>loop_filter_across_tile_flag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is 0, then Virtual Boundary padding is not applied at horizontal tile bound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Remark: Virtual Boundary padding is currently not applied at frame boundaries alrea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roposal</a:t>
            </a:r>
            <a:endParaRPr b="0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 the slice header following syntax element is signal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m_sgu_alf_padding: </a:t>
            </a:r>
            <a:r>
              <a:rPr b="0" lang="en-CA" sz="1800" spc="-1" strike="noStrike">
                <a:solidFill>
                  <a:srgbClr val="cc0000"/>
                </a:solidFill>
                <a:latin typeface="Arial"/>
              </a:rPr>
              <a:t>Number of Slice Granularity Units that lie at a bottom LCU where VB processing is applie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um_sgu_alf_padding is signalled in order to facilitate LCU-based decoding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f num_sgu_alf_padding is not signalled, it is not possible to know whether an LCU lies at a bottom slice boundary in LCU-based deco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1774800"/>
            <a:ext cx="6526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imulation results: Multiple tiles mo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147600" y="692280"/>
            <a:ext cx="42084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M5.1 is used in simulations: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iles mode: Each LCU row is a tile.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419640" y="2637000"/>
            <a:ext cx="2038320" cy="1885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603760" y="623880"/>
            <a:ext cx="29289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imulation results: Multiple slices mo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147600" y="692280"/>
            <a:ext cx="464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M5.1 is used in simulations: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lice mode: Each LCU row is a slice.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2867040" cy="5962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3419640" y="2695680"/>
            <a:ext cx="203832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Thomas Wedi</dc:creator>
  <dc:description/>
  <dc:language>en-US</dc:language>
  <cp:lastModifiedBy>semih.esenlik</cp:lastModifiedBy>
  <dcterms:modified xsi:type="dcterms:W3CDTF">2012-02-05T16:39:32Z</dcterms:modified>
  <cp:revision>2059</cp:revision>
  <dc:subject/>
  <dc:title>Template</dc:title>
</cp:coreProperties>
</file>