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F7BD-A517-4CC8-AAFE-9F236FC2A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D21-5B0D-4313-B330-44824A909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1677-1B8F-4EE7-9D88-C4261A323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F85-581D-4130-86F9-5A4B5A670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A421-E2B8-4851-977B-29F0F0106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A909-79AB-4D18-AFEA-D8EF93E26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A7E2-2374-43E8-8873-9775E308E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6D81-E457-4638-9642-6D3B40C3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1EDF-27A1-4857-8A6E-B4F8087B0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3210-5356-45C6-8585-F5CC34544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5664-9643-412A-AA25-B539A7EA5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9018-0E95-46E9-812F-C12E96002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E052-4205-425A-AC24-8261E2932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1245-DF84-485C-8E86-962CBA9F2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B2AC-C47B-4015-8C33-38BAC8F04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0295-62C5-4F5D-B2E1-ECB013CB9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69D4-B2DC-49AC-9306-09447F227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H0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E9: Simplification of AMV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iang Zhao, Xun Guo, Shawmin Lei (MediaTek), Siwei Ma, Wen Gao (PKU), Debin Zhao (H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San J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-10 February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odifications are proposed to simplify AMVP candidate lis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ly, the temporal motion vector is exempted from the duplicated candidates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ly, zero checking is removed when the candidate number is smaller th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M5.0 and test conditions of JCTVC-G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no BD-rate change compared with HM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 reportedly show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D-rate reduction in low delay B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the same as that of HM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D8A-EEB8-4F5E-9299-2947D7023D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57A-28D6-4347-A8ED-4052F6180D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VP List Construction in HM5.0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patial candidates from the left and above categ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temporal candi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edundancy checking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duplicated MV predictor by making comparisons among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if the candidate is zero when the candidate number is smaller tha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no, zero motion vector is added at the end of the candidate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1062-1AFC-4A60-AEE1-34B33C3CBD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7"/>
          <p:cNvSpPr/>
          <p:nvPr/>
        </p:nvSpPr>
        <p:spPr>
          <a:xfrm>
            <a:off x="2324160" y="5535720"/>
            <a:ext cx="174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8"/>
          <p:cNvSpPr/>
          <p:nvPr/>
        </p:nvSpPr>
        <p:spPr>
          <a:xfrm>
            <a:off x="5148360" y="5535720"/>
            <a:ext cx="165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567160" y="3381480"/>
            <a:ext cx="3000240" cy="2833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5567400" y="5535720"/>
            <a:ext cx="357120" cy="366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VP List Construction in HM5.0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7120" y="1123560"/>
            <a:ext cx="7905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4338720" y="6215040"/>
            <a:ext cx="463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1CDB-538F-4515-96A0-38C494BB88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2"/>
          <p:cNvSpPr/>
          <p:nvPr/>
        </p:nvSpPr>
        <p:spPr>
          <a:xfrm>
            <a:off x="2428920" y="102564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53"/>
          <p:cNvSpPr/>
          <p:nvPr/>
        </p:nvSpPr>
        <p:spPr>
          <a:xfrm>
            <a:off x="2965320" y="954000"/>
            <a:ext cx="121464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tial Candi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5"/>
          <p:cNvSpPr/>
          <p:nvPr/>
        </p:nvSpPr>
        <p:spPr>
          <a:xfrm>
            <a:off x="2428920" y="188280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56"/>
          <p:cNvSpPr/>
          <p:nvPr/>
        </p:nvSpPr>
        <p:spPr>
          <a:xfrm>
            <a:off x="4680000" y="928800"/>
            <a:ext cx="11062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mporal Candi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2428920" y="2739960"/>
            <a:ext cx="207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60"/>
          <p:cNvSpPr/>
          <p:nvPr/>
        </p:nvSpPr>
        <p:spPr>
          <a:xfrm>
            <a:off x="2692440" y="209700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uplicated MV predi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no candidates, zero is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mond 63"/>
          <p:cNvSpPr/>
          <p:nvPr/>
        </p:nvSpPr>
        <p:spPr>
          <a:xfrm>
            <a:off x="2263680" y="3000240"/>
            <a:ext cx="4357800" cy="57168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idate number &lt; 2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5"/>
          <p:cNvSpPr/>
          <p:nvPr/>
        </p:nvSpPr>
        <p:spPr>
          <a:xfrm>
            <a:off x="2357280" y="481176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8"/>
          <p:cNvSpPr/>
          <p:nvPr/>
        </p:nvSpPr>
        <p:spPr>
          <a:xfrm>
            <a:off x="4857840" y="39546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1"/>
          <p:cNvSpPr/>
          <p:nvPr/>
        </p:nvSpPr>
        <p:spPr>
          <a:xfrm>
            <a:off x="3965400" y="450360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46"/>
          <p:cNvCxnSpPr/>
          <p:nvPr/>
        </p:nvCxnSpPr>
        <p:spPr>
          <a:xfrm flipH="1">
            <a:off x="3571200" y="1787400"/>
            <a:ext cx="1080" cy="310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6" name="Straight Arrow Connector 48"/>
          <p:cNvCxnSpPr/>
          <p:nvPr/>
        </p:nvCxnSpPr>
        <p:spPr>
          <a:xfrm flipH="1">
            <a:off x="5214600" y="1785960"/>
            <a:ext cx="2160" cy="311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7" name="Straight Arrow Connector 50"/>
          <p:cNvCxnSpPr>
            <a:stCxn id="130" idx="2"/>
            <a:endCxn id="131" idx="0"/>
          </p:cNvCxnSpPr>
          <p:nvPr/>
        </p:nvCxnSpPr>
        <p:spPr>
          <a:xfrm flipH="1">
            <a:off x="4440960" y="2739960"/>
            <a:ext cx="2520" cy="26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8" name="Straight Arrow Connector 52"/>
          <p:cNvCxnSpPr>
            <a:stCxn id="131" idx="2"/>
          </p:cNvCxnSpPr>
          <p:nvPr/>
        </p:nvCxnSpPr>
        <p:spPr>
          <a:xfrm>
            <a:off x="4441680" y="3571560"/>
            <a:ext cx="57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Straight Arrow Connector 59"/>
          <p:cNvCxnSpPr/>
          <p:nvPr/>
        </p:nvCxnSpPr>
        <p:spPr>
          <a:xfrm>
            <a:off x="4462920" y="4454640"/>
            <a:ext cx="1080" cy="597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0" name="Straight Connector 65"/>
          <p:cNvSpPr/>
          <p:nvPr/>
        </p:nvSpPr>
        <p:spPr>
          <a:xfrm>
            <a:off x="6621480" y="3286080"/>
            <a:ext cx="950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0"/>
          <p:cNvSpPr/>
          <p:nvPr/>
        </p:nvSpPr>
        <p:spPr>
          <a:xfrm>
            <a:off x="7572240" y="3286080"/>
            <a:ext cx="0" cy="2460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23"/>
          <p:cNvSpPr/>
          <p:nvPr/>
        </p:nvSpPr>
        <p:spPr>
          <a:xfrm>
            <a:off x="2679840" y="5025960"/>
            <a:ext cx="360684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zero motion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mond 26"/>
          <p:cNvSpPr/>
          <p:nvPr/>
        </p:nvSpPr>
        <p:spPr>
          <a:xfrm>
            <a:off x="2284560" y="3882960"/>
            <a:ext cx="4359240" cy="5716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candidate = 0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29"/>
          <p:cNvCxnSpPr/>
          <p:nvPr/>
        </p:nvCxnSpPr>
        <p:spPr>
          <a:xfrm>
            <a:off x="4462920" y="5454720"/>
            <a:ext cx="1080" cy="7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5" name="Straight Connector 38"/>
          <p:cNvSpPr/>
          <p:nvPr/>
        </p:nvSpPr>
        <p:spPr>
          <a:xfrm flipH="1">
            <a:off x="1643040" y="4168800"/>
            <a:ext cx="6415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4"/>
          <p:cNvSpPr/>
          <p:nvPr/>
        </p:nvSpPr>
        <p:spPr>
          <a:xfrm>
            <a:off x="1643040" y="4168800"/>
            <a:ext cx="0" cy="157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47"/>
          <p:cNvCxnSpPr/>
          <p:nvPr/>
        </p:nvCxnSpPr>
        <p:spPr>
          <a:xfrm>
            <a:off x="1642680" y="5746320"/>
            <a:ext cx="2786760" cy="1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8" name="TextBox 71"/>
          <p:cNvSpPr/>
          <p:nvPr/>
        </p:nvSpPr>
        <p:spPr>
          <a:xfrm>
            <a:off x="6858000" y="29782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61"/>
          <p:cNvCxnSpPr/>
          <p:nvPr/>
        </p:nvCxnSpPr>
        <p:spPr>
          <a:xfrm flipH="1">
            <a:off x="4500360" y="5745600"/>
            <a:ext cx="3072240" cy="1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0" name="TextBox 71"/>
          <p:cNvSpPr/>
          <p:nvPr/>
        </p:nvSpPr>
        <p:spPr>
          <a:xfrm>
            <a:off x="4587840" y="35496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1"/>
          <p:cNvSpPr/>
          <p:nvPr/>
        </p:nvSpPr>
        <p:spPr>
          <a:xfrm>
            <a:off x="1636560" y="38005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implification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, it is proposed to compare only spatial AMVP candidates and exempt the temporal one from the first redundancy checking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maximum comparison operations can from 3 t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the error resilience of AMVP when reference frame is lost and temporal candidate is not available at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199"/>
              </a:spcAft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ly, it is proposed to directly add a zero motion vector in the end of AMVP candidate list if there is less than 2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hecking is removed, which is actually red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BD2-898E-4A2D-A53E-E07D606AA4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implification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CAB-A307-4D01-B63C-73D84C4A28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7120" y="1123560"/>
            <a:ext cx="7905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2"/>
          <p:cNvSpPr/>
          <p:nvPr/>
        </p:nvSpPr>
        <p:spPr>
          <a:xfrm>
            <a:off x="2428920" y="1415880"/>
            <a:ext cx="207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8"/>
          <p:cNvSpPr/>
          <p:nvPr/>
        </p:nvSpPr>
        <p:spPr>
          <a:xfrm>
            <a:off x="2965320" y="1344600"/>
            <a:ext cx="121464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tial Candi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5"/>
          <p:cNvSpPr/>
          <p:nvPr/>
        </p:nvSpPr>
        <p:spPr>
          <a:xfrm>
            <a:off x="2428920" y="227340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0"/>
          <p:cNvSpPr/>
          <p:nvPr/>
        </p:nvSpPr>
        <p:spPr>
          <a:xfrm>
            <a:off x="4680000" y="1319040"/>
            <a:ext cx="110628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mporal Candi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9"/>
          <p:cNvSpPr/>
          <p:nvPr/>
        </p:nvSpPr>
        <p:spPr>
          <a:xfrm>
            <a:off x="2428920" y="313056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12"/>
          <p:cNvSpPr/>
          <p:nvPr/>
        </p:nvSpPr>
        <p:spPr>
          <a:xfrm>
            <a:off x="2692440" y="248760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uplicated MV predi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3"/>
          <p:cNvSpPr/>
          <p:nvPr/>
        </p:nvSpPr>
        <p:spPr>
          <a:xfrm>
            <a:off x="2263680" y="3500280"/>
            <a:ext cx="4357800" cy="57168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idate number &lt; 2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2357280" y="520236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8"/>
          <p:cNvSpPr/>
          <p:nvPr/>
        </p:nvSpPr>
        <p:spPr>
          <a:xfrm>
            <a:off x="4857840" y="434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7"/>
          <p:cNvCxnSpPr/>
          <p:nvPr/>
        </p:nvCxnSpPr>
        <p:spPr>
          <a:xfrm flipH="1">
            <a:off x="3571200" y="2178000"/>
            <a:ext cx="1080" cy="310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70" name="Straight Arrow Connector 19"/>
          <p:cNvCxnSpPr>
            <a:stCxn id="165" idx="2"/>
            <a:endCxn id="166" idx="0"/>
          </p:cNvCxnSpPr>
          <p:nvPr/>
        </p:nvCxnSpPr>
        <p:spPr>
          <a:xfrm flipH="1">
            <a:off x="4440960" y="3132000"/>
            <a:ext cx="2520" cy="370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71" name="Straight Arrow Connector 20"/>
          <p:cNvCxnSpPr>
            <a:stCxn id="166" idx="2"/>
          </p:cNvCxnSpPr>
          <p:nvPr/>
        </p:nvCxnSpPr>
        <p:spPr>
          <a:xfrm>
            <a:off x="4441680" y="4071600"/>
            <a:ext cx="57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72" name="Straight Arrow Connector 21"/>
          <p:cNvCxnSpPr/>
          <p:nvPr/>
        </p:nvCxnSpPr>
        <p:spPr>
          <a:xfrm>
            <a:off x="4462920" y="4844520"/>
            <a:ext cx="1080" cy="597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3" name="Straight Connector 22"/>
          <p:cNvSpPr/>
          <p:nvPr/>
        </p:nvSpPr>
        <p:spPr>
          <a:xfrm>
            <a:off x="6621480" y="3786120"/>
            <a:ext cx="950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3"/>
          <p:cNvSpPr/>
          <p:nvPr/>
        </p:nvSpPr>
        <p:spPr>
          <a:xfrm>
            <a:off x="7572240" y="3786120"/>
            <a:ext cx="0" cy="1247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24"/>
          <p:cNvSpPr/>
          <p:nvPr/>
        </p:nvSpPr>
        <p:spPr>
          <a:xfrm>
            <a:off x="2657520" y="4416480"/>
            <a:ext cx="360684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zero motion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1"/>
          <p:cNvSpPr/>
          <p:nvPr/>
        </p:nvSpPr>
        <p:spPr>
          <a:xfrm>
            <a:off x="7072200" y="347832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31"/>
          <p:cNvCxnSpPr/>
          <p:nvPr/>
        </p:nvCxnSpPr>
        <p:spPr>
          <a:xfrm flipH="1">
            <a:off x="4500360" y="5020200"/>
            <a:ext cx="3072240" cy="13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78" name="TextBox 71"/>
          <p:cNvSpPr/>
          <p:nvPr/>
        </p:nvSpPr>
        <p:spPr>
          <a:xfrm>
            <a:off x="4587840" y="404964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37"/>
          <p:cNvSpPr/>
          <p:nvPr/>
        </p:nvSpPr>
        <p:spPr>
          <a:xfrm>
            <a:off x="5786280" y="1785960"/>
            <a:ext cx="8575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0"/>
          <p:cNvSpPr/>
          <p:nvPr/>
        </p:nvSpPr>
        <p:spPr>
          <a:xfrm>
            <a:off x="6621480" y="1785960"/>
            <a:ext cx="0" cy="1498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42"/>
          <p:cNvCxnSpPr/>
          <p:nvPr/>
        </p:nvCxnSpPr>
        <p:spPr>
          <a:xfrm flipH="1" flipV="1">
            <a:off x="4463280" y="3284280"/>
            <a:ext cx="21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– HM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test conditions of JCTVC-G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Samsung for cross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H0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744-1F4C-4412-8AD7-4AABF496E1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14240" y="3000240"/>
          <a:ext cx="7691400" cy="2468520"/>
        </p:xfrm>
        <a:graphic>
          <a:graphicData uri="http://schemas.openxmlformats.org/drawingml/2006/table">
            <a:tbl>
              <a:tblPr/>
              <a:tblGrid>
                <a:gridCol w="666720"/>
                <a:gridCol w="1078200"/>
                <a:gridCol w="1268280"/>
                <a:gridCol w="1170000"/>
                <a:gridCol w="1170000"/>
                <a:gridCol w="1168560"/>
                <a:gridCol w="116964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c. Tim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. Tim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ifications were proposed to simplify AMVP candidate gen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, the temporal motion vector is exempted from the redundancy checking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ly, zero motion vector is added directly when candidate number is smaller tha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o include the simplifications in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D00-1D48-45E0-A27D-D26BAD82EE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2-01-31T10:03:26Z</dcterms:modified>
  <cp:revision>1615</cp:revision>
  <dc:subject/>
  <dc:title>Title: Arial Bold 32pt</dc:title>
</cp:coreProperties>
</file>