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EFB7-5C93-4A72-AEAC-A95D8DD66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068-1ED1-42EF-9FE0-B2727A295D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C6F-4B29-440C-BD87-BFBD39F4D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0AC6-8A00-4F7B-B706-E9BE195A7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3162-0721-4092-87A1-D414923D6E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E0C74-C0A8-4EAE-9BCD-CE2E711942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BD94CF-3A16-46BE-8AE2-E7CEE43E5A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5C11D-AF96-42A1-BC09-8A6758BF14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D680C4-D1D8-4C91-A0B4-31525116A9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ACD030-D6AC-4D1A-B2E8-FF3C6300AE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F8EC7-F40D-493D-939C-7C8310E2D5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32A9F-40C7-4EA2-86D7-2829B90641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B0442-6904-4645-8C7A-8B8DE43A24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FCE5C-A8DE-4019-BA4E-D5894F5333E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6129-1122-45D6-ADD1-8C38E645F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DCB8-A484-42EE-84FC-A4DE7CA225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88B3-82E3-45B8-BB67-63F768DB07D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0F80-6145-4845-9786-B82CC76F522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771C-1288-4FC6-AF8A-612D841AAC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6E29C-3E7D-4970-A9BB-F793B138C4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B3273-866F-4714-AE25-E9382A59E6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E7FF-DDD3-48F5-A8C6-07E9FA5A0E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F163-DEC4-4991-B888-85CD22934B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594C8-4D71-467D-96BE-788211DE30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4EFE-33E1-4ADB-970A-16B3E3D02E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D3C0-044C-4381-8297-AB8D47AEB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54B8-8948-49B0-A9EC-A855F9A6683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8C22-B5C3-4B93-948A-292DBF998FB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02B66-D043-4ED1-82F0-9092757109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359D8-FBF9-4088-AD79-390E0E4A6A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F49F2-0740-49BC-8C79-C7AE1CED88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BF220-68F7-4589-ACE3-B3F0B86F89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24548-76B8-4E04-8B6D-793618AA35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D876D-DB87-4BC3-B4C4-6F99003922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6753F-DC0F-48AB-BB78-3F097A0B9C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B83A8-05FC-4E8D-A821-FC392A8D2F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6F017-B5CF-4A2F-8ED8-F6D0C554E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C17C6-AE0B-4F19-8FFD-32106EF27B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EA00A-3EA0-4A78-ABBD-C3B0092D83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4B220-05E0-4FB0-8FDD-6F5FC6D122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1CB52-A382-4DDF-AED6-DE9076D2CE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CF377-C5AF-4E68-BDB8-40DBB1F6458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772E5-9F8A-44C3-98D1-2CEA1053AC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217433-DF20-49AC-A14B-54731FFD1F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DBC9BE-1E7C-43B2-83A3-0714E038BE0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C856E-B833-4461-91D1-683044AA29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3AA55-A8CD-476D-9F6C-ECD171C2D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53BEF-1157-4F68-87E9-76B43955D1E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D0D27-0B93-4C0A-B440-10E877EE3F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83C00-2E99-4391-A2CA-3B13BC1DD4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EA9B1-8895-4F28-A8B8-B51046114C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6A51B-AEC8-4453-9486-B9D0D0EC7C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FF9F9-7998-45E5-8B8C-25F25FF4FC4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5D6F-3CB8-4111-A142-58E1CE44DF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7E39-1E99-4929-BBD6-2125E538F6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3D76-0085-429E-A981-9090BA9F35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5494D-14D1-4923-9947-B32C27A97E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D7574-B7AA-4BFA-91B4-47F8047E18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6870-E033-4244-9797-05F49A1F4D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2845-75F7-4A3F-8560-291589289A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626B-9428-46F0-880F-8B4393647B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BA50-9C13-4E26-A114-7890C4C033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67AC-D2C6-42ED-8B4C-60DFCC2579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5616-8A97-4F97-AC26-19838ED37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8836-CF8A-4A7D-AFFD-85A239ADD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6DD9-81C4-4CD3-93DD-E959734849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D63A-5075-433D-9185-870CBCA405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85E22-4FBF-4D59-9D3D-D6D6E02A3E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21EB-4CD7-4CA1-94EE-3C296D70B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BADA-7E92-4730-B62A-97C20E1C9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6443-C260-4728-A886-0960A5688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337B7-9FC1-45CF-840C-05EE235E43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24915-0188-4506-B111-4189457EF6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ABAC5-DB64-42F6-B434-47513C3FEE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30A2-56D0-4C9B-97FF-6C310ADB4B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F615-ED20-496B-94AA-CA4AFCF4AB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1DFEF-3272-46F0-9878-686F121C7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C7EA0-02AA-46B2-A60B-BF560B228B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3D31-0787-4ECE-8EDD-697944115A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AD4-8708-41ED-8491-631F4DC96B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30A-DC2D-4699-A979-8E27A1EC6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7875-9470-45F5-B949-E4D650BE53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270D-F165-4459-9916-947EF9A67B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640-C9FE-4190-880B-B3C4F806A2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EFA6-1BE9-466B-8AB1-192DE68414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1CAE-ABAC-4720-B325-CD717B7300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97C9-4F8B-4EB7-8D59-D99E44F60E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99D-207D-49E9-890A-56B291A71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0BF-40F5-4127-B4AE-ECEBDE8E1E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8DDD-67AE-48EA-8432-850A8A0F5D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95B-84EF-4DB4-BF7B-78BB83F31B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18FF8-22B7-4321-A9D7-4B6AE01F4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F8D3-44FA-46EE-97F8-310FC693A92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D9FAE-1F90-49E5-9620-345183873F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CCF31-7283-438A-88D6-4323CF46D9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BC352-0245-4BB8-84E5-DF93965A270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81527-7CFF-4AD3-B4F0-8074018D9E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4E72F-5335-43E6-8B85-6FF74722FB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0C61E-188B-4E37-AA5F-F5A337CC9B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23046-FF5E-45DB-89BC-8583D8606D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61CBC-F971-4378-9F0E-6DFF5A2102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B5DE8-44B1-4DCA-9D46-F7C8FD63D4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A948D-4B54-41BC-96DE-F2D23C355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27AF-4C02-4B6F-81DC-BA7AB333F9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9B06E-C856-4F2F-A040-BF8AC51FB1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FBA16-8070-4288-B8E7-0671C32C94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C07A1-0741-49FF-9ACC-B12FC59D0B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25D66-0058-437F-A4F8-936C030E7E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A7389-66D8-4BC1-9C0A-C6293D65B9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98E14-6AEC-41D1-96D6-5D461EB9D4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211CE-5899-4238-A81C-0CC40BD2C9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5F735-40DB-48A7-8B96-49D68C82BE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A61B0-C155-4D87-B7B8-880BADA705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E64FD-2C28-4025-BB71-2971DC0E4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0FC0-DBE1-4D20-A2FC-CAF80545DC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82A1A-F77A-4093-9597-8BECA5437E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028E1-BBFD-46EE-A950-4E02ED5ECA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4120B-5E6E-40D2-982A-7AB9F385AB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6B34-390C-42EB-83FB-B2475ECA29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7D19-B16A-4596-9CD0-7CF6F4101A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3F11-2194-4663-9FC6-DE83F60328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C3CF-0C0F-4098-A81C-D6A5A8EF12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A8E7-D69C-4A97-A2C9-348289B6C3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258A-04DF-45AD-B71A-C4436BA162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1DBD-1E14-4210-A7F4-C25FB073B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407D-7CB8-4F57-A5F1-A3DC05B369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C3F1-A409-4812-AF05-4984E32B1E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F4B23-996A-4410-AC32-3CDB5677B1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77A1-11D0-49D2-85C8-695DC86148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91AD-A637-4541-921C-6FB6B9F2C1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BE85-BD96-4743-BAE5-B8FE82EFD8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91398-E5B4-4AEB-8B4C-FFFF5D2672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6FEF3-01F5-4D63-B3B6-42F3F2DE9F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2721E-DABB-419B-B984-A282857B9E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9A673-70F5-421B-9293-C4EA619C4F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3202C-796B-42E8-9B73-FD8D4EE4F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1CBE-BC39-49CE-B18D-3D23844C28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BE7FA-01DA-49C9-8A57-37BC572F7B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F28D6-584A-4FBE-A027-E01EA0AB69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6E2DC-B91B-4264-81BF-849192A39B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56211-8399-4638-ADBA-683BC378B7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77281-9E0B-4436-8DDB-776CC8F2B4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715E5-043E-4C4E-9482-C22E6F88A7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89A39-A70B-4DE5-8D22-FD2519DBE2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38A7D-77FE-46F7-8314-E768E8CB4C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C15EB-5EE7-4FB6-8F97-642B8671A6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FC6EF-8E15-434A-A8A2-38733A98E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8A8-A658-44C7-9591-9387CFA52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F97-8A62-4DE9-9F17-F98F322B9C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E067-77B7-46EC-9176-D392960D6A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7DC-B501-442C-A6EB-58A466A5BD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A476-2AB0-4F76-A6C5-A2A0666C2F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338-6ADE-4A45-87FC-ACB02CB942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5A0-8FA0-4380-B0F5-3E604A199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C53E-7C2E-4355-BA66-99D5EC6425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8F3-BBAA-4704-85CF-EF882ADD19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8E0-08F8-4C88-9A1B-767A804DB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024-F2AC-4B06-82BF-616F0BF28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D8D9-D45F-403D-B453-058EC3432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HG15: On Signaling of Several Syntax Elements in S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ang 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Jicheng An, Xun Guo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-10, Feb.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M5.0: CU &amp; TU Size Information in S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928800" y="1285920"/>
          <a:ext cx="7358040" cy="4189320"/>
        </p:xfrm>
        <a:graphic>
          <a:graphicData uri="http://schemas.openxmlformats.org/drawingml/2006/table">
            <a:tbl>
              <a:tblPr/>
              <a:tblGrid>
                <a:gridCol w="6215040"/>
                <a:gridCol w="1143000"/>
              </a:tblGrid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_parameter_set_rbsp(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ile_i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S Mincho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min_coding_block_size_minu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diff_max_min_coding_block_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min_transform_block_size_minu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diff_max_min_transform_block_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min_pcm_coding_block_size_minu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_transform_hierarchy_depth_i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_transform_hierarchy_depth_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sp_trailing_bits( 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DE4F-8DBF-45DC-8836-5551A1C155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4500720" y="2571840"/>
            <a:ext cx="28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 size: 8x8-64x64, 2-3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"/>
          <p:cNvSpPr/>
          <p:nvPr/>
        </p:nvSpPr>
        <p:spPr>
          <a:xfrm>
            <a:off x="4714920" y="2894040"/>
            <a:ext cx="28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 TU size &lt; min CU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5572080" y="3701880"/>
            <a:ext cx="1643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 size: 4x4-32x32, 2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Straight Arrow Connector 12"/>
          <p:cNvCxnSpPr/>
          <p:nvPr/>
        </p:nvCxnSpPr>
        <p:spPr>
          <a:xfrm>
            <a:off x="4802040" y="3429000"/>
            <a:ext cx="556560" cy="3578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9" name="Straight Arrow Connector 16"/>
          <p:cNvCxnSpPr/>
          <p:nvPr/>
        </p:nvCxnSpPr>
        <p:spPr>
          <a:xfrm flipV="1">
            <a:off x="4714920" y="4123440"/>
            <a:ext cx="643320" cy="305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Straight Arrow Connector 20"/>
          <p:cNvCxnSpPr/>
          <p:nvPr/>
        </p:nvCxnSpPr>
        <p:spPr>
          <a:xfrm>
            <a:off x="4714920" y="4000680"/>
            <a:ext cx="643320" cy="21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2_diff_max_min_coding_block_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maximum and minimum CU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 sizes in HM5.0: 8x8 ~ 64x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max/min CU sizes: 0~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3 bits should b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fix-length coding instead of v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e(v) =&gt; u(2)/u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9168-A5C8-4611-8F53-1EF7614D34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2_min_transform_block_size_minus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T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TU size should be no larger than minimum C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ignal the difference between the minimum TU size and minimum CU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2_min_cu_size_minus_min_tu_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2D8-55DA-4D34-986A-7C2BF1D915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2_diff_max_min_transform_block_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maximum and minimum TU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sizes in HM5.0: 4x4 ~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max/min TU sizes: 0~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3 bits should b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fix-length coding instead of v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e(v) =&gt; u(2)/u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2E2-C4E3-4278-8DF9-589A180990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transform_hierarchy_depth_i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QT depth for 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sizes in HM5.0: 4x4 ~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RQT depth for inter: 1~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transform_hierarchy_depth_inter_minus1 is actually used in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its should b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fix-length coding instead of v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e(v) =&gt; u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EA47-2F38-4993-8676-9E732DBD28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transform_hierarchy_depth_int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QT depth for i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sizes in HM5.0: 4x4 ~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RQT depth for intra: 1~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transform_hierarchy_depth_intra_minus1 is actually used in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its should b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fix-length coding instead of v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e(v) =&gt; u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116-CF81-4F99-AA2F-3433F09B2F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Revisions in S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Content Placeholder 4" descr=""/>
          <p:cNvPicPr/>
          <p:nvPr/>
        </p:nvPicPr>
        <p:blipFill>
          <a:blip r:embed="rId1"/>
          <a:stretch/>
        </p:blipFill>
        <p:spPr>
          <a:xfrm>
            <a:off x="853920" y="1212840"/>
            <a:ext cx="7504200" cy="4645080"/>
          </a:xfrm>
          <a:prstGeom prst="rect">
            <a:avLst/>
          </a:prstGeom>
          <a:ln w="0">
            <a:noFill/>
          </a:ln>
        </p:spPr>
      </p:pic>
      <p:sp>
        <p:nvSpPr>
          <p:cNvPr id="59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51F-D9E9-4FF1-961B-F79DC06970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of maximum/minimum CU and TU size information i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licit constraints between minimum CU and TU sizes are included into the semantics so that improper TU and CU size settings in practice can be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o adopt the revisions into WD and HM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6A6-55E5-41A5-A0AE-4A1CCD5A11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2-02-03T01:41:24Z</dcterms:modified>
  <cp:revision>1529</cp:revision>
  <dc:subject/>
  <dc:title>Title: Arial Bold 32pt</dc:title>
</cp:coreProperties>
</file>