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2463-A88E-45CC-A0A4-9D3E1B4921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6FEA-CC22-499A-B32F-602C6865AA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20A8-D414-4BC7-AC71-5666A503DF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Sim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7359-68CF-43B1-BE09-A7EF73C2A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B13D8-86C4-4FBE-BB1C-F5239443E9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07F3D-89EA-4100-9F7E-937757BA38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94EEF7-3E06-42D9-99D8-CAF2A1FA305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4017A-CA8E-4CB0-A226-D37DE3A8C34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45C29B-DE23-4FAF-8161-0367C707C86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85F4B3-95D9-451D-BD38-B8FDC33BE5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A5C39A-7F13-4005-AFA5-5EF4C16167D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A2CB8E-AACC-4F81-81EF-C4411677A30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F9E416-D7A8-4007-99EE-31ED9A87882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74BD2A-7F71-4E72-A33B-D5D57A592E8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B2C15-AE78-416D-B013-65C46283A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A57E-E91B-4726-A623-144A067408E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A949-9082-4A23-BDF6-9CA55B808E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68D10-3481-4FC0-9901-F91B52D4841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B3CAD-C82F-4B24-93B4-FCBDE223C2D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BE9E6-39EB-4466-9F87-01D4A2E98B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B096D-D24D-419F-8FD8-19F2EC01C3C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4A6C-3160-47CD-B624-23356C81E5F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4E081-2332-4F58-A99E-79AD7798967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96F86-E891-427F-AA23-9FE1DFC7AA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DA37-9C30-483A-9FEC-D5BB740F4F5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BAABB-65EC-4E54-A282-0614E3750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E363-E549-43F0-BE64-09162542B8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48C11-4FA0-49DD-A03D-76C57B510C6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D69BB-D319-4C4D-A1D9-2B8B0133590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17F9E9-7371-42B8-90F6-A87FD74426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CB265-89DD-4CD0-8C86-A737E20CE18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654D9-B0B1-4E90-A082-222631A65D2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700A4-B0FC-4199-B387-F07C602B9F1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7E9EF-E5DD-476A-8C1D-D0E7FBD4384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3A033B-AED9-4432-8ED2-028B48BE462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86E35-4707-437D-9D4F-B14A7290773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8F676-417E-42CA-BA6E-4CFE03547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8F0CF-C939-4644-84B6-635037FA18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6B327-5F6C-4CD6-B4D2-D6B3BE1F5C8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1B53A-5E88-4580-9268-B7C3BB2BFEE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D07D16-3CA1-45CA-A381-FE255512A54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011535-9480-4DA1-B922-961AD82D24C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DA2CF9-D277-4CB5-9521-71750F865F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AD33EC-161E-4077-A1EA-C60F155586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8990CA-E1A8-429C-BE31-9967543D0E1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0FE009-D620-4CE6-9978-2211262F9D5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C7B772-162F-463E-B75D-9D4DD84309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843590-61FC-41BE-A992-8FCFDD258D3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05E71-18E6-4D44-AF3B-57494E000A9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3878CF-22AC-4B1B-B46F-E5204B63176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38D76A-F4B7-4435-B19D-4DE398216AD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8B051-18F9-44CC-874C-EF4A439D6CF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518D6-E22F-43CE-8FA6-927BC3345DE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1298E-E636-48E6-B8C4-0E817D0D3DB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E41CE-855C-45E1-81EB-C73D9592D21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887D8-618C-4B27-B5B7-2059F654C27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388DC-239C-40D7-995F-32A6823A44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F8011-52A6-4A12-BD51-BF0BB1E37D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88BD6-5383-49A5-8565-3E72ED4056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65D9A-3132-4333-9596-44571115683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45597-2331-433D-8BBA-F899A83A724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C90B-B505-4C0B-ABCB-9717646458B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8CE22-C162-4139-9C52-1B0AE6E8D4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1BD49-A062-4B28-86EE-BE9BB8C6E0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4C0F-72BC-4726-AC3B-E27DC74EC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3154A-3C4B-4EA5-BBE1-C1B7266BE3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858B6-0B65-4A03-9181-C7254F3305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6DD23-72A4-44CF-AB39-65A84A8C3D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8E467-6663-4370-9F41-64A9FA4666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83092-CD93-46CE-8531-43FA582D51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11B4-D3AF-4BCA-A7D3-04171415DE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68E5D-CE44-4441-9BCA-C97C06E97C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55B9D-2B73-4167-B34F-74439CFC48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51121-B0B4-4CE6-837F-B7413AED17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5BD04-DF1E-46AE-90B6-6FFF3433C8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B38D-4BC7-4787-B17B-DC2A0CE970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4AA83-EDC5-4A6A-8FEC-708B37B55A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8423E-961D-4B65-BAAE-6150CD00DB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DB76-4735-4121-8E23-879FF144B9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1A65-4DD2-4251-93A5-704F642E54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052E-5D29-4420-B5F0-E119321DB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81CC-742F-414B-8DDF-4E799F181A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ED96-7BB5-460E-BEB6-A5AF30D49E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3EAB-F05F-42F1-8A79-BACDA11461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4601-6993-4213-BB2B-D68F92F8B2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7AFC-23B5-4078-8692-5FC15DC570B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CBAB-3D24-4BD0-90A7-C419633BF0E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E3C-2F74-4965-A97D-B7E836DCF3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18C4-0C4C-42E2-A899-99ADC92391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15B6-2067-4539-93CC-E41AFA9639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1BB5-9D9A-426B-964C-FDE5A7FCE5F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C3E42-21B5-4171-A8B2-903BD140C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8FA2A-95A8-4674-BD3A-9787870FF7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62BA1-0466-4917-AC66-8638CB523A7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A53412-AB1B-4C56-B0D5-1C48F414C91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18A34-6A67-4D80-9FA9-2A8C092ED9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022F0-21BC-4C89-A084-BCD02FCB3F8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C9C3C-EBDB-4E7B-84BE-B8691E5E122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19B4F-0B41-4E5D-BD39-6DFA48E9BC5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97B39-448F-470A-B4DE-2464C9EED1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F2F2B-B5B0-4837-85EE-91CE8984EE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E1EFE-2C92-4488-9BEC-4456CB0BA4D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253C6-66C8-4BF0-9E81-A689ADC47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2801-35AA-4F09-8A0E-F46CB336808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FCB45-1DBF-4A48-B1D1-EFC24659FC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B43B6-3310-4328-A76F-D882A3DD6BA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9746BA-F97F-49D7-B2FE-D4B08C037AC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A4AB9D-4F5E-4258-A702-4A0B97E293C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328E4-2F4A-4489-8C0D-6BBB6DEAB59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7405D-3903-43AB-996F-1B8E321693F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D58FF6-A54C-41B3-A21F-2244857CB0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A5F1E6-9883-4D60-A0A5-DF5C2898FD5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26CBB-4715-49A7-907F-F7977CA63B1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C38A4-2829-4AE2-8CA9-2262193B5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000D4-3EAE-480F-A282-4351EB70027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2DE30-4F15-4849-8929-DE4C36540D6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23F59-0867-4DCE-8BA3-B7AD8A2C27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68744E-11CB-4660-B464-01926F67E0D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19FE-766F-4106-857A-D6B682EB22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E40E-A3AB-4DFE-86A1-D2CECE534B7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2838-D61D-4A54-92AF-56B395BE324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F92DE-2BE3-4802-9423-A7E31FBBDC5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4710-BF43-44E6-8D36-E410FDA6F0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B980-B25B-4202-9686-4E4207C4AD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4958-05A8-41BD-A40A-FD5725A81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3C98-070B-4D9F-8399-1CB76ED328D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7304-CE92-43A9-AE43-C50F8221DF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37DDD-8195-4E58-8520-24D354FA63D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3A800-ED3D-4F23-AE4F-CD3D3617865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4B315-F95C-40B5-BC55-D841D26D8A7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E3E9-41CE-4103-BE0E-F03FD332AB9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E194E-A5BE-4B06-82DD-2F48FAE04D4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71DFF-5391-40E0-8C1B-DC809639F17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3DC96-E92C-4216-8070-61530232C8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E8E2B-87E4-4F18-94D7-B61795145B0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89A206-E642-471E-BE43-8D7831804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6A5AA-75D2-4866-9A3A-E82E17EE751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7F898-AD52-4631-A423-6F9B185EA6F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C7EC0-5EC9-419B-BAD2-7575E15B934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9C3A85-9F75-4C6F-83F2-9B04559A7E8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662FE-F23A-4D4C-8931-A7576D054C8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46057-7C46-4BD8-86AC-D5B9132947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0D9A6-EFED-4108-9D7B-84BA90D460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A417E3-CEEC-4AE3-8E0F-714E2273AB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2473F7-DE86-4F2C-8462-F3238B5232C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ACD599-8CC7-4E82-8F82-82128C1446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C386A6-E16C-4F45-A35B-23143E430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F512-CC36-42FB-B4EC-92FF76F191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1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052-BD7C-4BB4-809B-61871FAC34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1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CE28-CFC4-4630-8F76-734D210DFE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2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2478-5F2A-4AA3-8C3D-361E5B018B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ftr" idx="2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sldNum" idx="2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287-4918-4CF2-93C0-054FAE017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0"/>
          <p:cNvSpPr/>
          <p:nvPr/>
        </p:nvSpPr>
        <p:spPr>
          <a:xfrm>
            <a:off x="608040" y="6226200"/>
            <a:ext cx="28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777777"/>
                </a:solidFill>
                <a:latin typeface="Arial"/>
                <a:ea typeface="SimHei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BE3C-8F77-4B27-AE67-C85EEA9F87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6D36-3A72-46A9-9C93-C1A9777FC3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ftr" idx="7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8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192-55C2-4838-A4A3-D1BA96EF6B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9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0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E1C2-C057-4543-995C-104B1DF9E9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1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2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0599-4F12-4830-A485-56766A0102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3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4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1530-1B51-4ADB-B4B9-5EB37E0326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15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MediaTek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F164-CBFB-45CE-BE44-45C97620E2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6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-9360" y="2347920"/>
            <a:ext cx="9153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E4: Clipping of Transformed Coefficients before De-quant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ang Li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Xun Guo and Shawmin L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8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SimHei"/>
              </a:rPr>
              <a:t>JCTVC-H03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11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Hei"/>
              </a:rPr>
              <a:t>1-10, Feb.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3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4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5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6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7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olve the potential dynamic range overflow in de-quan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by BoG of quantization in Genev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quantization matrix is used, the dynamic range of de-quantization process may exceed 3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o clip level value before de-quan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823E-C4E5-4AFE-8DAC-0EDCD37342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-quantization with Quantization Matrix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26760" y="999720"/>
            <a:ext cx="80550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hift = M-1+DB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Shift &gt; QP/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Q[i][j] = (level[i][j]*W[i][j]*IQ[QP%6] + offset)&gt;&gt;(iShift-QP/6),  offset  = 1&lt;&lt;(iShift-QP/6-1), with i=0…nW-1, j = 0..nH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Q[i][j] = (level[i][j]*W[i][j]*IQ[QP%6]) &lt;&lt; (QP/6-iShift), with i=0…nW-1, j = 0..nH-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=log2(N), N stands for transform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=B-8, B is the bit-depth of input 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l represents quantized transformed coefficient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6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Q(x) indicates de-quantization step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7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denotes quantization matrix (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-b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ynamic range of the de-quantization process in (2) can be model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+W+IQ[QP%6]+QP/6-M+DB-3, where L is level value             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3909-242D-4143-9055-AD112E9751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QP≥48, M=2 (4x4 transform) and DB=0 (8-bit video), the dynamic range of (3) is 16+8+6+3=33 bits =&gt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verflow may occur in de-quan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overflow may be introduced by transmission error or generated by “evil” encoder – The overflow shall be avoided at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F0B1-9823-4A9F-96B0-B44362FC64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the range of (3)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+W+IQ[QP%6]+QP/6-M+DB-3 ≤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ng overflow occurs only when QP/6=8, M=2, DB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+8+6+QP/6-M-3 ≤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 ≤ 21-QP/6+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pping the level before de-quan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21-QP/6+M≥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= max( 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in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, leve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= max( 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-QP/6+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in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0-QP/6+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, leve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D7B3-A9AD-4519-9876-48E429AAA7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-5.0-QM (rev1710), default quantization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BBA6-BD45-42A0-8F6A-C7B66301E8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1928880" y="1644480"/>
            <a:ext cx="52862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Microsoft for crosschecking – JCTVC-H0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overflow in de-quantization process is avo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mpact on coding performance under common test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, only a code revision of several lines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 to adopt it into WD and HM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C59F-0927-44DB-9901-15BC77F9EC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1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Hei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2-02-03T18:19:13Z</dcterms:modified>
  <cp:revision>1537</cp:revision>
  <dc:subject/>
  <dc:title>Title: Arial Bold 32pt</dc:title>
</cp:coreProperties>
</file>