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9511-A42F-44EF-9032-6233AB88C4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4C2-08BC-4325-864A-1D956D3CBD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456-20FB-4692-B876-9A4C7CAEAB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057-03B3-420B-B2CD-04882C106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7E89-983E-4FF3-95D5-2734020B9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6AB4-BCA1-4149-A2B9-B4D0EB59F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EF77-0417-4420-A9B2-05D064496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EB7D-7FA4-4991-AE0A-4AC315923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B029-2303-45A6-851D-2F2E52E8D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990D-D7AD-4157-8227-AB3005242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72D8-F5E7-464E-8C41-843C12B24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ED24-9CD8-41D0-B7F4-D1ADCDD77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AC84-EB27-4D15-BA21-DCE94DEFC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DE7F-F425-4D82-9413-072A45C08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A5B9-25B2-411E-AC3E-C2C96616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0745-D2E5-44AB-846D-9D60ABEF5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14B0-2274-4157-BDE7-F24251F072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10 Subtest 1: Chroma Deblocking 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ian Huang, Jicheng An, Xun Guo,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San J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-10 February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768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ifications in 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filtering on/off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components share the filtering decision results of l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oundaries with Bs &gt; 0 could be fil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reductions of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4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5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I, RA and L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roma compon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HM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224D-B543-430B-B24C-BE253F6DC8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Decision in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Filtering Decision for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2B44-01AC-4F36-BA32-FB666E7CDF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Decision in HM5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y on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2F3-E153-4D6A-8020-4C16E4916D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42920" y="5429160"/>
            <a:ext cx="878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&lt; beta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&lt; beta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1608120" y="1622520"/>
            <a:ext cx="59277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Filtering Decision for Chro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luma filtering decision information for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ra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the comput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128 as 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Intra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use the filtering decision results of l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with Bs &gt; 0 could be filtered, which is Bs &gt; 1 in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1B9-83C9-4C9A-A8E0-C92E7FFED7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32920" y="25718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lt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7047-06AC-44B4-84E6-3B98B9F81A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hor – HM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 test conditions in JCTVC-G1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Intel for crosschecking (JCTVC-H02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438800" y="3198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2143080"/>
          <a:ext cx="6096240" cy="4114800"/>
        </p:xfrm>
        <a:graphic>
          <a:graphicData uri="http://schemas.openxmlformats.org/drawingml/2006/table">
            <a:tbl>
              <a:tblPr/>
              <a:tblGrid>
                <a:gridCol w="730440"/>
                <a:gridCol w="596880"/>
                <a:gridCol w="595440"/>
                <a:gridCol w="596880"/>
                <a:gridCol w="595080"/>
                <a:gridCol w="596880"/>
                <a:gridCol w="595440"/>
                <a:gridCol w="596880"/>
                <a:gridCol w="595440"/>
                <a:gridCol w="59688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chroma deblocking filter is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on/off decision is added for chroma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boundary filtering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 0.2%, 1.4% and 1.5% for AI, RA and LD chroma components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time is almost the same as that of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2BFA-6A67-4D6C-A051-BE6269B29A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2-02-02T16:18:38Z</dcterms:modified>
  <cp:revision>1550</cp:revision>
  <dc:subject/>
  <dc:title>Title: Arial Bold 32pt</dc:title>
</cp:coreProperties>
</file>