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0A8D-7ABB-4A09-AC17-76BC109268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8DEF-EACD-413F-AD9F-54EFCDFE14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67F2-E9D6-417E-8C2F-A0B1A029B5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FD7F-91DF-472A-B816-8A39BBA792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8463-FD0D-40BB-A747-4BA1485FD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A32F-5A68-433A-A1BD-CF82362B6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FBEE-F73F-499B-A531-CEE9702B8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D110-8555-4866-A5E2-35BB02B5F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9A55-9D1A-42CF-B1CD-058F0023A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E35A-D03D-437C-BDA6-A0966A1A6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AE45-DB4E-43F1-A104-C1E80707C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E568-7945-4FD4-8DEF-80172312A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31EF-2DAD-4644-AC83-73619FE93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7AA7-FC0F-49FB-97F4-04A3D5318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0FC7-66CF-4063-A6E5-18E47EFD6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1D9A-F61D-4730-9F5B-FBCD07050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D05C-2281-4A32-A14B-57ED828E4F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H0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H0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10 Subtest 1: Chroma Deblocking Fil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ian Huang, Jicheng An, Xun Guo, Shawmi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San J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1-10 February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768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difications in chroma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filtering on/off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a components make decision independ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filter inter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oundaries with Bs &gt; 0 could be filter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 differences are not considered for chroma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ss filtering than lu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reductions of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2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7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9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I, RA and L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roma compon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spec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iv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HM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the same as that of HM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9C1-DDA2-4526-8F02-AFE8C2EB30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 Decision in HM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Filtering Decision for Ch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09BB-24DC-40DD-BFAC-D2153A8E7B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ing Decision in HM5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pply on 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85C5-9FC9-4449-9E48-4526B10DD97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42920" y="5429160"/>
            <a:ext cx="8786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&lt; beta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QP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lum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&lt; beta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QP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lum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1608120" y="1622520"/>
            <a:ext cx="592776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Filtering Decision for Chro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 on/off decision for each 4x4 boundary with Bs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 2 pixels on each side of the boundary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dition line buffer is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47B7-D612-472A-BA0A-675A098384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928880" y="5241960"/>
            <a:ext cx="4929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+ |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+ 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&lt; beta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P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chrom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571840" y="2781360"/>
            <a:ext cx="4083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653D-1A72-4B91-A9BA-F5CFC5A7FE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hor – HM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ed test conditions in JCTVC-G1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k Intel for crosschecking (JCTVC-H02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2143080"/>
          <a:ext cx="6096240" cy="4114800"/>
        </p:xfrm>
        <a:graphic>
          <a:graphicData uri="http://schemas.openxmlformats.org/drawingml/2006/table">
            <a:tbl>
              <a:tblPr/>
              <a:tblGrid>
                <a:gridCol w="730440"/>
                <a:gridCol w="596880"/>
                <a:gridCol w="595440"/>
                <a:gridCol w="596880"/>
                <a:gridCol w="595080"/>
                <a:gridCol w="596880"/>
                <a:gridCol w="595440"/>
                <a:gridCol w="596880"/>
                <a:gridCol w="595440"/>
                <a:gridCol w="596880"/>
              </a:tblGrid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5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ified chroma deblocking filter is propo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on/off decision is added for chroma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boundary filtering is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ductions of  0.2%, 0.7% and 0.9% for AI, RA and LD chroma components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HM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 time is almost the same as that of HM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2A5C-D713-4157-8D04-E7C4D20397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2-02-02T16:16:03Z</dcterms:modified>
  <cp:revision>1531</cp:revision>
  <dc:subject/>
  <dc:title>Title: Arial Bold 32pt</dc:title>
</cp:coreProperties>
</file>