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78973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89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712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3"/>
          </p:nvPr>
        </p:nvSpPr>
        <p:spPr>
          <a:xfrm>
            <a:off x="3881520" y="-360"/>
            <a:ext cx="28908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36720" y="766800"/>
            <a:ext cx="4898880" cy="3674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2960" y="4747680"/>
            <a:ext cx="4946400" cy="444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9418680"/>
            <a:ext cx="2967120" cy="53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3881520" y="9418680"/>
            <a:ext cx="2890800" cy="53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새굴림"/>
                <a:ea typeface="새굴림"/>
              </a:defRPr>
            </a:lvl1pPr>
          </a:lstStyle>
          <a:p>
            <a:pPr indent="0" algn="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FF9E7-B0FE-4C93-9130-DF1FBADAB2B4}" type="slidenum">
              <a:rPr b="0" lang="en-US" sz="1200" spc="-1" strike="noStrike">
                <a:solidFill>
                  <a:srgbClr val="000000"/>
                </a:solidFill>
                <a:latin typeface="새굴림"/>
                <a:ea typeface="새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1520" y="9418680"/>
            <a:ext cx="289080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05608-3465-4E69-A4A8-812172C4C815}" type="slidenum">
              <a:rPr b="1" lang="en-US" sz="1200" spc="-1" strike="noStrike">
                <a:solidFill>
                  <a:srgbClr val="000000"/>
                </a:solidFill>
                <a:latin typeface="새굴림"/>
                <a:ea typeface="새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38160" y="766800"/>
            <a:ext cx="4899240" cy="367488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2960" y="4747680"/>
            <a:ext cx="4946400" cy="44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893A3-0954-4300-8223-3DF35E2560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71440" y="365508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19E6E-CFDD-413C-826D-30643F6A95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92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85F29-7F65-4155-B3A3-E99C3F0567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7988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796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7144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7988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796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FE9CD-8FC8-466B-B05C-3C2ACBCCE6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520" y="7596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8F4B4-5E05-4C68-819A-DC019BC61D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92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1440" y="365508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92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988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796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144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988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796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9094C-CB99-4DF5-9850-BC69206CED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1027B-2B04-4B39-B903-8AD767A4C6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E2CB6-0766-478D-8167-47DEAA4A7A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33520" y="7596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A8144-7737-4114-B747-74F9712989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536EA-E1A2-41F4-A9C5-B4975286FD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92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872D6-9EAE-4E7F-9DF1-B50719A0CB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C9CDA-0CAD-4510-B06E-FE7F09EB33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6600"/>
              </a:buClr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Line 5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4038120" y="6524280"/>
            <a:ext cx="838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8C728-7A05-4BE0-AEA1-4BB23308CE9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22"/>
          <p:cNvSpPr/>
          <p:nvPr/>
        </p:nvSpPr>
        <p:spPr>
          <a:xfrm>
            <a:off x="28440" y="6491160"/>
            <a:ext cx="298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msung Electronic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6600"/>
              </a:buClr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250920" y="849240"/>
            <a:ext cx="8642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d2db9"/>
                </a:solidFill>
                <a:latin typeface="Tahoma"/>
                <a:ea typeface="HY헤드라인M"/>
              </a:rPr>
              <a:t>AHG15 : Independent control of Max CU and LCU for small LCU case (JCTVC-H0269)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2"/>
          <p:cNvSpPr/>
          <p:nvPr/>
        </p:nvSpPr>
        <p:spPr>
          <a:xfrm>
            <a:off x="252360" y="2781360"/>
            <a:ext cx="8639280" cy="0"/>
          </a:xfrm>
          <a:prstGeom prst="line">
            <a:avLst/>
          </a:prstGeom>
          <a:ln w="57240">
            <a:solidFill>
              <a:srgbClr val="2d2d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42800" y="4292280"/>
            <a:ext cx="8305920" cy="206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yul Kim, Jongbum Cho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amsu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Summary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슬라이드 번호 개체 틀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D8056-B39A-4D5D-A410-7CD04D93082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ggest modification of min/max CU independent of LCU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nge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erage coding gain is obtained compared to different LCU size in H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-0.6% / -0.4%/ -0.2%  for HE                   (Anchor : LCU 32x32)</a:t>
            </a: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lvl="1" marL="713160" indent="-27432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-1.9%/  -1.1%/ -1.1%  for HE                   (Anchor : LCU 16x16)</a:t>
            </a: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lvl="1" marL="713160" indent="-2743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marL="329040" indent="-32904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ss-check (JCTVC-H0623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Thanks to LG  </a:t>
            </a: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95" name="직선 화살표 연결선 5"/>
          <p:cNvCxnSpPr/>
          <p:nvPr/>
        </p:nvCxnSpPr>
        <p:spPr>
          <a:xfrm>
            <a:off x="4642920" y="2565360"/>
            <a:ext cx="1080" cy="28800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arrow" w="med"/>
          </a:ln>
        </p:spPr>
      </p:cxnSp>
      <p:pic>
        <p:nvPicPr>
          <p:cNvPr id="96" name="Picture 8" descr=""/>
          <p:cNvPicPr/>
          <p:nvPr/>
        </p:nvPicPr>
        <p:blipFill>
          <a:blip r:embed="rId1"/>
          <a:stretch/>
        </p:blipFill>
        <p:spPr>
          <a:xfrm>
            <a:off x="1692360" y="1693800"/>
            <a:ext cx="6100560" cy="1015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"/>
          <p:cNvPicPr/>
          <p:nvPr/>
        </p:nvPicPr>
        <p:blipFill>
          <a:blip r:embed="rId2"/>
          <a:stretch/>
        </p:blipFill>
        <p:spPr>
          <a:xfrm>
            <a:off x="1692360" y="2886120"/>
            <a:ext cx="6100560" cy="12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431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Algorithm description (1)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슬라이드 번호 개체 틀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A4AC6-47BC-4E68-98E4-67219A7CB51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Box 11"/>
          <p:cNvSpPr/>
          <p:nvPr/>
        </p:nvSpPr>
        <p:spPr>
          <a:xfrm>
            <a:off x="5734440" y="1484280"/>
            <a:ext cx="187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log2_diff_bpu_lcu_size =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오른쪽 화살표 16"/>
          <p:cNvSpPr/>
          <p:nvPr/>
        </p:nvSpPr>
        <p:spPr>
          <a:xfrm rot="5400000">
            <a:off x="6885360" y="1904040"/>
            <a:ext cx="287280" cy="111240"/>
          </a:xfrm>
          <a:prstGeom prst="rightArrow">
            <a:avLst>
              <a:gd name="adj1" fmla="val 50000"/>
              <a:gd name="adj2" fmla="val 49941"/>
            </a:avLst>
          </a:prstGeom>
          <a:solidFill>
            <a:srgbClr val="595959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Box 17"/>
          <p:cNvSpPr/>
          <p:nvPr/>
        </p:nvSpPr>
        <p:spPr>
          <a:xfrm>
            <a:off x="5748840" y="2103480"/>
            <a:ext cx="283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Exactly the same as HM metho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Box 19"/>
          <p:cNvSpPr/>
          <p:nvPr/>
        </p:nvSpPr>
        <p:spPr>
          <a:xfrm>
            <a:off x="5806080" y="4203720"/>
            <a:ext cx="196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log2_diff_bpu_lcu_size  !=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오른쪽 화살표 20"/>
          <p:cNvSpPr/>
          <p:nvPr/>
        </p:nvSpPr>
        <p:spPr>
          <a:xfrm rot="5400000">
            <a:off x="6936120" y="4580640"/>
            <a:ext cx="289080" cy="109800"/>
          </a:xfrm>
          <a:prstGeom prst="rightArrow">
            <a:avLst>
              <a:gd name="adj1" fmla="val 50000"/>
              <a:gd name="adj2" fmla="val 49913"/>
            </a:avLst>
          </a:prstGeom>
          <a:solidFill>
            <a:srgbClr val="595959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" bIns="828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Box 21"/>
          <p:cNvSpPr/>
          <p:nvPr/>
        </p:nvSpPr>
        <p:spPr>
          <a:xfrm>
            <a:off x="6068880" y="4799160"/>
            <a:ext cx="2192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PU= 64 but LCU is 32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14" descr=""/>
          <p:cNvPicPr/>
          <p:nvPr/>
        </p:nvPicPr>
        <p:blipFill>
          <a:blip r:embed="rId1"/>
          <a:stretch/>
        </p:blipFill>
        <p:spPr>
          <a:xfrm>
            <a:off x="-147600" y="836640"/>
            <a:ext cx="5943600" cy="5476680"/>
          </a:xfrm>
          <a:prstGeom prst="rect">
            <a:avLst/>
          </a:prstGeom>
          <a:ln w="0">
            <a:noFill/>
          </a:ln>
        </p:spPr>
      </p:pic>
      <p:sp>
        <p:nvSpPr>
          <p:cNvPr id="108" name="TextBox 4"/>
          <p:cNvSpPr/>
          <p:nvPr/>
        </p:nvSpPr>
        <p:spPr>
          <a:xfrm>
            <a:off x="2802960" y="602460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431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Algorithm description (2)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슬라이드 번호 개체 틀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B535A-C675-44EE-9C85-B173303FB34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557280" y="1643040"/>
            <a:ext cx="7039080" cy="3130560"/>
          </a:xfrm>
          <a:prstGeom prst="rect">
            <a:avLst/>
          </a:prstGeom>
          <a:ln w="0">
            <a:noFill/>
          </a:ln>
        </p:spPr>
      </p:pic>
      <p:sp>
        <p:nvSpPr>
          <p:cNvPr id="113" name="TextBox 14"/>
          <p:cNvSpPr/>
          <p:nvPr/>
        </p:nvSpPr>
        <p:spPr>
          <a:xfrm>
            <a:off x="3928320" y="4773600"/>
            <a:ext cx="4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431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Algorithm description (2)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슬라이드 번호 개체 틀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77E55-AE0A-4152-B4D6-DBAD09AB9C7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9360" y="1268280"/>
            <a:ext cx="6100920" cy="1014480"/>
          </a:xfrm>
          <a:prstGeom prst="rect">
            <a:avLst/>
          </a:prstGeom>
          <a:ln w="0">
            <a:noFill/>
          </a:ln>
        </p:spPr>
      </p:pic>
      <p:sp>
        <p:nvSpPr>
          <p:cNvPr id="118" name="TextBox 2"/>
          <p:cNvSpPr/>
          <p:nvPr/>
        </p:nvSpPr>
        <p:spPr>
          <a:xfrm>
            <a:off x="474120" y="8841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Lucida Console"/>
              </a:rPr>
              <a:t>HM 5.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Box 18"/>
          <p:cNvSpPr/>
          <p:nvPr/>
        </p:nvSpPr>
        <p:spPr>
          <a:xfrm>
            <a:off x="550440" y="34416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Lucida Console"/>
              </a:rPr>
              <a:t>Proposed on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직사각형 6"/>
          <p:cNvSpPr/>
          <p:nvPr/>
        </p:nvSpPr>
        <p:spPr>
          <a:xfrm>
            <a:off x="495360" y="2282760"/>
            <a:ext cx="85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og2(LCU_size) = log2(Max_CU_size) =(log2_min_coding_block_size_minus3 + log2_diff_max_min_coding_block_size +3)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직사각형 8"/>
          <p:cNvSpPr/>
          <p:nvPr/>
        </p:nvSpPr>
        <p:spPr>
          <a:xfrm>
            <a:off x="565560" y="2637000"/>
            <a:ext cx="4082040" cy="337320"/>
          </a:xfrm>
          <a:prstGeom prst="rect">
            <a:avLst/>
          </a:prstGeom>
          <a:solidFill>
            <a:srgbClr val="c2f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- LCU is the same as Max CU siz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직사각형 10"/>
          <p:cNvSpPr/>
          <p:nvPr/>
        </p:nvSpPr>
        <p:spPr>
          <a:xfrm>
            <a:off x="539640" y="4869000"/>
            <a:ext cx="860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og2(LCU_size)   = log2(Max_CU_size) = (log2_min_coding_block_size_minus3 + log2_diff_max_min_coding_block_size +3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og2(BPU_size)  = log2(LCU) + log2_diff_lcu_max_coding_block_size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직사각형 22"/>
          <p:cNvSpPr/>
          <p:nvPr/>
        </p:nvSpPr>
        <p:spPr>
          <a:xfrm>
            <a:off x="519480" y="5516640"/>
            <a:ext cx="5301360" cy="337320"/>
          </a:xfrm>
          <a:prstGeom prst="rect">
            <a:avLst/>
          </a:prstGeom>
          <a:solidFill>
            <a:srgbClr val="c2f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- BPU is the equal or larger than LCU siz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9" descr=""/>
          <p:cNvPicPr/>
          <p:nvPr/>
        </p:nvPicPr>
        <p:blipFill>
          <a:blip r:embed="rId2"/>
          <a:stretch/>
        </p:blipFill>
        <p:spPr>
          <a:xfrm>
            <a:off x="538200" y="3780000"/>
            <a:ext cx="6100560" cy="12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Experimental results (1)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슬라이드 번호 개체 틀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177FB-8F47-4FFF-97FB-D77C9FA5D94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0" y="41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35080" y="1036440"/>
            <a:ext cx="860112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BPU = 64 and LCU = 32) vs (LCU size =32, HM ancho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Picture 7" descr=""/>
          <p:cNvPicPr/>
          <p:nvPr/>
        </p:nvPicPr>
        <p:blipFill>
          <a:blip r:embed="rId1"/>
          <a:stretch/>
        </p:blipFill>
        <p:spPr>
          <a:xfrm>
            <a:off x="423720" y="1484280"/>
            <a:ext cx="8296560" cy="46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Experimental results (2)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슬라이드 번호 개체 틀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644D8-AC4B-441E-8AF3-EB3BDF1536E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0" y="41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35080" y="1036440"/>
            <a:ext cx="860112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BPU = 64 and LCU = 16 ) vs (LCU size =16, HM ancho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438120" y="1484280"/>
            <a:ext cx="8381880" cy="46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Conclusions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슬라이드 번호 개체 틀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42D12-1FB0-45BA-947D-609580D5688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ependently control between LCU and Max C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proposed method support the current HM and more flexibility only apply one bit in SP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1)  </a:t>
            </a: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log2_diff_lcu_max_coding_block_size =0 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The same method of H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2)  </a:t>
            </a: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log2_diff_lcu_max_coding_block_size !=0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The same processing unit with more gain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ding efficiency increase depending on small LCU siz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nticipate that the proposed method be adopted into next H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3T07:35:44Z</dcterms:created>
  <dc:creator>윤승욱</dc:creator>
  <dc:description/>
  <dc:language>en-US</dc:language>
  <cp:lastModifiedBy>Windows 사용자</cp:lastModifiedBy>
  <dcterms:modified xsi:type="dcterms:W3CDTF">2012-01-30T12:50:13Z</dcterms:modified>
  <cp:revision>4756</cp:revision>
  <dc:subject/>
  <dc:title>Visual SNHC Tools</dc:title>
</cp:coreProperties>
</file>