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78973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7896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67120" cy="4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3"/>
          </p:nvPr>
        </p:nvSpPr>
        <p:spPr>
          <a:xfrm>
            <a:off x="3881520" y="-360"/>
            <a:ext cx="2890800" cy="4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936720" y="766800"/>
            <a:ext cx="4898880" cy="3674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2960" y="4747680"/>
            <a:ext cx="4946400" cy="444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9418680"/>
            <a:ext cx="2967120" cy="536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3881520" y="9418680"/>
            <a:ext cx="2890800" cy="536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새굴림"/>
                <a:ea typeface="새굴림"/>
              </a:defRPr>
            </a:lvl1pPr>
          </a:lstStyle>
          <a:p>
            <a:pPr indent="0" algn="r">
              <a:lnSpc>
                <a:spcPct val="1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A7DC8-6C05-4251-815A-53E7541896D8}" type="slidenum">
              <a:rPr b="0" lang="en-US" sz="1200" spc="-1" strike="noStrike">
                <a:solidFill>
                  <a:srgbClr val="000000"/>
                </a:solidFill>
                <a:latin typeface="새굴림"/>
                <a:ea typeface="새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1520" y="9418680"/>
            <a:ext cx="289080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7089B-EC54-49E1-9FD9-319829128CC9}" type="slidenum">
              <a:rPr b="1" lang="en-US" sz="1200" spc="-1" strike="noStrike">
                <a:solidFill>
                  <a:srgbClr val="000000"/>
                </a:solidFill>
                <a:latin typeface="새굴림"/>
                <a:ea typeface="새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938160" y="766800"/>
            <a:ext cx="4899240" cy="367488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12960" y="4747680"/>
            <a:ext cx="4946400" cy="444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E41176-A965-42AD-9596-E3979A2E42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860112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271440" y="3655080"/>
            <a:ext cx="860112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27DA4D-3924-40EA-857F-37D790A28A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8920" y="103320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71440" y="365508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8920" y="365508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47BE46-8DEA-40EC-8200-F2435D1636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276948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79880" y="1033200"/>
            <a:ext cx="276948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87960" y="1033200"/>
            <a:ext cx="276948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271440" y="3655080"/>
            <a:ext cx="276948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79880" y="3655080"/>
            <a:ext cx="276948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87960" y="3655080"/>
            <a:ext cx="276948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0592F1-6405-4748-97EC-A0714B7194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71440" y="1033200"/>
            <a:ext cx="8601120" cy="50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860112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419724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920" y="1033200"/>
            <a:ext cx="419724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33520" y="7596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920" y="1033200"/>
            <a:ext cx="419724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71440" y="365508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271440" y="1033200"/>
            <a:ext cx="8601120" cy="50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5B4ED1-223A-4B7B-ADDD-95EEA017FB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419724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920" y="103320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920" y="365508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920" y="103320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71440" y="3655080"/>
            <a:ext cx="860112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860112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71440" y="3655080"/>
            <a:ext cx="860112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920" y="103320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1440" y="365508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920" y="365508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276948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9880" y="1033200"/>
            <a:ext cx="276948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87960" y="1033200"/>
            <a:ext cx="276948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71440" y="3655080"/>
            <a:ext cx="276948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9880" y="3655080"/>
            <a:ext cx="276948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87960" y="3655080"/>
            <a:ext cx="276948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860112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434A80-A316-40ED-B8A0-13824A51A4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419724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8920" y="1033200"/>
            <a:ext cx="419724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744647-5AB5-44FF-980D-CFEDCACDCD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D100D6-84E1-49CB-AF1F-9AA4366A62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33520" y="7596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0DDD3C-6259-426E-8F6D-72031E89AC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8920" y="1033200"/>
            <a:ext cx="419724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271440" y="365508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1AA8CB-2367-41E8-8781-78EFA720BF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419724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8920" y="103320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8920" y="365508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680787-B0FC-4D06-A85F-C6106565C0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8920" y="103320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71440" y="3655080"/>
            <a:ext cx="860112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190C00-7987-47FA-A80A-1C6F348A65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271440" y="1033200"/>
            <a:ext cx="860112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6600"/>
              </a:buClr>
              <a:buFont typeface="맑은 고딕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Line 5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4038120" y="6524280"/>
            <a:ext cx="8384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003AC-2C92-42FF-A9DF-7D48EDEFF92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Text Box 22"/>
          <p:cNvSpPr/>
          <p:nvPr/>
        </p:nvSpPr>
        <p:spPr>
          <a:xfrm>
            <a:off x="28440" y="6491160"/>
            <a:ext cx="298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amsung Electronics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271440" y="1033200"/>
            <a:ext cx="860112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6600"/>
              </a:buClr>
              <a:buFont typeface="맑은 고딕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3"/>
          <p:cNvSpPr/>
          <p:nvPr/>
        </p:nvSpPr>
        <p:spPr>
          <a:xfrm>
            <a:off x="250920" y="849240"/>
            <a:ext cx="8642160" cy="28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d2db9"/>
                </a:solidFill>
                <a:latin typeface="Tahoma"/>
                <a:ea typeface="HY헤드라인M"/>
              </a:rPr>
              <a:t>AHG7 : Constraint the number of motion vector for memory bandwidth reduction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d2db9"/>
                </a:solidFill>
                <a:latin typeface="Tahoma"/>
                <a:ea typeface="HY헤드라인M"/>
              </a:rPr>
              <a:t>(JCTVC-H0267)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2"/>
          <p:cNvSpPr/>
          <p:nvPr/>
        </p:nvSpPr>
        <p:spPr>
          <a:xfrm>
            <a:off x="254160" y="3789360"/>
            <a:ext cx="8638920" cy="0"/>
          </a:xfrm>
          <a:prstGeom prst="line">
            <a:avLst/>
          </a:prstGeom>
          <a:ln w="57240">
            <a:solidFill>
              <a:srgbClr val="2d2d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42800" y="4292280"/>
            <a:ext cx="8305920" cy="206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nyul Kim, Chansik Pa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Samsu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ahoma"/>
              </a:rPr>
              <a:t>Summary</a:t>
            </a: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슬라이드 번호 개체 틀 3"/>
          <p:cNvSpPr/>
          <p:nvPr/>
        </p:nvSpPr>
        <p:spPr>
          <a:xfrm>
            <a:off x="4038480" y="6524640"/>
            <a:ext cx="838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BA14D-E058-41D0-BF64-BFD9526BD40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71440" y="1033200"/>
            <a:ext cx="8601120" cy="50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roduce maximum number of MV in a LCU (which was used in H.264/AVC) rather than mode restriction (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inter_4x4_enabled_fla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 in H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nge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ss-check (JCTVC-H0xxx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ahoma"/>
              </a:rPr>
              <a:t>Thanks to xx  </a:t>
            </a:r>
            <a:endParaRPr b="0" lang="en-US" sz="1600" spc="-1" strike="noStrike">
              <a:solidFill>
                <a:srgbClr val="000066"/>
              </a:solidFill>
              <a:latin typeface="맑은 고딕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5" name="그룹 7"/>
          <p:cNvGrpSpPr/>
          <p:nvPr/>
        </p:nvGrpSpPr>
        <p:grpSpPr>
          <a:xfrm>
            <a:off x="1521000" y="2543040"/>
            <a:ext cx="6100560" cy="1776600"/>
            <a:chOff x="1521000" y="2543040"/>
            <a:chExt cx="6100560" cy="1776600"/>
          </a:xfrm>
        </p:grpSpPr>
        <p:pic>
          <p:nvPicPr>
            <p:cNvPr id="96" name="Picture 9" descr=""/>
            <p:cNvPicPr/>
            <p:nvPr/>
          </p:nvPicPr>
          <p:blipFill>
            <a:blip r:embed="rId1"/>
            <a:stretch/>
          </p:blipFill>
          <p:spPr>
            <a:xfrm>
              <a:off x="1521000" y="2543040"/>
              <a:ext cx="6100560" cy="177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직선 연결선 6"/>
            <p:cNvSpPr/>
            <p:nvPr/>
          </p:nvSpPr>
          <p:spPr>
            <a:xfrm>
              <a:off x="1907640" y="3573000"/>
              <a:ext cx="5328720" cy="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431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ahoma"/>
              </a:rPr>
              <a:t>Algorithm description (1)</a:t>
            </a: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슬라이드 번호 개체 틀 3"/>
          <p:cNvSpPr/>
          <p:nvPr/>
        </p:nvSpPr>
        <p:spPr>
          <a:xfrm>
            <a:off x="4038480" y="6524640"/>
            <a:ext cx="838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3F86B-7E52-46B8-8703-FEDACC3E9D3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icture 16" descr=""/>
          <p:cNvPicPr/>
          <p:nvPr/>
        </p:nvPicPr>
        <p:blipFill>
          <a:blip r:embed="rId1"/>
          <a:stretch/>
        </p:blipFill>
        <p:spPr>
          <a:xfrm>
            <a:off x="257040" y="981000"/>
            <a:ext cx="8629920" cy="506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ahoma"/>
              </a:rPr>
              <a:t>Experimental results </a:t>
            </a: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슬라이드 번호 개체 틀 3"/>
          <p:cNvSpPr/>
          <p:nvPr/>
        </p:nvSpPr>
        <p:spPr>
          <a:xfrm>
            <a:off x="4038480" y="6524640"/>
            <a:ext cx="838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8DB0A-A874-4B51-A524-227144BCB28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235080" y="1036440"/>
            <a:ext cx="8601120" cy="501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맑은 고딕"/>
            </a:endParaRPr>
          </a:p>
          <a:p>
            <a:pPr lvl="1" marL="743040" indent="-285840">
              <a:spcBef>
                <a:spcPts val="400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맑은 고딕"/>
            </a:endParaRPr>
          </a:p>
          <a:p>
            <a:pPr lvl="1" marL="743040" indent="-285840">
              <a:spcBef>
                <a:spcPts val="400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맑은 고딕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5" name="Picture 1" descr=""/>
          <p:cNvPicPr/>
          <p:nvPr/>
        </p:nvPicPr>
        <p:blipFill>
          <a:blip r:embed="rId1"/>
          <a:stretch/>
        </p:blipFill>
        <p:spPr>
          <a:xfrm>
            <a:off x="671400" y="1341360"/>
            <a:ext cx="7801200" cy="3924360"/>
          </a:xfrm>
          <a:prstGeom prst="rect">
            <a:avLst/>
          </a:prstGeom>
          <a:ln w="0">
            <a:noFill/>
          </a:ln>
        </p:spPr>
      </p:pic>
      <p:sp>
        <p:nvSpPr>
          <p:cNvPr id="106" name="TextBox 16"/>
          <p:cNvSpPr/>
          <p:nvPr/>
        </p:nvSpPr>
        <p:spPr>
          <a:xfrm>
            <a:off x="611280" y="907920"/>
            <a:ext cx="705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BD-rate comparison ( 128mv vs HM 5.0 anchor )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ahoma"/>
              </a:rPr>
              <a:t>Experimental results </a:t>
            </a: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슬라이드 번호 개체 틀 3"/>
          <p:cNvSpPr/>
          <p:nvPr/>
        </p:nvSpPr>
        <p:spPr>
          <a:xfrm>
            <a:off x="4038480" y="6524640"/>
            <a:ext cx="838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4D87A-51CE-4D70-9460-7854A940ED3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3"/>
          <p:cNvSpPr/>
          <p:nvPr/>
        </p:nvSpPr>
        <p:spPr>
          <a:xfrm>
            <a:off x="0" y="41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235080" y="1036440"/>
            <a:ext cx="8601120" cy="501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맑은 고딕"/>
            </a:endParaRPr>
          </a:p>
          <a:p>
            <a:pPr lvl="1" marL="743040" indent="-285840">
              <a:spcBef>
                <a:spcPts val="400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맑은 고딕"/>
            </a:endParaRPr>
          </a:p>
          <a:p>
            <a:pPr lvl="1" marL="743040" indent="-285840">
              <a:spcBef>
                <a:spcPts val="400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맑은 고딕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1" name="Picture 10" descr=""/>
          <p:cNvPicPr/>
          <p:nvPr/>
        </p:nvPicPr>
        <p:blipFill>
          <a:blip r:embed="rId1"/>
          <a:stretch/>
        </p:blipFill>
        <p:spPr>
          <a:xfrm>
            <a:off x="324000" y="1557360"/>
            <a:ext cx="1123920" cy="12952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1" descr=""/>
          <p:cNvPicPr/>
          <p:nvPr/>
        </p:nvPicPr>
        <p:blipFill>
          <a:blip r:embed="rId2"/>
          <a:stretch/>
        </p:blipFill>
        <p:spPr>
          <a:xfrm>
            <a:off x="1447920" y="1557360"/>
            <a:ext cx="6896160" cy="1295280"/>
          </a:xfrm>
          <a:prstGeom prst="rect">
            <a:avLst/>
          </a:prstGeom>
          <a:ln w="0">
            <a:noFill/>
          </a:ln>
        </p:spPr>
      </p:pic>
      <p:sp>
        <p:nvSpPr>
          <p:cNvPr id="113" name="TextBox 6"/>
          <p:cNvSpPr/>
          <p:nvPr/>
        </p:nvSpPr>
        <p:spPr>
          <a:xfrm>
            <a:off x="353520" y="1217520"/>
            <a:ext cx="286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Worst Bandwidth saving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직사각형 18"/>
          <p:cNvSpPr/>
          <p:nvPr/>
        </p:nvSpPr>
        <p:spPr>
          <a:xfrm>
            <a:off x="179280" y="2198520"/>
            <a:ext cx="8605800" cy="360360"/>
          </a:xfrm>
          <a:prstGeom prst="rect">
            <a:avLst/>
          </a:prstGeom>
          <a:noFill/>
          <a:ln w="93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오른쪽 화살표 9"/>
          <p:cNvSpPr/>
          <p:nvPr/>
        </p:nvSpPr>
        <p:spPr>
          <a:xfrm>
            <a:off x="314280" y="3295800"/>
            <a:ext cx="417600" cy="168120"/>
          </a:xfrm>
          <a:prstGeom prst="rightArrow">
            <a:avLst>
              <a:gd name="adj1" fmla="val 50000"/>
              <a:gd name="adj2" fmla="val 50300"/>
            </a:avLst>
          </a:prstGeom>
          <a:noFill/>
          <a:ln w="93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Box 10"/>
          <p:cNvSpPr/>
          <p:nvPr/>
        </p:nvSpPr>
        <p:spPr>
          <a:xfrm>
            <a:off x="1002600" y="3213000"/>
            <a:ext cx="6521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Lucida Console"/>
              </a:rPr>
              <a:t>Similar gain 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but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Lucida Console"/>
              </a:rPr>
              <a:t>two times 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more bandwidth reduction 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(HM5.0 vs 128MV)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ahoma"/>
              </a:rPr>
              <a:t>Conclusions</a:t>
            </a: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슬라이드 번호 개체 틀 3"/>
          <p:cNvSpPr/>
          <p:nvPr/>
        </p:nvSpPr>
        <p:spPr>
          <a:xfrm>
            <a:off x="4038480" y="6524640"/>
            <a:ext cx="838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CD84C-54E8-4B17-BD14-48C75F11804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271440" y="1033200"/>
            <a:ext cx="8601120" cy="50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pose maximum number of motion vector in one LCU rather than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mall PU based limitati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-normative in encoder side setting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move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inter_4x4_enabled flag in HM 5.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nticipate that the proposed method be considered to discuss level issu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맑은 고딕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맑은 고딕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맑은 고딕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맑은 고딕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3T07:35:44Z</dcterms:created>
  <dc:creator>윤승욱</dc:creator>
  <dc:description/>
  <dc:language>en-US</dc:language>
  <cp:lastModifiedBy>Windows 사용자</cp:lastModifiedBy>
  <dcterms:modified xsi:type="dcterms:W3CDTF">2012-01-30T09:42:45Z</dcterms:modified>
  <cp:revision>4768</cp:revision>
  <dc:subject/>
  <dc:title>Visual SNHC Tools</dc:title>
</cp:coreProperties>
</file>