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1520" y="-360"/>
            <a:ext cx="2890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6720" y="766800"/>
            <a:ext cx="489888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2960" y="4747680"/>
            <a:ext cx="494640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9418680"/>
            <a:ext cx="296712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1520" y="9418680"/>
            <a:ext cx="289080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새굴림"/>
                <a:ea typeface="새굴림"/>
              </a:defRPr>
            </a:lvl1pPr>
          </a:lstStyle>
          <a:p>
            <a: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FEC0-97AA-4891-840D-E8266CB8EC3B}" type="slidenum">
              <a:rPr b="0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1520" y="9418680"/>
            <a:ext cx="289080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9222-D758-44CF-89F5-4E2F1C070C96}" type="slidenum">
              <a:rPr b="1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8160" y="766800"/>
            <a:ext cx="4899240" cy="3674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2960" y="4747680"/>
            <a:ext cx="494640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2E0C1-FF95-4F6C-B0F3-10032FB76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8D32D-58E2-4DB0-B0FA-169850565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A84F8-2C81-4299-907B-BF81C0C63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D571-4515-4A8E-98AA-6B0EE4524D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9CEE3-7307-40FB-84B0-B397BDC1E6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03E1-5202-4509-80A1-692EEA6EF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C0F97-AC96-4BEC-BFBF-47FA4793CF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BA4F-44D6-4535-A957-C9BE41772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C4C5F-F331-44D5-B175-81E48444F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A5805-4805-4E6B-B803-CBBB7BC40E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66F05-9F7D-43B7-9280-307773AE76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F877E-7E58-4AB7-8342-2A6BE8DE7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38120" y="652428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8260-C315-4D2B-92BE-05BBDC5C97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2"/>
          <p:cNvSpPr/>
          <p:nvPr/>
        </p:nvSpPr>
        <p:spPr>
          <a:xfrm>
            <a:off x="28440" y="649116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50920" y="849240"/>
            <a:ext cx="864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b9"/>
                </a:solidFill>
                <a:latin typeface="Tahoma"/>
                <a:ea typeface="HY헤드라인M"/>
              </a:rPr>
              <a:t>CE4: subclass 3.2 : Implicit signaling of QP offset based on TU size (JCTVC-H0260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"/>
          <p:cNvSpPr/>
          <p:nvPr/>
        </p:nvSpPr>
        <p:spPr>
          <a:xfrm>
            <a:off x="252360" y="2781360"/>
            <a:ext cx="8639280" cy="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42800" y="4292280"/>
            <a:ext cx="830592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yul Kim, Young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msu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Summary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9187-764C-4357-AF57-2041448375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icit signaling of QP offset based on TU size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static areas have more possibility to be reference rather than moving regio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 Relative higher QP is applied for small transform block siz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ing efficiency and no complexity incr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0.0%/0.2%/0.1% for RA_HE</a:t>
            </a: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, </a:t>
            </a: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-0.1%/+0.1%/0.0% for RA_LC</a:t>
            </a: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, 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-0.3%/0.4%/0.4% for LD_HE,</a:t>
            </a: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-0.5%/+0.4%/0.3% for RA_LC</a:t>
            </a: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, 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ss-check (JCTVC-H0xx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hanks to xx  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431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Algorithm description 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1AB1-179C-482B-B059-C55445E141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개체 2"/>
          <p:cNvGraphicFramePr/>
          <p:nvPr/>
        </p:nvGraphicFramePr>
        <p:xfrm>
          <a:off x="611280" y="1197000"/>
          <a:ext cx="29527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개체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97000"/>
                    <a:ext cx="29527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Picture 15" descr=""/>
          <p:cNvPicPr/>
          <p:nvPr/>
        </p:nvPicPr>
        <p:blipFill>
          <a:blip r:embed="rId3"/>
          <a:stretch/>
        </p:blipFill>
        <p:spPr>
          <a:xfrm>
            <a:off x="2484360" y="4581360"/>
            <a:ext cx="6100920" cy="7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Experimental results (1) 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F582-1D2A-457E-A838-320C5B7AA3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41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35080" y="103644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 of QP offset based on TU size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∆ =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12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82818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Experimental results (2)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8B26-A063-4A10-878E-B42DA96140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41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35080" y="103644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sual test (no major difference, but better quality at some sequences 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개체 5"/>
          <p:cNvGraphicFramePr/>
          <p:nvPr/>
        </p:nvGraphicFramePr>
        <p:xfrm>
          <a:off x="1258920" y="1628640"/>
          <a:ext cx="5933880" cy="44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개체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628640"/>
                    <a:ext cx="5933880" cy="44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C289-FEE1-4DA5-BD00-7E298505F4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ding gain is observed, especially for higher gain at F-sequen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ive enhancement could be observ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ome motion heavy sequen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additional complexity is provi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nticipate that the proposed method be adopted into next 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7:35:44Z</dcterms:created>
  <dc:creator>윤승욱</dc:creator>
  <dc:description/>
  <dc:language>en-US</dc:language>
  <cp:lastModifiedBy>Windows 사용자</cp:lastModifiedBy>
  <dcterms:modified xsi:type="dcterms:W3CDTF">2012-01-30T13:00:32Z</dcterms:modified>
  <cp:revision>4758</cp:revision>
  <dc:subject/>
  <dc:title>Visual SNHC Tools</dc:title>
</cp:coreProperties>
</file>