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5C20-861A-48B9-BC5D-3080F32C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091-E323-4313-8500-2F0BE690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7362-8761-475A-8365-6870705BD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37BE-7D01-4A41-AEA1-2DD96640B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0D10-C5A1-4985-9628-F2784000E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0CB7-346B-4226-8DE0-D1917AA6C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6F83-C7DC-4948-9E64-9D40D739B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2F1B-0169-4128-9C15-32CA80FC0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2239-BF8F-4276-B976-ED5E6E1B6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984C-6190-46F9-A59F-1E4E76B9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C01C-30B0-46D4-A136-12CB4A242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C1B2-5B0A-40E5-A6AD-8F28FFD2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69AD-D25A-4AD4-91C3-CC9634C5E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F393-6539-40EE-8F8C-317367690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86F-2FE9-4B7B-9B2D-FF068DE0F51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yclic POC</a:t>
            </a:r>
            <a:br>
              <a:rPr sz="44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JCTVC-H0257, m23132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164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Koyama, K.Kazui, S.Shimada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2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to change the definition of picture order count (POC) so that the POC value can be cyc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C value is stor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2-bi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of the syntax and the pixel decod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B4A-4CB2-4A95-AFD9-58C5AF1208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in WD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er, [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cture in the same sequence must have an unique POC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 shall be inserted when POC value reaches t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 year for 60Hz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surveillance cameras used in public infrastructur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delay video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mote camera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line refresh is used instead of intra picture refr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/365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C-based product example: http://www.fujitsu.com/global/services/computing/peripheral/video/products/ip920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B02-2D55-480E-A8CC-D33A0E01B67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triction in the current POC definition is problematic for low delay video encoder in 24/365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den in encoder design, difficulty in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a function of an IDR picture insertion in the middle of the sequence is a burden because it happens quite rare (1.1 ye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gradation in video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uffer size for Intra line refres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reduced to the averaged size of a picture for low delay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dden degradation in picture quality happens at an inserted IDR picture since enough number of bits cannot be assigned to the ID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6D23-E7D8-4FD8-A7EF-E7555DD488F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8120" y="764640"/>
            <a:ext cx="87868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ed definition of the PO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C value can be cyc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C value is stored in 32-b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te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(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iPocA, uiPocB, uiPocC, uiPo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ed i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oc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ition (+) and subtraction (-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OC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+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iPocC = uiPocA + uiPo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- )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PocD =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PocA - uiPo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te: Carry bit is disc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C difference and comparison (signed int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ce btw. PocA and PocB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ocDiff = (int)(uiPocA − uiPoc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cA is larger than PocB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e if iPocDiff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cA is smaller than PocB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e if iPocDiff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cA is equal to PocB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e if iPocDiff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9666-0BCB-4DDC-BED2-9D50A61B549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108000" y="6165720"/>
            <a:ext cx="8964720" cy="398880"/>
          </a:xfrm>
          <a:prstGeom prst="rect">
            <a:avLst/>
          </a:prstGeom>
          <a:solidFill>
            <a:srgbClr val="f8c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OC-related operation still works even if POC value is wrapped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the proposed POC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3D88-7DA0-4F72-A6C8-A95389CF7D4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125360"/>
          <a:ext cx="8642160" cy="4908600"/>
        </p:xfrm>
        <a:graphic>
          <a:graphicData uri="http://schemas.openxmlformats.org/drawingml/2006/table">
            <a:tbl>
              <a:tblPr/>
              <a:tblGrid>
                <a:gridCol w="2017440"/>
                <a:gridCol w="403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ic (wrapped) P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s with same POC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with POC value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R picture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ing in slice h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order_cnt_l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0,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2_max_pic_order_cnt_lsb_minus_4 +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81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of POC 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to adopt modified POC definition into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C value can be cyc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unsigned integer, rather in 32-bit signed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in the syntax and the pixel reconstr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A6D7-013E-41BA-BCED-F4134D873E0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56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7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4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5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7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8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9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0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  <p:sp>
        <p:nvSpPr>
          <p:cNvPr id="187" name="スライド番号プレースホルダ 4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5F3-BBCA-4B17-8182-4EEF2DE065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2-01-30T11:33:34Z</dcterms:modified>
  <cp:revision>1988</cp:revision>
  <dc:subject/>
  <dc:title>スライド 0</dc:title>
</cp:coreProperties>
</file>