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14AA5DC-3A82-42B4-AC39-62146ADB503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05144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690469E-BBEF-40E0-9CE8-A97EE091C1ED}" type="slidenum">
              <a:rPr b="0" lang="zh-CN" sz="1200" spc="-1" strike="noStrike">
                <a:solidFill>
                  <a:srgbClr val="0860a8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405144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B2845EE-48D3-4323-BB31-1943994F1878}" type="slidenum">
              <a:rPr b="0" lang="zh-CN" sz="1200" spc="-1" strike="noStrike">
                <a:solidFill>
                  <a:srgbClr val="0860a8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405144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CC9D53F-7A94-4A3D-98DD-EC36D6A1724B}" type="slidenum">
              <a:rPr b="0" lang="zh-CN" sz="1200" spc="-1" strike="noStrike">
                <a:solidFill>
                  <a:srgbClr val="0860a8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SSD – Sum of Squared Differe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7393-FB07-4013-A6FB-AD222E053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8708-ED94-4553-B6DA-3E7168E36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F438-923A-43E4-871C-0D7EEFDC3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B356-9C2C-40C3-95A2-D2FD5D9CB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450720"/>
            <a:ext cx="8237520" cy="32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6D86-D4B7-4584-B16E-220F63B9EB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632C-5E97-4CBC-9E58-F1A005303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1662-E7AB-4A22-93DC-9317A3EC4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A561-D885-40EC-B053-D39308B66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450720"/>
            <a:ext cx="8237520" cy="32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4E1E-F36A-4FAD-8FE2-64B8C184C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E0C1-FA71-4D33-B02D-6CF8004B7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CDCD-9E70-4C4C-B309-B4844BCA0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C10B-5C1D-4D0A-BC18-EDB96E5DC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8280" y="6357600"/>
            <a:ext cx="231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C470-CF99-460A-99BA-7E3329E360E8}" type="slidenum"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4" descr="Intel_white"/>
          <p:cNvPicPr/>
          <p:nvPr/>
        </p:nvPicPr>
        <p:blipFill>
          <a:blip r:embed="rId2"/>
          <a:stretch/>
        </p:blipFill>
        <p:spPr>
          <a:xfrm>
            <a:off x="8024760" y="6146640"/>
            <a:ext cx="882720" cy="5889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25"/>
          <p:cNvSpPr/>
          <p:nvPr/>
        </p:nvSpPr>
        <p:spPr>
          <a:xfrm>
            <a:off x="3344760" y="6423120"/>
            <a:ext cx="2516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JCTVC-H0248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3" name="Picture 24" descr="Intel_white"/>
          <p:cNvPicPr/>
          <p:nvPr/>
        </p:nvPicPr>
        <p:blipFill>
          <a:blip r:embed="rId2"/>
          <a:stretch/>
        </p:blipFill>
        <p:spPr>
          <a:xfrm>
            <a:off x="8024760" y="6146640"/>
            <a:ext cx="882720" cy="588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5"/>
          <p:cNvSpPr/>
          <p:nvPr/>
        </p:nvSpPr>
        <p:spPr>
          <a:xfrm>
            <a:off x="3344760" y="6423120"/>
            <a:ext cx="2516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JCTVC-H0248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5" name="Picture 17" descr="intel_rgb_1700"/>
          <p:cNvPicPr/>
          <p:nvPr/>
        </p:nvPicPr>
        <p:blipFill>
          <a:blip r:embed="rId3"/>
          <a:srcRect l="13799" t="18044" r="13558" b="18390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4440" y="1965240"/>
            <a:ext cx="79218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860a8"/>
                </a:solidFill>
                <a:latin typeface="Arial"/>
              </a:rPr>
              <a:t>Clean-up of redundant CABAC memorization process</a:t>
            </a: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72800" y="3998520"/>
            <a:ext cx="708804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Arial"/>
                <a:ea typeface="宋体"/>
              </a:rPr>
              <a:t>Yi-Jen Chiu, Wenhao Zhang, Lidong Xu, Yu Han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Arial"/>
                <a:ea typeface="宋体"/>
              </a:rPr>
              <a:t>February, 2012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 flipV="1">
            <a:off x="1652760" y="3117960"/>
            <a:ext cx="6138720" cy="9360"/>
          </a:xfrm>
          <a:prstGeom prst="line">
            <a:avLst/>
          </a:prstGeom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intel_rgb_1700tag"/>
          <p:cNvPicPr/>
          <p:nvPr/>
        </p:nvPicPr>
        <p:blipFill>
          <a:blip r:embed="rId1"/>
          <a:srcRect l="8182" t="18077" r="8182" b="18461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2"/>
          <p:cNvSpPr/>
          <p:nvPr/>
        </p:nvSpPr>
        <p:spPr>
          <a:xfrm>
            <a:off x="458640" y="6357960"/>
            <a:ext cx="231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366C-B359-4483-B27B-7B80A04AF8D0}" type="slidenum"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00600" y="2739960"/>
            <a:ext cx="173664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Arial"/>
                <a:ea typeface="宋体"/>
              </a:rPr>
              <a:t>Backup</a:t>
            </a: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458640" y="6357960"/>
            <a:ext cx="231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0E6E-BE81-448C-AD35-83B1D82F7188}" type="slidenum"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Revised Working Draf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58640" y="6357960"/>
            <a:ext cx="231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731D-2977-473E-9546-E47B606D1A16}" type="slidenum"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5760" y="1371240"/>
            <a:ext cx="823752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60a8"/>
                </a:solidFill>
                <a:latin typeface="Arial"/>
              </a:rPr>
              <a:t>In WD5 and HM5.1, CABAC memorization process will be invoked in the following two scenarios:</a:t>
            </a:r>
            <a:endParaRPr b="0" lang="en-US" sz="2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58640" y="6357960"/>
            <a:ext cx="231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FB4D-29DD-40A6-8A83-CA3A0A6081FC}" type="slidenum"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74560" y="2631960"/>
          <a:ext cx="8102880" cy="1320840"/>
        </p:xfrm>
        <a:graphic>
          <a:graphicData uri="http://schemas.openxmlformats.org/drawingml/2006/table">
            <a:tbl>
              <a:tblPr/>
              <a:tblGrid>
                <a:gridCol w="1108080"/>
                <a:gridCol w="3753000"/>
                <a:gridCol w="32418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enario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67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dition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67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67eb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Arial"/>
                        </a:rPr>
                        <a:t>entropy_coding_synchro &gt; 0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Arial"/>
                        </a:rPr>
                        <a:t>Wave front processing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8e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Arial"/>
                        </a:rPr>
                        <a:t>tile_boundary_independence_flag = 0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Arial"/>
                        </a:rPr>
                        <a:t>Low latency CABAC initialization for dependent tiles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450360"/>
            <a:ext cx="823752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Arial"/>
              </a:rPr>
              <a:t>Wave front processing in WD5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58640" y="6357960"/>
            <a:ext cx="231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1355-1534-4F0D-89E7-527B77FC004E}" type="slidenum"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5760" y="1371600"/>
            <a:ext cx="823752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When tile_boundary_independence_flag is equal to 1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731880" y="1752480"/>
            <a:ext cx="74246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450360"/>
            <a:ext cx="823752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Arial"/>
              </a:rPr>
              <a:t>Wave front processing in WD5 (Cont.)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58640" y="6357960"/>
            <a:ext cx="231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BD0A-E300-4638-9F2C-C6F458BAA9CF}" type="slidenum"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5760" y="1371240"/>
            <a:ext cx="823752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When tile_boundary_independence_flag is equal to 0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873000" y="1730520"/>
            <a:ext cx="723924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450360"/>
            <a:ext cx="8237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Arial"/>
              </a:rPr>
              <a:t>Low latency CABAC initialization for dependent tiles in WD5</a:t>
            </a: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58640" y="6357960"/>
            <a:ext cx="231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5C5E-8F58-483B-895A-FFE716363402}" type="slidenum"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816120" y="1444680"/>
            <a:ext cx="70531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Arial"/>
              </a:rPr>
              <a:t>Revised Working Draft</a:t>
            </a:r>
            <a:br>
              <a:rPr sz="3200"/>
            </a:b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58640" y="6357960"/>
            <a:ext cx="231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38B6-9203-4252-BA42-75B03943CF2D}" type="slidenum"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400" y="1197000"/>
            <a:ext cx="843588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When entropy_coding_synchro is not equal to 0,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WD5: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2" marL="571680" indent="-324000" algn="just">
              <a:spcBef>
                <a:spcPts val="451"/>
              </a:spcBef>
              <a:buClr>
                <a:srgbClr val="0860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if (tile_boundary_independence_flag is equal to 1 and ( tbAddr − firstTbInTileAddr ) % tileWidthInLCUs is equal to entropy_coding_synchro + 1) or (tile_boundary_independence_flag is equal to 0 and tbAddr % picWidthInLCUs is equal to entropy_coding_synchro + 1), the memorization process of the CABAC parsing process is invoked.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1" marL="74520" indent="-745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Revised: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2" marL="571680" indent="-324000" algn="just">
              <a:spcBef>
                <a:spcPts val="451"/>
              </a:spcBef>
              <a:buClr>
                <a:srgbClr val="0860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if (tile_boundary_independence_flag is equal to 1, ( tbAddr − firstTbInTileAddr ) % tileWidthInLCUs is equal to entropy_coding_synchro + 1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( tbAddr − firstTbInTileAddr ) / tileWidthInLCUs is not equal to tileHeightInLCUs – 1</a:t>
            </a: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) or (tile_boundary_independence_flag is equal to 0, tbAddr % picWidthInLCUs is equal to entropy_coding_synchro + 1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tbAddr / picWidthInLCUs is not equal to picHeightInLCUs – 1</a:t>
            </a: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), the memorization process of the CABAC parsing process is invoked.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Arial"/>
              </a:rPr>
              <a:t>Revised Working Draft (Cont.)</a:t>
            </a:r>
            <a:br>
              <a:rPr sz="3200"/>
            </a:b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5760" y="1196640"/>
            <a:ext cx="823752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When tile_boundary_independence_idc is equal to 0,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WD5: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if x0 is equal to x0Tile and y0 is equal to y0Tile+(1&lt;&lt; log2MaxCUSize) the memorization process of the CABAC parsing process is invoked.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1" marL="74520" indent="-745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Revised: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2" marL="571680" indent="-324000" algn="just">
              <a:spcBef>
                <a:spcPts val="451"/>
              </a:spcBef>
              <a:buClr>
                <a:srgbClr val="0860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if x0 is equal to x0Tile, y0 is equal to y0Tile+(1&lt;&lt; log2MaxCUSize)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tbAddr % picWidthInLCUs is not equal to picWidthInLCUs – 1</a:t>
            </a: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, the memorization process of the CABAC parsing process is invoked.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458640" y="6357960"/>
            <a:ext cx="231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10C7-354B-4A12-A355-7BDAEC540D5A}" type="slidenum"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450720"/>
            <a:ext cx="82375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CABAC memorization is invoked by wave front processing and Low latency CABAC initialization for dependent tiles.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lvl="2" marL="571680" indent="-324000">
              <a:spcBef>
                <a:spcPts val="499"/>
              </a:spcBef>
              <a:buClr>
                <a:srgbClr val="0860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Both in WD5 and HM5.1, redundant CABAC memorization invocation should be removed.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lvl="2" marL="571680" indent="-324000">
              <a:spcBef>
                <a:spcPts val="499"/>
              </a:spcBef>
              <a:buClr>
                <a:srgbClr val="0860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Suggest the proposal to be adopted in WD6 and HM6.0.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458640" y="6357960"/>
            <a:ext cx="231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98BA-1F72-4272-B3B9-F323F7EE1E9B}" type="slidenum"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3:24:23Z</dcterms:created>
  <dc:creator>wzhan37</dc:creator>
  <dc:description/>
  <dc:language>en-US</dc:language>
  <cp:lastModifiedBy>wzhan37</cp:lastModifiedBy>
  <dcterms:modified xsi:type="dcterms:W3CDTF">2012-01-30T08:39:32Z</dcterms:modified>
  <cp:revision>139</cp:revision>
  <dc:subject/>
  <dc:title>propos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0">
    <vt:lpwstr>Presentation Template</vt:lpwstr>
  </property>
  <property fmtid="{D5CDD505-2E9C-101B-9397-08002B2CF9AE}" pid="3" name="Content">
    <vt:lpwstr/>
  </property>
  <property fmtid="{D5CDD505-2E9C-101B-9397-08002B2CF9AE}" pid="4" name="OrderID">
    <vt:lpwstr>0</vt:lpwstr>
  </property>
</Properties>
</file>