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6D7B-A063-48B5-BDCB-FEBDA00B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999-A811-47EC-973C-303A943C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3000-6CB3-4B1B-A64B-82A5B9E7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E832-B75E-4367-BF15-C9C5E25A9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BE0B-17C0-44AF-ACA4-9743A2BA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B690-090A-4BC8-9A08-4451D341F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C323-19A5-4265-8CDB-B5D1A5D9B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472A-5939-4F94-966C-2984D6FAC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5DCB-A5C7-4FF5-B7CC-A7764039A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1065-3A1B-443F-ACEE-15B4DEAD2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371F-CA6A-42E1-A8D6-967599E17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CBC9-2D8C-4C12-AA9F-89971145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A15D-698A-412A-8216-98FCF70C1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DBE8-7E05-4DAE-8F1E-C1DCAC7D4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FB2A-8035-436F-9F84-5A03AA80D74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derivation of luma QP predictor for Wavefront Parallel Processing</a:t>
            </a:r>
            <a:endParaRPr b="0" lang="en-US" sz="4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CTVC-H0226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3101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164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Shimada, K.Kazui, J.Koyama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2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to fix the bug in the derivation process of the QP predictor when WPP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bug prevents multiple cores from performing Treeblock-line based parallel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yntax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12E-72F6-4E5A-BFB4-CBDF27B973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P (Wavefront Parallel Proc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E47-A55E-4F75-88AA-3443EC6692B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160640" y="1413000"/>
          <a:ext cx="765936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1413000"/>
                    <a:ext cx="765936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n W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F6D-D983-4B21-874F-BDE14563F0C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84240" y="1225440"/>
          <a:ext cx="87357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225440"/>
                    <a:ext cx="87357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8120" y="869760"/>
            <a:ext cx="87868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 predictor of the first QG in each TB line is changed in order to maintain the parallelism of W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EBC3-6F83-4A8C-BD3E-A1428E9DD59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84240" y="1752480"/>
          <a:ext cx="873576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752480"/>
                    <a:ext cx="873576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to adopt the bug fix of W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 predictor of the first QG in each TB line is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-line based parallelism of WPP is main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0DD1-FF5C-4405-B5BF-08B634E9080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56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7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4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5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7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8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9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0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  <p:sp>
        <p:nvSpPr>
          <p:cNvPr id="187" name="スライド番号プレースホルダ 4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236-ADEB-4669-9945-6E53012395F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2-01-30T11:44:42Z</dcterms:modified>
  <cp:revision>1986</cp:revision>
  <dc:subject/>
  <dc:title>スライド 0</dc:title>
</cp:coreProperties>
</file>