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0800" cy="974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Helvetica 65 Medium"/>
              </a:rPr>
              <a:t>Click to move the slide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35 Thi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35 Thi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FCCAB-6C5B-4EAB-9609-B8F6421B211A}" type="slidenum"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6"/>
          <p:cNvSpPr/>
          <p:nvPr/>
        </p:nvSpPr>
        <p:spPr>
          <a:xfrm>
            <a:off x="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67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B6082-6868-4EAB-BE58-1DD9A507EF1C}" type="slidenum"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6"/>
          <p:cNvSpPr/>
          <p:nvPr/>
        </p:nvSpPr>
        <p:spPr>
          <a:xfrm>
            <a:off x="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87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FC3E-8856-4B11-929E-D519D8E07D31}" type="slidenum"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6"/>
          <p:cNvSpPr/>
          <p:nvPr/>
        </p:nvSpPr>
        <p:spPr>
          <a:xfrm>
            <a:off x="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91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7F397-925E-45CA-97AC-201649EA9455}" type="slidenum"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6"/>
          <p:cNvSpPr/>
          <p:nvPr/>
        </p:nvSpPr>
        <p:spPr>
          <a:xfrm>
            <a:off x="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9B0A1-982F-45D6-BE3D-3BD38BD63ADD}" type="slidenum"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6"/>
          <p:cNvSpPr/>
          <p:nvPr/>
        </p:nvSpPr>
        <p:spPr>
          <a:xfrm>
            <a:off x="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71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C70B3-B1EB-4B94-ADCF-34E384AA85D9}" type="slidenum"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6"/>
          <p:cNvSpPr/>
          <p:nvPr/>
        </p:nvSpPr>
        <p:spPr>
          <a:xfrm>
            <a:off x="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75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EFF9E-41F7-4CF9-AFA9-515934AC1A12}" type="slidenum"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6"/>
          <p:cNvSpPr/>
          <p:nvPr/>
        </p:nvSpPr>
        <p:spPr>
          <a:xfrm>
            <a:off x="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D1A2F-229C-4AB2-AADD-98AE35403090}" type="slidenum"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6"/>
          <p:cNvSpPr/>
          <p:nvPr/>
        </p:nvSpPr>
        <p:spPr>
          <a:xfrm>
            <a:off x="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83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54B0F-E6E8-443D-99E0-C899B580C795}" type="slidenum"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70977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11240" y="4098960"/>
            <a:ext cx="70977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11240" y="409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48320" y="409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11000" y="175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11120" y="175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11240" y="409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11000" y="409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11120" y="409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011240" y="1758960"/>
            <a:ext cx="70977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70977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010880" y="412920"/>
            <a:ext cx="7095960" cy="45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11240" y="409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11240" y="1758960"/>
            <a:ext cx="70977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48320" y="409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11240" y="4098960"/>
            <a:ext cx="70977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70977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011240" y="4098960"/>
            <a:ext cx="70977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11240" y="409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48320" y="409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411000" y="175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811120" y="175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011240" y="409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411000" y="409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811120" y="409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70977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010880" y="412920"/>
            <a:ext cx="7095960" cy="45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11240" y="409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48320" y="409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11240" y="4098960"/>
            <a:ext cx="70977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1240" y="1758960"/>
            <a:ext cx="70977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2" marL="1187280" indent="-228600">
              <a:spcAft>
                <a:spcPts val="125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3" marL="1606680" indent="-22860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4" marL="2057400" indent="-22860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5" marL="2057400" indent="-22860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6" marL="2057400" indent="-22860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Helvetica 65 Medium"/>
              </a:rPr>
              <a:t>Click to edit the title text format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2" name="Rectangle 758"/>
          <p:cNvSpPr/>
          <p:nvPr/>
        </p:nvSpPr>
        <p:spPr>
          <a:xfrm>
            <a:off x="25560" y="6423120"/>
            <a:ext cx="736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B639D-E2BB-4296-B13E-83E0323CE920}" type="slidenum">
              <a:rPr b="0" lang="fr-FR" sz="800" spc="-1" strike="noStrike">
                <a:solidFill>
                  <a:srgbClr val="000000"/>
                </a:solidFill>
                <a:latin typeface="Helvetica 55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839760" y="6407280"/>
            <a:ext cx="290052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Helvetica 55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Helvetica 55 Roman"/>
              </a:rPr>
              <a:t>JCTVC-E1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8"/>
          <p:cNvSpPr/>
          <p:nvPr/>
        </p:nvSpPr>
        <p:spPr>
          <a:xfrm>
            <a:off x="8823240" y="2314440"/>
            <a:ext cx="1843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011240" y="1758960"/>
            <a:ext cx="70977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2" marL="1187280" indent="-228600">
              <a:spcAft>
                <a:spcPts val="125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3" marL="1606680" indent="-22860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4" marL="2057400" indent="-22860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5" marL="2057400" indent="-22860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6" marL="2057400" indent="-22860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Helvetica 65 Medium"/>
              </a:rPr>
              <a:t>Click to edit the title text format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11240" y="1915920"/>
            <a:ext cx="7856640" cy="16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Helvetica 35 Thin"/>
              </a:rPr>
              <a:t>CE11: Sign Data Hiding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fr-FR" sz="2800" spc="-1" strike="noStrike">
                <a:solidFill>
                  <a:srgbClr val="000000"/>
                </a:solidFill>
                <a:latin typeface="Helvetica 35 Thin"/>
              </a:rPr>
              <a:t>JCTVC-H0224</a:t>
            </a:r>
            <a:endParaRPr b="0" lang="en-US" sz="2800" spc="-1" strike="noStrike">
              <a:solidFill>
                <a:srgbClr val="ff6600"/>
              </a:solidFill>
              <a:latin typeface="Helvetica 65 Medium"/>
            </a:endParaRPr>
          </a:p>
        </p:txBody>
      </p:sp>
      <p:pic>
        <p:nvPicPr>
          <p:cNvPr id="87" name="Picture 6" descr="PP_orange"/>
          <p:cNvPicPr/>
          <p:nvPr/>
        </p:nvPicPr>
        <p:blipFill>
          <a:blip r:embed="rId1"/>
          <a:srcRect l="74671" t="0" r="0" b="0"/>
          <a:stretch/>
        </p:blipFill>
        <p:spPr>
          <a:xfrm>
            <a:off x="8028000" y="5769000"/>
            <a:ext cx="1093680" cy="10825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011240" y="4250880"/>
            <a:ext cx="716112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Helvetica 45 Light"/>
                <a:ea typeface="ＭＳ Ｐゴシック"/>
              </a:rPr>
              <a:t>Gordon Clare, Félix Henry, Joël Jung, Stéphane Pateux </a:t>
            </a:r>
            <a:r>
              <a:rPr b="0" lang="fr-FR" sz="1600" spc="-1" strike="noStrike">
                <a:solidFill>
                  <a:srgbClr val="000000"/>
                </a:solidFill>
                <a:latin typeface="Helvetica 45 Light"/>
              </a:rPr>
              <a:t>– ORANGE LAB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10880" y="33336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Helvetica 65 Medium"/>
              </a:rPr>
              <a:t>Decoder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1163520" y="887400"/>
            <a:ext cx="7097760" cy="40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93680" indent="-193680">
              <a:spcAft>
                <a:spcPts val="1125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125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125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125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Checks whether the number of modifiable coefficients is larger than syntax element TSIG 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1125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If no, normal decoding of the signs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1125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If yes, first sign is inferred from the parity of the sum of the residue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437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437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437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437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70" name="Rectangle 49"/>
          <p:cNvSpPr/>
          <p:nvPr/>
        </p:nvSpPr>
        <p:spPr>
          <a:xfrm>
            <a:off x="1979640" y="1484280"/>
            <a:ext cx="504720" cy="360360"/>
          </a:xfrm>
          <a:prstGeom prst="rect">
            <a:avLst/>
          </a:prstGeom>
          <a:gradFill rotWithShape="0">
            <a:gsLst>
              <a:gs pos="0">
                <a:srgbClr val="f3f3f3"/>
              </a:gs>
              <a:gs pos="100000">
                <a:srgbClr val="fcfcfc"/>
              </a:gs>
            </a:gsLst>
            <a:lin ang="16200000"/>
          </a:gradFill>
          <a:ln w="9360">
            <a:solidFill>
              <a:srgbClr val="e2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71" name="Rectangle 50"/>
          <p:cNvSpPr/>
          <p:nvPr/>
        </p:nvSpPr>
        <p:spPr>
          <a:xfrm>
            <a:off x="2484360" y="1484280"/>
            <a:ext cx="503280" cy="360360"/>
          </a:xfrm>
          <a:prstGeom prst="rect">
            <a:avLst/>
          </a:prstGeom>
          <a:gradFill rotWithShape="0">
            <a:gsLst>
              <a:gs pos="0">
                <a:srgbClr val="f3f3f3"/>
              </a:gs>
              <a:gs pos="100000">
                <a:srgbClr val="fcfcfc"/>
              </a:gs>
            </a:gsLst>
            <a:lin ang="16200000"/>
          </a:gradFill>
          <a:ln w="9360">
            <a:solidFill>
              <a:srgbClr val="e2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72" name="Rectangle 51"/>
          <p:cNvSpPr/>
          <p:nvPr/>
        </p:nvSpPr>
        <p:spPr>
          <a:xfrm>
            <a:off x="2987640" y="1484280"/>
            <a:ext cx="504720" cy="360360"/>
          </a:xfrm>
          <a:prstGeom prst="rect">
            <a:avLst/>
          </a:prstGeom>
          <a:gradFill rotWithShape="0">
            <a:gsLst>
              <a:gs pos="0">
                <a:srgbClr val="f3f3f3"/>
              </a:gs>
              <a:gs pos="100000">
                <a:srgbClr val="fcfcfc"/>
              </a:gs>
            </a:gsLst>
            <a:lin ang="16200000"/>
          </a:gradFill>
          <a:ln w="9360">
            <a:solidFill>
              <a:srgbClr val="e2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73" name="Rectangle 52"/>
          <p:cNvSpPr/>
          <p:nvPr/>
        </p:nvSpPr>
        <p:spPr>
          <a:xfrm>
            <a:off x="3492360" y="1484280"/>
            <a:ext cx="503280" cy="360360"/>
          </a:xfrm>
          <a:prstGeom prst="rect">
            <a:avLst/>
          </a:prstGeom>
          <a:gradFill rotWithShape="0">
            <a:gsLst>
              <a:gs pos="0">
                <a:srgbClr val="f3f3f3"/>
              </a:gs>
              <a:gs pos="100000">
                <a:srgbClr val="fcfcfc"/>
              </a:gs>
            </a:gsLst>
            <a:lin ang="16200000"/>
          </a:gradFill>
          <a:ln w="9360">
            <a:solidFill>
              <a:srgbClr val="e2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74" name="Rectangle 53"/>
          <p:cNvSpPr/>
          <p:nvPr/>
        </p:nvSpPr>
        <p:spPr>
          <a:xfrm>
            <a:off x="3995640" y="1484280"/>
            <a:ext cx="505080" cy="360360"/>
          </a:xfrm>
          <a:prstGeom prst="rect">
            <a:avLst/>
          </a:prstGeom>
          <a:gradFill rotWithShape="0">
            <a:gsLst>
              <a:gs pos="0">
                <a:srgbClr val="f3f3f3"/>
              </a:gs>
              <a:gs pos="100000">
                <a:srgbClr val="fcfcfc"/>
              </a:gs>
            </a:gsLst>
            <a:lin ang="16200000"/>
          </a:gradFill>
          <a:ln w="9360">
            <a:solidFill>
              <a:srgbClr val="e2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75" name="Rectangle 54"/>
          <p:cNvSpPr/>
          <p:nvPr/>
        </p:nvSpPr>
        <p:spPr>
          <a:xfrm>
            <a:off x="4500720" y="1484280"/>
            <a:ext cx="502920" cy="360360"/>
          </a:xfrm>
          <a:prstGeom prst="rect">
            <a:avLst/>
          </a:prstGeom>
          <a:gradFill rotWithShape="0">
            <a:gsLst>
              <a:gs pos="0">
                <a:srgbClr val="f3f3f3"/>
              </a:gs>
              <a:gs pos="100000">
                <a:srgbClr val="fcfcfc"/>
              </a:gs>
            </a:gsLst>
            <a:lin ang="16200000"/>
          </a:gradFill>
          <a:ln w="9360">
            <a:solidFill>
              <a:srgbClr val="e2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76" name="Rectangle 55"/>
          <p:cNvSpPr/>
          <p:nvPr/>
        </p:nvSpPr>
        <p:spPr>
          <a:xfrm>
            <a:off x="5003640" y="1484280"/>
            <a:ext cx="505080" cy="360360"/>
          </a:xfrm>
          <a:prstGeom prst="rect">
            <a:avLst/>
          </a:prstGeom>
          <a:gradFill rotWithShape="0">
            <a:gsLst>
              <a:gs pos="0">
                <a:srgbClr val="f3f3f3"/>
              </a:gs>
              <a:gs pos="100000">
                <a:srgbClr val="fcfcfc"/>
              </a:gs>
            </a:gsLst>
            <a:lin ang="16200000"/>
          </a:gradFill>
          <a:ln w="9360">
            <a:solidFill>
              <a:srgbClr val="e2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77" name="Rectangle 56"/>
          <p:cNvSpPr/>
          <p:nvPr/>
        </p:nvSpPr>
        <p:spPr>
          <a:xfrm>
            <a:off x="5508720" y="1484280"/>
            <a:ext cx="503280" cy="360360"/>
          </a:xfrm>
          <a:prstGeom prst="rect">
            <a:avLst/>
          </a:prstGeom>
          <a:gradFill rotWithShape="0">
            <a:gsLst>
              <a:gs pos="0">
                <a:srgbClr val="f3f3f3"/>
              </a:gs>
              <a:gs pos="100000">
                <a:srgbClr val="fcfcfc"/>
              </a:gs>
            </a:gsLst>
            <a:lin ang="16200000"/>
          </a:gradFill>
          <a:ln w="9360">
            <a:solidFill>
              <a:srgbClr val="e2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78" name="Rectangle 57"/>
          <p:cNvSpPr/>
          <p:nvPr/>
        </p:nvSpPr>
        <p:spPr>
          <a:xfrm>
            <a:off x="8244000" y="1484280"/>
            <a:ext cx="504720" cy="360360"/>
          </a:xfrm>
          <a:prstGeom prst="rect">
            <a:avLst/>
          </a:prstGeom>
          <a:gradFill rotWithShape="0">
            <a:gsLst>
              <a:gs pos="0">
                <a:srgbClr val="f3f3f3"/>
              </a:gs>
              <a:gs pos="100000">
                <a:srgbClr val="fcfcfc"/>
              </a:gs>
            </a:gsLst>
            <a:lin ang="16200000"/>
          </a:gradFill>
          <a:ln w="9360">
            <a:solidFill>
              <a:srgbClr val="e2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79" name="Rectangle 58"/>
          <p:cNvSpPr/>
          <p:nvPr/>
        </p:nvSpPr>
        <p:spPr>
          <a:xfrm>
            <a:off x="6012000" y="1484280"/>
            <a:ext cx="504720" cy="360360"/>
          </a:xfrm>
          <a:prstGeom prst="rect">
            <a:avLst/>
          </a:prstGeom>
          <a:gradFill rotWithShape="0">
            <a:gsLst>
              <a:gs pos="0">
                <a:srgbClr val="f3f3f3"/>
              </a:gs>
              <a:gs pos="100000">
                <a:srgbClr val="fcfcfc"/>
              </a:gs>
            </a:gsLst>
            <a:lin ang="16200000"/>
          </a:gradFill>
          <a:ln w="9360">
            <a:solidFill>
              <a:srgbClr val="e2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80" name="Rectangle 59"/>
          <p:cNvSpPr/>
          <p:nvPr/>
        </p:nvSpPr>
        <p:spPr>
          <a:xfrm>
            <a:off x="6516720" y="1484280"/>
            <a:ext cx="503280" cy="360360"/>
          </a:xfrm>
          <a:prstGeom prst="rect">
            <a:avLst/>
          </a:prstGeom>
          <a:gradFill rotWithShape="0">
            <a:gsLst>
              <a:gs pos="0">
                <a:srgbClr val="f3f3f3"/>
              </a:gs>
              <a:gs pos="100000">
                <a:srgbClr val="fcfcfc"/>
              </a:gs>
            </a:gsLst>
            <a:lin ang="16200000"/>
          </a:gradFill>
          <a:ln w="9360">
            <a:solidFill>
              <a:srgbClr val="e2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81" name="Rectangle 60"/>
          <p:cNvSpPr/>
          <p:nvPr/>
        </p:nvSpPr>
        <p:spPr>
          <a:xfrm>
            <a:off x="7020000" y="1484280"/>
            <a:ext cx="504720" cy="360360"/>
          </a:xfrm>
          <a:prstGeom prst="rect">
            <a:avLst/>
          </a:prstGeom>
          <a:gradFill rotWithShape="0">
            <a:gsLst>
              <a:gs pos="0">
                <a:srgbClr val="f3f3f3"/>
              </a:gs>
              <a:gs pos="100000">
                <a:srgbClr val="fcfcfc"/>
              </a:gs>
            </a:gsLst>
            <a:lin ang="16200000"/>
          </a:gradFill>
          <a:ln w="9360">
            <a:solidFill>
              <a:srgbClr val="e2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82" name="Rectangle 61"/>
          <p:cNvSpPr/>
          <p:nvPr/>
        </p:nvSpPr>
        <p:spPr>
          <a:xfrm>
            <a:off x="1979640" y="1484280"/>
            <a:ext cx="6769080" cy="360360"/>
          </a:xfrm>
          <a:prstGeom prst="rect">
            <a:avLst/>
          </a:prstGeom>
          <a:noFill/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83" name="ZoneTexte 62"/>
          <p:cNvSpPr/>
          <p:nvPr/>
        </p:nvSpPr>
        <p:spPr>
          <a:xfrm>
            <a:off x="7697160" y="1413000"/>
            <a:ext cx="38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84" name="ZoneTexte 63"/>
          <p:cNvSpPr/>
          <p:nvPr/>
        </p:nvSpPr>
        <p:spPr>
          <a:xfrm>
            <a:off x="2309040" y="836640"/>
            <a:ext cx="932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Helvetica 45 Light"/>
              </a:rPr>
              <a:t>First 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Helvetica 45 Light"/>
              </a:rPr>
              <a:t>non-zero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85" name="ZoneTexte 64"/>
          <p:cNvSpPr/>
          <p:nvPr/>
        </p:nvSpPr>
        <p:spPr>
          <a:xfrm>
            <a:off x="5830920" y="836640"/>
            <a:ext cx="932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Helvetica 45 Light"/>
              </a:rPr>
              <a:t>Last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Helvetica 45 Light"/>
              </a:rPr>
              <a:t>non-zero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86" name="Flèche vers le bas 65"/>
          <p:cNvSpPr/>
          <p:nvPr/>
        </p:nvSpPr>
        <p:spPr>
          <a:xfrm>
            <a:off x="2700360" y="1341360"/>
            <a:ext cx="142920" cy="142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87" name="Flèche vers le bas 66"/>
          <p:cNvSpPr/>
          <p:nvPr/>
        </p:nvSpPr>
        <p:spPr>
          <a:xfrm>
            <a:off x="6227640" y="1341360"/>
            <a:ext cx="144720" cy="142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cxnSp>
        <p:nvCxnSpPr>
          <p:cNvPr id="188" name="Connecteur droit avec flèche 67"/>
          <p:cNvCxnSpPr/>
          <p:nvPr/>
        </p:nvCxnSpPr>
        <p:spPr>
          <a:xfrm>
            <a:off x="2700360" y="1988640"/>
            <a:ext cx="3744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89" name="ZoneTexte 68"/>
          <p:cNvSpPr/>
          <p:nvPr/>
        </p:nvSpPr>
        <p:spPr>
          <a:xfrm>
            <a:off x="3363120" y="1940040"/>
            <a:ext cx="2297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Helvetica 45 Light"/>
              </a:rPr>
              <a:t>N Modifiable coefficients,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Helvetica 45 Light"/>
              </a:rPr>
              <a:t>N&gt;TSIG?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90" name="ZoneTexte 69"/>
          <p:cNvSpPr/>
          <p:nvPr/>
        </p:nvSpPr>
        <p:spPr>
          <a:xfrm>
            <a:off x="347400" y="1397160"/>
            <a:ext cx="134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Helvetica 45 Light"/>
              </a:rPr>
              <a:t>Quantized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Helvetica 45 Light"/>
              </a:rPr>
              <a:t>residual block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91" name="Flèche droite 70"/>
          <p:cNvSpPr/>
          <p:nvPr/>
        </p:nvSpPr>
        <p:spPr>
          <a:xfrm>
            <a:off x="1619280" y="1557360"/>
            <a:ext cx="288720" cy="216000"/>
          </a:xfrm>
          <a:prstGeom prst="rightArrow">
            <a:avLst>
              <a:gd name="adj1" fmla="val 50000"/>
              <a:gd name="adj2" fmla="val 49939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92" name="Espace réservé du pied de page 175"/>
          <p:cNvSpPr/>
          <p:nvPr/>
        </p:nvSpPr>
        <p:spPr>
          <a:xfrm>
            <a:off x="3840120" y="6407280"/>
            <a:ext cx="29005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Helvetica 55 Roman"/>
              </a:rPr>
              <a:t>JCTVC-H0224</a:t>
            </a: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10880" y="54936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Helvetica 65 Medium"/>
              </a:rPr>
              <a:t>Remarks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1146240" y="1103400"/>
            <a:ext cx="7386480" cy="51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The decoder behaviour is very simple and specified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The way the encoder modifies the parity of the residue, when needed, is up to the encoder designer, provided that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The first non-zero coefficent cannot become zero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The number of modifiable coefficient become smaller than TSIG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The designer of the encoder can choose its own complexity/performance trade off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We present in the next slide our own approach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1125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50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95" name="Espace réservé du pied de page 175"/>
          <p:cNvSpPr/>
          <p:nvPr/>
        </p:nvSpPr>
        <p:spPr>
          <a:xfrm>
            <a:off x="3840120" y="6407280"/>
            <a:ext cx="29005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Helvetica 55 Roman"/>
              </a:rPr>
              <a:t>JCTVC-H0224</a:t>
            </a: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10880" y="35568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Helvetica 65 Medium"/>
              </a:rPr>
              <a:t>Encoder used in for the current proposal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010880" y="1052640"/>
            <a:ext cx="79534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Non normative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If a change of the parity is required, we will shift one coefficient by 1, among the modifiable coefficients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based on RD cost minimization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We re-use the RD costs already computed during RDOQ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In order to increase the chances of finding a modification with a low RD cost, the following steps are implemented in the proposed encoder: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45 Light"/>
              </a:rPr>
              <a:t>Zero quantized coefficients can be shifted by one (in the direction of the original value of the coefficient)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45 Light"/>
              </a:rPr>
              <a:t>The quantized coefficients having an amplitude of one can be shifted by one in both directions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The above additionnal explorations are NOT used to improve RDOQ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98" name="Espace réservé du pied de page 175"/>
          <p:cNvSpPr/>
          <p:nvPr/>
        </p:nvSpPr>
        <p:spPr>
          <a:xfrm>
            <a:off x="3840120" y="6407280"/>
            <a:ext cx="29005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Helvetica 55 Roman"/>
              </a:rPr>
              <a:t>JCTVC-H0224</a:t>
            </a: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10880" y="54144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Helvetica 65 Medium"/>
              </a:rPr>
              <a:t>Tests conditions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14560" y="1181160"/>
            <a:ext cx="8353440" cy="42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HM5.0,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JCTVC-G1200 test conditions, 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High Efficiency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499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Helvetica 45 Light"/>
              </a:rPr>
              <a:t>TSIG values:</a:t>
            </a: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lvl="2" marL="1187280" indent="0"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lvl="2" marL="1187280" indent="0"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graphicFrame>
        <p:nvGraphicFramePr>
          <p:cNvPr id="202" name="Object 132"/>
          <p:cNvGraphicFramePr/>
          <p:nvPr/>
        </p:nvGraphicFramePr>
        <p:xfrm>
          <a:off x="-181080" y="2960640"/>
          <a:ext cx="9929880" cy="16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Object 1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1080" y="2960640"/>
                    <a:ext cx="9929880" cy="16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Espace réservé du pied de page 175"/>
          <p:cNvSpPr/>
          <p:nvPr/>
        </p:nvSpPr>
        <p:spPr>
          <a:xfrm>
            <a:off x="3840120" y="6407280"/>
            <a:ext cx="29005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Helvetica 55 Roman"/>
              </a:rPr>
              <a:t>JCTVC-H0224</a:t>
            </a: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Helvetica 65 Medium"/>
              </a:rPr>
              <a:t>Where does the gain come from?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cxnSp>
        <p:nvCxnSpPr>
          <p:cNvPr id="206" name="Connecteur droit avec flèche 5"/>
          <p:cNvCxnSpPr/>
          <p:nvPr/>
        </p:nvCxnSpPr>
        <p:spPr>
          <a:xfrm flipV="1">
            <a:off x="975960" y="1773000"/>
            <a:ext cx="1080" cy="252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7" name="Connecteur droit avec flèche 7"/>
          <p:cNvCxnSpPr/>
          <p:nvPr/>
        </p:nvCxnSpPr>
        <p:spPr>
          <a:xfrm>
            <a:off x="975960" y="4292280"/>
            <a:ext cx="2664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8" name="Connecteur droit 9"/>
          <p:cNvSpPr/>
          <p:nvPr/>
        </p:nvSpPr>
        <p:spPr>
          <a:xfrm>
            <a:off x="1263600" y="2708280"/>
            <a:ext cx="144000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09" name="Ellipse 15"/>
          <p:cNvSpPr/>
          <p:nvPr/>
        </p:nvSpPr>
        <p:spPr>
          <a:xfrm>
            <a:off x="2127240" y="3573360"/>
            <a:ext cx="73080" cy="7164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10" name="Ellipse 16"/>
          <p:cNvSpPr/>
          <p:nvPr/>
        </p:nvSpPr>
        <p:spPr>
          <a:xfrm>
            <a:off x="1984320" y="2924280"/>
            <a:ext cx="71640" cy="7308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11" name="Ellipse 17"/>
          <p:cNvSpPr/>
          <p:nvPr/>
        </p:nvSpPr>
        <p:spPr>
          <a:xfrm>
            <a:off x="2919240" y="2852640"/>
            <a:ext cx="73080" cy="7164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12" name="Ellipse 18"/>
          <p:cNvSpPr/>
          <p:nvPr/>
        </p:nvSpPr>
        <p:spPr>
          <a:xfrm>
            <a:off x="2200320" y="3213000"/>
            <a:ext cx="71280" cy="7164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13" name="Ellipse 19"/>
          <p:cNvSpPr/>
          <p:nvPr/>
        </p:nvSpPr>
        <p:spPr>
          <a:xfrm>
            <a:off x="2631960" y="3716280"/>
            <a:ext cx="71640" cy="7308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14" name="Ellipse 20"/>
          <p:cNvSpPr/>
          <p:nvPr/>
        </p:nvSpPr>
        <p:spPr>
          <a:xfrm>
            <a:off x="2847960" y="3860640"/>
            <a:ext cx="71280" cy="7308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15" name="Ellipse 21"/>
          <p:cNvSpPr/>
          <p:nvPr/>
        </p:nvSpPr>
        <p:spPr>
          <a:xfrm>
            <a:off x="2271600" y="2637000"/>
            <a:ext cx="71640" cy="7128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16" name="Ellipse 22"/>
          <p:cNvSpPr/>
          <p:nvPr/>
        </p:nvSpPr>
        <p:spPr>
          <a:xfrm>
            <a:off x="3135240" y="3645000"/>
            <a:ext cx="73080" cy="7128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17" name="Ellipse 23"/>
          <p:cNvSpPr/>
          <p:nvPr/>
        </p:nvSpPr>
        <p:spPr>
          <a:xfrm>
            <a:off x="2558880" y="2421000"/>
            <a:ext cx="73080" cy="7128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18" name="Ellipse 24"/>
          <p:cNvSpPr/>
          <p:nvPr/>
        </p:nvSpPr>
        <p:spPr>
          <a:xfrm>
            <a:off x="2919240" y="2637000"/>
            <a:ext cx="71640" cy="7128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19" name="Ellipse 25"/>
          <p:cNvSpPr/>
          <p:nvPr/>
        </p:nvSpPr>
        <p:spPr>
          <a:xfrm>
            <a:off x="2558880" y="3068640"/>
            <a:ext cx="73080" cy="7308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20" name="Ellipse 26"/>
          <p:cNvSpPr/>
          <p:nvPr/>
        </p:nvSpPr>
        <p:spPr>
          <a:xfrm>
            <a:off x="3279600" y="3933720"/>
            <a:ext cx="71640" cy="7164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21" name="Ellipse 27"/>
          <p:cNvSpPr/>
          <p:nvPr/>
        </p:nvSpPr>
        <p:spPr>
          <a:xfrm>
            <a:off x="3208320" y="3213000"/>
            <a:ext cx="71280" cy="7164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22" name="Ellipse 28"/>
          <p:cNvSpPr/>
          <p:nvPr/>
        </p:nvSpPr>
        <p:spPr>
          <a:xfrm>
            <a:off x="2919240" y="3141720"/>
            <a:ext cx="73080" cy="7128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23" name="Ellipse 30"/>
          <p:cNvSpPr/>
          <p:nvPr/>
        </p:nvSpPr>
        <p:spPr>
          <a:xfrm>
            <a:off x="1695600" y="2205000"/>
            <a:ext cx="71280" cy="7164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24" name="Ellipse 31"/>
          <p:cNvSpPr/>
          <p:nvPr/>
        </p:nvSpPr>
        <p:spPr>
          <a:xfrm>
            <a:off x="1766880" y="2565360"/>
            <a:ext cx="73080" cy="7164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25" name="Ellipse 32"/>
          <p:cNvSpPr/>
          <p:nvPr/>
        </p:nvSpPr>
        <p:spPr>
          <a:xfrm>
            <a:off x="2558880" y="3500280"/>
            <a:ext cx="73080" cy="7308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26" name="ZoneTexte 56"/>
          <p:cNvSpPr/>
          <p:nvPr/>
        </p:nvSpPr>
        <p:spPr>
          <a:xfrm>
            <a:off x="3360240" y="436572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27" name="ZoneTexte 57"/>
          <p:cNvSpPr/>
          <p:nvPr/>
        </p:nvSpPr>
        <p:spPr>
          <a:xfrm>
            <a:off x="540720" y="1700280"/>
            <a:ext cx="36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28" name="ZoneTexte 58"/>
          <p:cNvSpPr/>
          <p:nvPr/>
        </p:nvSpPr>
        <p:spPr>
          <a:xfrm>
            <a:off x="1056240" y="2668680"/>
            <a:ext cx="4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-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cxnSp>
        <p:nvCxnSpPr>
          <p:cNvPr id="229" name="Connecteur droit avec flèche 59"/>
          <p:cNvCxnSpPr/>
          <p:nvPr/>
        </p:nvCxnSpPr>
        <p:spPr>
          <a:xfrm flipV="1">
            <a:off x="5151240" y="980640"/>
            <a:ext cx="1080" cy="252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0" name="Connecteur droit avec flèche 60"/>
          <p:cNvCxnSpPr/>
          <p:nvPr/>
        </p:nvCxnSpPr>
        <p:spPr>
          <a:xfrm>
            <a:off x="5151240" y="3499920"/>
            <a:ext cx="2665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1" name="Connecteur droit 61"/>
          <p:cNvSpPr/>
          <p:nvPr/>
        </p:nvSpPr>
        <p:spPr>
          <a:xfrm>
            <a:off x="5440320" y="1916280"/>
            <a:ext cx="144000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32" name="Ellipse 62"/>
          <p:cNvSpPr/>
          <p:nvPr/>
        </p:nvSpPr>
        <p:spPr>
          <a:xfrm>
            <a:off x="6303960" y="2781360"/>
            <a:ext cx="71280" cy="7128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33" name="Ellipse 63"/>
          <p:cNvSpPr/>
          <p:nvPr/>
        </p:nvSpPr>
        <p:spPr>
          <a:xfrm>
            <a:off x="6159600" y="2133720"/>
            <a:ext cx="73080" cy="7128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34" name="Ellipse 64"/>
          <p:cNvSpPr/>
          <p:nvPr/>
        </p:nvSpPr>
        <p:spPr>
          <a:xfrm>
            <a:off x="7095960" y="2060640"/>
            <a:ext cx="71640" cy="7308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35" name="Ellipse 65"/>
          <p:cNvSpPr/>
          <p:nvPr/>
        </p:nvSpPr>
        <p:spPr>
          <a:xfrm>
            <a:off x="6375240" y="2421000"/>
            <a:ext cx="73080" cy="7128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36" name="Ellipse 66"/>
          <p:cNvSpPr/>
          <p:nvPr/>
        </p:nvSpPr>
        <p:spPr>
          <a:xfrm>
            <a:off x="6808680" y="2924280"/>
            <a:ext cx="71640" cy="7308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37" name="Ellipse 67"/>
          <p:cNvSpPr/>
          <p:nvPr/>
        </p:nvSpPr>
        <p:spPr>
          <a:xfrm>
            <a:off x="7024680" y="3068640"/>
            <a:ext cx="71280" cy="7308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38" name="Ellipse 68"/>
          <p:cNvSpPr/>
          <p:nvPr/>
        </p:nvSpPr>
        <p:spPr>
          <a:xfrm>
            <a:off x="6448320" y="1844640"/>
            <a:ext cx="71640" cy="7164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39" name="Ellipse 69"/>
          <p:cNvSpPr/>
          <p:nvPr/>
        </p:nvSpPr>
        <p:spPr>
          <a:xfrm>
            <a:off x="7311960" y="2852640"/>
            <a:ext cx="71640" cy="7164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40" name="Ellipse 70"/>
          <p:cNvSpPr/>
          <p:nvPr/>
        </p:nvSpPr>
        <p:spPr>
          <a:xfrm>
            <a:off x="6735600" y="1628640"/>
            <a:ext cx="73080" cy="7164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41" name="Ellipse 71"/>
          <p:cNvSpPr/>
          <p:nvPr/>
        </p:nvSpPr>
        <p:spPr>
          <a:xfrm>
            <a:off x="7095960" y="1844640"/>
            <a:ext cx="71640" cy="7164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42" name="Ellipse 72"/>
          <p:cNvSpPr/>
          <p:nvPr/>
        </p:nvSpPr>
        <p:spPr>
          <a:xfrm>
            <a:off x="6735600" y="2276640"/>
            <a:ext cx="73080" cy="7272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43" name="Ellipse 73"/>
          <p:cNvSpPr/>
          <p:nvPr/>
        </p:nvSpPr>
        <p:spPr>
          <a:xfrm>
            <a:off x="7456320" y="3141720"/>
            <a:ext cx="71640" cy="7128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44" name="Ellipse 74"/>
          <p:cNvSpPr/>
          <p:nvPr/>
        </p:nvSpPr>
        <p:spPr>
          <a:xfrm>
            <a:off x="7383600" y="2421000"/>
            <a:ext cx="72720" cy="7128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45" name="Ellipse 75"/>
          <p:cNvSpPr/>
          <p:nvPr/>
        </p:nvSpPr>
        <p:spPr>
          <a:xfrm>
            <a:off x="7095960" y="2349360"/>
            <a:ext cx="71640" cy="7164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46" name="Ellipse 77"/>
          <p:cNvSpPr/>
          <p:nvPr/>
        </p:nvSpPr>
        <p:spPr>
          <a:xfrm>
            <a:off x="5872320" y="1413000"/>
            <a:ext cx="71280" cy="7128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47" name="Ellipse 78"/>
          <p:cNvSpPr/>
          <p:nvPr/>
        </p:nvSpPr>
        <p:spPr>
          <a:xfrm>
            <a:off x="5943600" y="1773360"/>
            <a:ext cx="73080" cy="7128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48" name="Ellipse 79"/>
          <p:cNvSpPr/>
          <p:nvPr/>
        </p:nvSpPr>
        <p:spPr>
          <a:xfrm>
            <a:off x="6735600" y="2708280"/>
            <a:ext cx="73080" cy="7308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49" name="ZoneTexte 80"/>
          <p:cNvSpPr/>
          <p:nvPr/>
        </p:nvSpPr>
        <p:spPr>
          <a:xfrm>
            <a:off x="7536960" y="357336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50" name="ZoneTexte 81"/>
          <p:cNvSpPr/>
          <p:nvPr/>
        </p:nvSpPr>
        <p:spPr>
          <a:xfrm>
            <a:off x="4717440" y="907920"/>
            <a:ext cx="36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51" name="ZoneTexte 82"/>
          <p:cNvSpPr/>
          <p:nvPr/>
        </p:nvSpPr>
        <p:spPr>
          <a:xfrm>
            <a:off x="5232240" y="1876320"/>
            <a:ext cx="4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-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52" name="Ellipse 87"/>
          <p:cNvSpPr/>
          <p:nvPr/>
        </p:nvSpPr>
        <p:spPr>
          <a:xfrm>
            <a:off x="6016680" y="2781360"/>
            <a:ext cx="71280" cy="71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53" name="ZoneTexte 110"/>
          <p:cNvSpPr/>
          <p:nvPr/>
        </p:nvSpPr>
        <p:spPr>
          <a:xfrm>
            <a:off x="7536960" y="641340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54" name="ZoneTexte 111"/>
          <p:cNvSpPr/>
          <p:nvPr/>
        </p:nvSpPr>
        <p:spPr>
          <a:xfrm>
            <a:off x="4717440" y="3749760"/>
            <a:ext cx="36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55" name="Ellipse 83"/>
          <p:cNvSpPr/>
          <p:nvPr/>
        </p:nvSpPr>
        <p:spPr>
          <a:xfrm>
            <a:off x="5872320" y="2133720"/>
            <a:ext cx="71280" cy="71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56" name="Ellipse 84"/>
          <p:cNvSpPr/>
          <p:nvPr/>
        </p:nvSpPr>
        <p:spPr>
          <a:xfrm>
            <a:off x="6808680" y="2060640"/>
            <a:ext cx="71640" cy="730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57" name="Ellipse 85"/>
          <p:cNvSpPr/>
          <p:nvPr/>
        </p:nvSpPr>
        <p:spPr>
          <a:xfrm>
            <a:off x="6087960" y="2421000"/>
            <a:ext cx="71640" cy="71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58" name="Ellipse 116"/>
          <p:cNvSpPr/>
          <p:nvPr/>
        </p:nvSpPr>
        <p:spPr>
          <a:xfrm>
            <a:off x="6519960" y="2924280"/>
            <a:ext cx="73080" cy="730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59" name="Ellipse 117"/>
          <p:cNvSpPr/>
          <p:nvPr/>
        </p:nvSpPr>
        <p:spPr>
          <a:xfrm>
            <a:off x="6735600" y="3068640"/>
            <a:ext cx="73080" cy="730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60" name="Ellipse 118"/>
          <p:cNvSpPr/>
          <p:nvPr/>
        </p:nvSpPr>
        <p:spPr>
          <a:xfrm>
            <a:off x="6159600" y="1844640"/>
            <a:ext cx="73080" cy="7164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61" name="Ellipse 119"/>
          <p:cNvSpPr/>
          <p:nvPr/>
        </p:nvSpPr>
        <p:spPr>
          <a:xfrm>
            <a:off x="7024680" y="2852640"/>
            <a:ext cx="71280" cy="7164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62" name="Ellipse 120"/>
          <p:cNvSpPr/>
          <p:nvPr/>
        </p:nvSpPr>
        <p:spPr>
          <a:xfrm>
            <a:off x="6448320" y="1628640"/>
            <a:ext cx="71640" cy="7164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63" name="Ellipse 121"/>
          <p:cNvSpPr/>
          <p:nvPr/>
        </p:nvSpPr>
        <p:spPr>
          <a:xfrm>
            <a:off x="6807240" y="1844640"/>
            <a:ext cx="73080" cy="7164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64" name="Ellipse 122"/>
          <p:cNvSpPr/>
          <p:nvPr/>
        </p:nvSpPr>
        <p:spPr>
          <a:xfrm>
            <a:off x="6448320" y="2276640"/>
            <a:ext cx="71640" cy="7272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65" name="Ellipse 123"/>
          <p:cNvSpPr/>
          <p:nvPr/>
        </p:nvSpPr>
        <p:spPr>
          <a:xfrm>
            <a:off x="7167600" y="3141720"/>
            <a:ext cx="73080" cy="71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66" name="Ellipse 124"/>
          <p:cNvSpPr/>
          <p:nvPr/>
        </p:nvSpPr>
        <p:spPr>
          <a:xfrm>
            <a:off x="7095960" y="2421000"/>
            <a:ext cx="71640" cy="71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67" name="Ellipse 125"/>
          <p:cNvSpPr/>
          <p:nvPr/>
        </p:nvSpPr>
        <p:spPr>
          <a:xfrm>
            <a:off x="6808680" y="2349360"/>
            <a:ext cx="71640" cy="7164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68" name="Ellipse 126"/>
          <p:cNvSpPr/>
          <p:nvPr/>
        </p:nvSpPr>
        <p:spPr>
          <a:xfrm>
            <a:off x="5584680" y="1413000"/>
            <a:ext cx="71640" cy="71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69" name="Ellipse 127"/>
          <p:cNvSpPr/>
          <p:nvPr/>
        </p:nvSpPr>
        <p:spPr>
          <a:xfrm>
            <a:off x="5656320" y="1773360"/>
            <a:ext cx="71280" cy="71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70" name="Ellipse 128"/>
          <p:cNvSpPr/>
          <p:nvPr/>
        </p:nvSpPr>
        <p:spPr>
          <a:xfrm>
            <a:off x="6448320" y="2708280"/>
            <a:ext cx="71640" cy="730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cxnSp>
        <p:nvCxnSpPr>
          <p:cNvPr id="271" name="Connecteur droit avec flèche 130"/>
          <p:cNvCxnSpPr/>
          <p:nvPr/>
        </p:nvCxnSpPr>
        <p:spPr>
          <a:xfrm flipH="1">
            <a:off x="6158880" y="2455560"/>
            <a:ext cx="216360" cy="108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272" name="Connecteur droit avec flèche 131"/>
          <p:cNvCxnSpPr/>
          <p:nvPr/>
        </p:nvCxnSpPr>
        <p:spPr>
          <a:xfrm flipH="1">
            <a:off x="5943240" y="2168280"/>
            <a:ext cx="216720" cy="108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273" name="Connecteur droit avec flèche 132"/>
          <p:cNvCxnSpPr/>
          <p:nvPr/>
        </p:nvCxnSpPr>
        <p:spPr>
          <a:xfrm flipH="1">
            <a:off x="6519240" y="2312640"/>
            <a:ext cx="216360" cy="108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274" name="Connecteur droit avec flèche 133"/>
          <p:cNvCxnSpPr/>
          <p:nvPr/>
        </p:nvCxnSpPr>
        <p:spPr>
          <a:xfrm flipH="1">
            <a:off x="6879600" y="2383920"/>
            <a:ext cx="216360" cy="108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275" name="Connecteur droit avec flèche 134"/>
          <p:cNvCxnSpPr/>
          <p:nvPr/>
        </p:nvCxnSpPr>
        <p:spPr>
          <a:xfrm flipH="1">
            <a:off x="7167240" y="2455560"/>
            <a:ext cx="216720" cy="108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276" name="Connecteur droit avec flèche 135"/>
          <p:cNvCxnSpPr/>
          <p:nvPr/>
        </p:nvCxnSpPr>
        <p:spPr>
          <a:xfrm flipH="1">
            <a:off x="7095600" y="2889000"/>
            <a:ext cx="216720" cy="108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277" name="Connecteur droit avec flèche 136"/>
          <p:cNvCxnSpPr/>
          <p:nvPr/>
        </p:nvCxnSpPr>
        <p:spPr>
          <a:xfrm flipH="1">
            <a:off x="7239960" y="3176280"/>
            <a:ext cx="216360" cy="108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278" name="Connecteur droit avec flèche 137"/>
          <p:cNvCxnSpPr/>
          <p:nvPr/>
        </p:nvCxnSpPr>
        <p:spPr>
          <a:xfrm flipH="1">
            <a:off x="6808320" y="3104640"/>
            <a:ext cx="216720" cy="108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279" name="Connecteur droit avec flèche 138"/>
          <p:cNvCxnSpPr/>
          <p:nvPr/>
        </p:nvCxnSpPr>
        <p:spPr>
          <a:xfrm flipH="1">
            <a:off x="6519240" y="1665000"/>
            <a:ext cx="216360" cy="108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280" name="Connecteur droit avec flèche 139"/>
          <p:cNvCxnSpPr/>
          <p:nvPr/>
        </p:nvCxnSpPr>
        <p:spPr>
          <a:xfrm flipH="1">
            <a:off x="5727240" y="1817280"/>
            <a:ext cx="216720" cy="108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281" name="Connecteur droit avec flèche 140"/>
          <p:cNvCxnSpPr/>
          <p:nvPr/>
        </p:nvCxnSpPr>
        <p:spPr>
          <a:xfrm flipH="1">
            <a:off x="6231960" y="1881000"/>
            <a:ext cx="216360" cy="108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282" name="Connecteur droit avec flèche 141"/>
          <p:cNvCxnSpPr/>
          <p:nvPr/>
        </p:nvCxnSpPr>
        <p:spPr>
          <a:xfrm flipH="1">
            <a:off x="6879600" y="1881000"/>
            <a:ext cx="216360" cy="108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283" name="Connecteur droit avec flèche 142"/>
          <p:cNvCxnSpPr/>
          <p:nvPr/>
        </p:nvCxnSpPr>
        <p:spPr>
          <a:xfrm flipH="1">
            <a:off x="6879600" y="2096640"/>
            <a:ext cx="216360" cy="108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284" name="Connecteur droit avec flèche 143"/>
          <p:cNvCxnSpPr/>
          <p:nvPr/>
        </p:nvCxnSpPr>
        <p:spPr>
          <a:xfrm flipH="1">
            <a:off x="6519240" y="2744280"/>
            <a:ext cx="216360" cy="108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285" name="Connecteur droit avec flèche 144"/>
          <p:cNvCxnSpPr/>
          <p:nvPr/>
        </p:nvCxnSpPr>
        <p:spPr>
          <a:xfrm flipH="1">
            <a:off x="6592320" y="2960280"/>
            <a:ext cx="216360" cy="108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286" name="Connecteur droit avec flèche 145"/>
          <p:cNvCxnSpPr/>
          <p:nvPr/>
        </p:nvCxnSpPr>
        <p:spPr>
          <a:xfrm flipH="1">
            <a:off x="5655960" y="1447560"/>
            <a:ext cx="216720" cy="108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287" name="Connecteur droit avec flèche 146"/>
          <p:cNvCxnSpPr/>
          <p:nvPr/>
        </p:nvCxnSpPr>
        <p:spPr>
          <a:xfrm flipV="1">
            <a:off x="5151240" y="3859920"/>
            <a:ext cx="1080" cy="252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8" name="Connecteur droit avec flèche 147"/>
          <p:cNvCxnSpPr/>
          <p:nvPr/>
        </p:nvCxnSpPr>
        <p:spPr>
          <a:xfrm>
            <a:off x="5151240" y="6381360"/>
            <a:ext cx="2665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9" name="Connecteur droit 148"/>
          <p:cNvSpPr/>
          <p:nvPr/>
        </p:nvSpPr>
        <p:spPr>
          <a:xfrm>
            <a:off x="5440320" y="4797360"/>
            <a:ext cx="144000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90" name="Ellipse 149"/>
          <p:cNvSpPr/>
          <p:nvPr/>
        </p:nvSpPr>
        <p:spPr>
          <a:xfrm>
            <a:off x="6303960" y="5661000"/>
            <a:ext cx="71280" cy="7164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91" name="Ellipse 150"/>
          <p:cNvSpPr/>
          <p:nvPr/>
        </p:nvSpPr>
        <p:spPr>
          <a:xfrm>
            <a:off x="6159600" y="5013360"/>
            <a:ext cx="73080" cy="7128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92" name="Ellipse 151"/>
          <p:cNvSpPr/>
          <p:nvPr/>
        </p:nvSpPr>
        <p:spPr>
          <a:xfrm>
            <a:off x="7095960" y="4941720"/>
            <a:ext cx="71640" cy="7164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93" name="Ellipse 152"/>
          <p:cNvSpPr/>
          <p:nvPr/>
        </p:nvSpPr>
        <p:spPr>
          <a:xfrm>
            <a:off x="6375240" y="5300640"/>
            <a:ext cx="73080" cy="7308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94" name="Ellipse 153"/>
          <p:cNvSpPr/>
          <p:nvPr/>
        </p:nvSpPr>
        <p:spPr>
          <a:xfrm>
            <a:off x="6808680" y="5805360"/>
            <a:ext cx="71640" cy="7164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95" name="Ellipse 154"/>
          <p:cNvSpPr/>
          <p:nvPr/>
        </p:nvSpPr>
        <p:spPr>
          <a:xfrm>
            <a:off x="7024680" y="5950080"/>
            <a:ext cx="71280" cy="7128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96" name="Ellipse 155"/>
          <p:cNvSpPr/>
          <p:nvPr/>
        </p:nvSpPr>
        <p:spPr>
          <a:xfrm>
            <a:off x="6448320" y="4724280"/>
            <a:ext cx="71640" cy="7308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97" name="Ellipse 156"/>
          <p:cNvSpPr/>
          <p:nvPr/>
        </p:nvSpPr>
        <p:spPr>
          <a:xfrm>
            <a:off x="7311960" y="5732640"/>
            <a:ext cx="71640" cy="7272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98" name="Ellipse 157"/>
          <p:cNvSpPr/>
          <p:nvPr/>
        </p:nvSpPr>
        <p:spPr>
          <a:xfrm>
            <a:off x="6735600" y="4508640"/>
            <a:ext cx="73080" cy="7272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99" name="Ellipse 158"/>
          <p:cNvSpPr/>
          <p:nvPr/>
        </p:nvSpPr>
        <p:spPr>
          <a:xfrm>
            <a:off x="7095960" y="4724280"/>
            <a:ext cx="71640" cy="7308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00" name="Ellipse 159"/>
          <p:cNvSpPr/>
          <p:nvPr/>
        </p:nvSpPr>
        <p:spPr>
          <a:xfrm>
            <a:off x="6735600" y="5157720"/>
            <a:ext cx="73080" cy="7164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01" name="Ellipse 160"/>
          <p:cNvSpPr/>
          <p:nvPr/>
        </p:nvSpPr>
        <p:spPr>
          <a:xfrm>
            <a:off x="7456320" y="6021360"/>
            <a:ext cx="71640" cy="7164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02" name="Ellipse 161"/>
          <p:cNvSpPr/>
          <p:nvPr/>
        </p:nvSpPr>
        <p:spPr>
          <a:xfrm>
            <a:off x="7383600" y="5300640"/>
            <a:ext cx="72720" cy="7308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03" name="Ellipse 162"/>
          <p:cNvSpPr/>
          <p:nvPr/>
        </p:nvSpPr>
        <p:spPr>
          <a:xfrm>
            <a:off x="7095960" y="5229360"/>
            <a:ext cx="71640" cy="7128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04" name="Ellipse 163"/>
          <p:cNvSpPr/>
          <p:nvPr/>
        </p:nvSpPr>
        <p:spPr>
          <a:xfrm>
            <a:off x="5872320" y="4292640"/>
            <a:ext cx="71280" cy="7308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05" name="Ellipse 164"/>
          <p:cNvSpPr/>
          <p:nvPr/>
        </p:nvSpPr>
        <p:spPr>
          <a:xfrm>
            <a:off x="5943600" y="4653000"/>
            <a:ext cx="73080" cy="7128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06" name="Ellipse 165"/>
          <p:cNvSpPr/>
          <p:nvPr/>
        </p:nvSpPr>
        <p:spPr>
          <a:xfrm>
            <a:off x="6735600" y="5589720"/>
            <a:ext cx="73080" cy="7128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07" name="ZoneTexte 166"/>
          <p:cNvSpPr/>
          <p:nvPr/>
        </p:nvSpPr>
        <p:spPr>
          <a:xfrm>
            <a:off x="5232240" y="4757760"/>
            <a:ext cx="4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-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08" name="Ellipse 168"/>
          <p:cNvSpPr/>
          <p:nvPr/>
        </p:nvSpPr>
        <p:spPr>
          <a:xfrm>
            <a:off x="6016680" y="5661000"/>
            <a:ext cx="71280" cy="7164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09" name="Ellipse 170"/>
          <p:cNvSpPr/>
          <p:nvPr/>
        </p:nvSpPr>
        <p:spPr>
          <a:xfrm>
            <a:off x="5872320" y="5013360"/>
            <a:ext cx="71280" cy="71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10" name="Ellipse 171"/>
          <p:cNvSpPr/>
          <p:nvPr/>
        </p:nvSpPr>
        <p:spPr>
          <a:xfrm>
            <a:off x="6808680" y="4941720"/>
            <a:ext cx="71640" cy="7164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11" name="Ellipse 172"/>
          <p:cNvSpPr/>
          <p:nvPr/>
        </p:nvSpPr>
        <p:spPr>
          <a:xfrm>
            <a:off x="6087960" y="5300640"/>
            <a:ext cx="71640" cy="730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12" name="Ellipse 173"/>
          <p:cNvSpPr/>
          <p:nvPr/>
        </p:nvSpPr>
        <p:spPr>
          <a:xfrm>
            <a:off x="6519960" y="5805360"/>
            <a:ext cx="73080" cy="7164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13" name="Ellipse 174"/>
          <p:cNvSpPr/>
          <p:nvPr/>
        </p:nvSpPr>
        <p:spPr>
          <a:xfrm>
            <a:off x="6735600" y="5950080"/>
            <a:ext cx="73080" cy="71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14" name="Ellipse 175"/>
          <p:cNvSpPr/>
          <p:nvPr/>
        </p:nvSpPr>
        <p:spPr>
          <a:xfrm>
            <a:off x="6159600" y="4724280"/>
            <a:ext cx="73080" cy="730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15" name="Ellipse 176"/>
          <p:cNvSpPr/>
          <p:nvPr/>
        </p:nvSpPr>
        <p:spPr>
          <a:xfrm>
            <a:off x="7024680" y="5732640"/>
            <a:ext cx="71280" cy="7272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16" name="Ellipse 177"/>
          <p:cNvSpPr/>
          <p:nvPr/>
        </p:nvSpPr>
        <p:spPr>
          <a:xfrm>
            <a:off x="6448320" y="4508640"/>
            <a:ext cx="71640" cy="7272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17" name="Ellipse 178"/>
          <p:cNvSpPr/>
          <p:nvPr/>
        </p:nvSpPr>
        <p:spPr>
          <a:xfrm>
            <a:off x="6807240" y="4724280"/>
            <a:ext cx="73080" cy="730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18" name="Ellipse 179"/>
          <p:cNvSpPr/>
          <p:nvPr/>
        </p:nvSpPr>
        <p:spPr>
          <a:xfrm>
            <a:off x="6448320" y="5157720"/>
            <a:ext cx="71640" cy="7164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19" name="Ellipse 180"/>
          <p:cNvSpPr/>
          <p:nvPr/>
        </p:nvSpPr>
        <p:spPr>
          <a:xfrm>
            <a:off x="7167600" y="6021360"/>
            <a:ext cx="73080" cy="7164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20" name="Ellipse 181"/>
          <p:cNvSpPr/>
          <p:nvPr/>
        </p:nvSpPr>
        <p:spPr>
          <a:xfrm>
            <a:off x="7095960" y="5300640"/>
            <a:ext cx="71640" cy="730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21" name="Ellipse 182"/>
          <p:cNvSpPr/>
          <p:nvPr/>
        </p:nvSpPr>
        <p:spPr>
          <a:xfrm>
            <a:off x="6808680" y="5229360"/>
            <a:ext cx="71640" cy="71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22" name="Ellipse 183"/>
          <p:cNvSpPr/>
          <p:nvPr/>
        </p:nvSpPr>
        <p:spPr>
          <a:xfrm>
            <a:off x="5584680" y="4292640"/>
            <a:ext cx="71640" cy="730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23" name="Ellipse 184"/>
          <p:cNvSpPr/>
          <p:nvPr/>
        </p:nvSpPr>
        <p:spPr>
          <a:xfrm>
            <a:off x="5656320" y="4653000"/>
            <a:ext cx="71280" cy="71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24" name="Ellipse 185"/>
          <p:cNvSpPr/>
          <p:nvPr/>
        </p:nvSpPr>
        <p:spPr>
          <a:xfrm>
            <a:off x="6448320" y="5589720"/>
            <a:ext cx="71640" cy="71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cxnSp>
        <p:nvCxnSpPr>
          <p:cNvPr id="325" name="Connecteur droit avec flèche 186"/>
          <p:cNvCxnSpPr/>
          <p:nvPr/>
        </p:nvCxnSpPr>
        <p:spPr>
          <a:xfrm flipH="1">
            <a:off x="6158880" y="5336640"/>
            <a:ext cx="216360" cy="108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26" name="Connecteur droit avec flèche 187"/>
          <p:cNvCxnSpPr/>
          <p:nvPr/>
        </p:nvCxnSpPr>
        <p:spPr>
          <a:xfrm flipH="1">
            <a:off x="5943240" y="5047920"/>
            <a:ext cx="216720" cy="108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27" name="Connecteur droit avec flèche 188"/>
          <p:cNvCxnSpPr/>
          <p:nvPr/>
        </p:nvCxnSpPr>
        <p:spPr>
          <a:xfrm flipH="1">
            <a:off x="6519240" y="5192280"/>
            <a:ext cx="216360" cy="108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28" name="Connecteur droit avec flèche 189"/>
          <p:cNvCxnSpPr/>
          <p:nvPr/>
        </p:nvCxnSpPr>
        <p:spPr>
          <a:xfrm flipH="1">
            <a:off x="6879600" y="5263920"/>
            <a:ext cx="216360" cy="108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29" name="Connecteur droit avec flèche 190"/>
          <p:cNvCxnSpPr/>
          <p:nvPr/>
        </p:nvCxnSpPr>
        <p:spPr>
          <a:xfrm flipH="1">
            <a:off x="7167240" y="5336640"/>
            <a:ext cx="216720" cy="108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30" name="Connecteur droit avec flèche 191"/>
          <p:cNvCxnSpPr/>
          <p:nvPr/>
        </p:nvCxnSpPr>
        <p:spPr>
          <a:xfrm flipH="1">
            <a:off x="7095600" y="5768640"/>
            <a:ext cx="216720" cy="108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31" name="Connecteur droit avec flèche 192"/>
          <p:cNvCxnSpPr/>
          <p:nvPr/>
        </p:nvCxnSpPr>
        <p:spPr>
          <a:xfrm flipH="1">
            <a:off x="7239960" y="6055920"/>
            <a:ext cx="216360" cy="108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32" name="Connecteur droit avec flèche 193"/>
          <p:cNvCxnSpPr/>
          <p:nvPr/>
        </p:nvCxnSpPr>
        <p:spPr>
          <a:xfrm flipH="1">
            <a:off x="6808320" y="5984640"/>
            <a:ext cx="216720" cy="108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33" name="Connecteur droit avec flèche 194"/>
          <p:cNvCxnSpPr/>
          <p:nvPr/>
        </p:nvCxnSpPr>
        <p:spPr>
          <a:xfrm flipH="1">
            <a:off x="6519240" y="4544640"/>
            <a:ext cx="216360" cy="108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34" name="Connecteur droit avec flèche 195"/>
          <p:cNvCxnSpPr/>
          <p:nvPr/>
        </p:nvCxnSpPr>
        <p:spPr>
          <a:xfrm flipH="1">
            <a:off x="5727240" y="4696920"/>
            <a:ext cx="216720" cy="108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35" name="Connecteur droit avec flèche 196"/>
          <p:cNvCxnSpPr/>
          <p:nvPr/>
        </p:nvCxnSpPr>
        <p:spPr>
          <a:xfrm flipH="1">
            <a:off x="6231960" y="4760640"/>
            <a:ext cx="216360" cy="108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36" name="Connecteur droit avec flèche 197"/>
          <p:cNvCxnSpPr/>
          <p:nvPr/>
        </p:nvCxnSpPr>
        <p:spPr>
          <a:xfrm flipH="1">
            <a:off x="6879600" y="4760640"/>
            <a:ext cx="216360" cy="108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37" name="Connecteur droit avec flèche 198"/>
          <p:cNvCxnSpPr/>
          <p:nvPr/>
        </p:nvCxnSpPr>
        <p:spPr>
          <a:xfrm flipH="1">
            <a:off x="6879600" y="4976280"/>
            <a:ext cx="216360" cy="108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38" name="Connecteur droit avec flèche 199"/>
          <p:cNvCxnSpPr/>
          <p:nvPr/>
        </p:nvCxnSpPr>
        <p:spPr>
          <a:xfrm flipH="1">
            <a:off x="6519240" y="5624280"/>
            <a:ext cx="216360" cy="108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39" name="Connecteur droit avec flèche 200"/>
          <p:cNvCxnSpPr/>
          <p:nvPr/>
        </p:nvCxnSpPr>
        <p:spPr>
          <a:xfrm flipH="1">
            <a:off x="6592320" y="5839920"/>
            <a:ext cx="216360" cy="108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40" name="Connecteur droit avec flèche 201"/>
          <p:cNvCxnSpPr/>
          <p:nvPr/>
        </p:nvCxnSpPr>
        <p:spPr>
          <a:xfrm flipH="1">
            <a:off x="5655960" y="4328640"/>
            <a:ext cx="216720" cy="108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41" name="Connecteur droit avec flèche 209"/>
          <p:cNvCxnSpPr/>
          <p:nvPr/>
        </p:nvCxnSpPr>
        <p:spPr>
          <a:xfrm flipH="1">
            <a:off x="6087600" y="2817360"/>
            <a:ext cx="216720" cy="108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42" name="Connecteur droit avec flèche 210"/>
          <p:cNvCxnSpPr/>
          <p:nvPr/>
        </p:nvCxnSpPr>
        <p:spPr>
          <a:xfrm flipH="1">
            <a:off x="6087600" y="5695560"/>
            <a:ext cx="216720" cy="108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sp>
        <p:nvSpPr>
          <p:cNvPr id="343" name="Ellipse 226"/>
          <p:cNvSpPr/>
          <p:nvPr/>
        </p:nvSpPr>
        <p:spPr>
          <a:xfrm>
            <a:off x="2090880" y="3537000"/>
            <a:ext cx="144360" cy="142920"/>
          </a:xfrm>
          <a:prstGeom prst="ellipse">
            <a:avLst/>
          </a:prstGeom>
          <a:noFill/>
          <a:ln w="25560">
            <a:solidFill>
              <a:srgbClr val="c7c7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44" name="Ellipse 229"/>
          <p:cNvSpPr/>
          <p:nvPr/>
        </p:nvSpPr>
        <p:spPr>
          <a:xfrm>
            <a:off x="6267600" y="2744640"/>
            <a:ext cx="144360" cy="142920"/>
          </a:xfrm>
          <a:prstGeom prst="ellipse">
            <a:avLst/>
          </a:prstGeom>
          <a:noFill/>
          <a:ln w="25560">
            <a:solidFill>
              <a:srgbClr val="c7c7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45" name="Ellipse 230"/>
          <p:cNvSpPr/>
          <p:nvPr/>
        </p:nvSpPr>
        <p:spPr>
          <a:xfrm>
            <a:off x="5979960" y="2744640"/>
            <a:ext cx="142920" cy="142920"/>
          </a:xfrm>
          <a:prstGeom prst="ellipse">
            <a:avLst/>
          </a:prstGeom>
          <a:noFill/>
          <a:ln w="25560">
            <a:solidFill>
              <a:srgbClr val="c7c7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cxnSp>
        <p:nvCxnSpPr>
          <p:cNvPr id="346" name="Connecteur droit avec flèche 222"/>
          <p:cNvCxnSpPr/>
          <p:nvPr/>
        </p:nvCxnSpPr>
        <p:spPr>
          <a:xfrm flipH="1">
            <a:off x="6049080" y="2677680"/>
            <a:ext cx="143640" cy="14472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triangle" w="med"/>
          </a:ln>
        </p:spPr>
      </p:cxnSp>
      <p:sp>
        <p:nvSpPr>
          <p:cNvPr id="347" name="Ellipse 231"/>
          <p:cNvSpPr/>
          <p:nvPr/>
        </p:nvSpPr>
        <p:spPr>
          <a:xfrm>
            <a:off x="6269040" y="5626080"/>
            <a:ext cx="144360" cy="144360"/>
          </a:xfrm>
          <a:prstGeom prst="ellipse">
            <a:avLst/>
          </a:prstGeom>
          <a:noFill/>
          <a:ln w="25560">
            <a:solidFill>
              <a:srgbClr val="c7c7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48" name="Ellipse 232"/>
          <p:cNvSpPr/>
          <p:nvPr/>
        </p:nvSpPr>
        <p:spPr>
          <a:xfrm>
            <a:off x="6051600" y="5264280"/>
            <a:ext cx="144360" cy="144360"/>
          </a:xfrm>
          <a:prstGeom prst="ellipse">
            <a:avLst/>
          </a:prstGeom>
          <a:noFill/>
          <a:ln w="25560">
            <a:solidFill>
              <a:srgbClr val="c7c7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cxnSp>
        <p:nvCxnSpPr>
          <p:cNvPr id="349" name="Connecteur droit avec flèche 223"/>
          <p:cNvCxnSpPr/>
          <p:nvPr/>
        </p:nvCxnSpPr>
        <p:spPr>
          <a:xfrm flipV="1">
            <a:off x="6054840" y="5333400"/>
            <a:ext cx="72000" cy="738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50" name="Flèche vers le bas 166"/>
          <p:cNvSpPr/>
          <p:nvPr/>
        </p:nvSpPr>
        <p:spPr>
          <a:xfrm rot="14400000">
            <a:off x="3989520" y="2341800"/>
            <a:ext cx="870120" cy="652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51" name="ZoneTexte 169"/>
          <p:cNvSpPr/>
          <p:nvPr/>
        </p:nvSpPr>
        <p:spPr>
          <a:xfrm>
            <a:off x="4077720" y="249228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50%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52" name="Connecteur droit 203"/>
          <p:cNvSpPr/>
          <p:nvPr/>
        </p:nvSpPr>
        <p:spPr>
          <a:xfrm>
            <a:off x="6041880" y="347040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53" name="Connecteur droit 204"/>
          <p:cNvSpPr/>
          <p:nvPr/>
        </p:nvSpPr>
        <p:spPr>
          <a:xfrm>
            <a:off x="6332400" y="347040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54" name="ZoneTexte 205"/>
          <p:cNvSpPr/>
          <p:nvPr/>
        </p:nvSpPr>
        <p:spPr>
          <a:xfrm>
            <a:off x="5971320" y="3478320"/>
            <a:ext cx="471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Helvetica 45 Light"/>
              </a:rPr>
              <a:t>1 bit</a:t>
            </a:r>
            <a:endParaRPr b="0" lang="en-US" sz="11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55" name="Flèche vers le bas 206"/>
          <p:cNvSpPr/>
          <p:nvPr/>
        </p:nvSpPr>
        <p:spPr>
          <a:xfrm rot="18000000">
            <a:off x="3993120" y="4135680"/>
            <a:ext cx="870120" cy="652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56" name="ZoneTexte 207"/>
          <p:cNvSpPr/>
          <p:nvPr/>
        </p:nvSpPr>
        <p:spPr>
          <a:xfrm>
            <a:off x="4088880" y="422604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50%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57" name="ZoneTexte 167"/>
          <p:cNvSpPr/>
          <p:nvPr/>
        </p:nvSpPr>
        <p:spPr>
          <a:xfrm>
            <a:off x="5470920" y="412128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58" name="ZoneTexte 169"/>
          <p:cNvSpPr/>
          <p:nvPr/>
        </p:nvSpPr>
        <p:spPr>
          <a:xfrm>
            <a:off x="5904360" y="549432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59" name="ZoneTexte 202"/>
          <p:cNvSpPr/>
          <p:nvPr/>
        </p:nvSpPr>
        <p:spPr>
          <a:xfrm>
            <a:off x="6044040" y="455148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60" name="ZoneTexte 205"/>
          <p:cNvSpPr/>
          <p:nvPr/>
        </p:nvSpPr>
        <p:spPr>
          <a:xfrm>
            <a:off x="6331320" y="433548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61" name="ZoneTexte 207"/>
          <p:cNvSpPr/>
          <p:nvPr/>
        </p:nvSpPr>
        <p:spPr>
          <a:xfrm>
            <a:off x="5758200" y="484488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62" name="ZoneTexte 208"/>
          <p:cNvSpPr/>
          <p:nvPr/>
        </p:nvSpPr>
        <p:spPr>
          <a:xfrm>
            <a:off x="6693120" y="50562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63" name="ZoneTexte 213"/>
          <p:cNvSpPr/>
          <p:nvPr/>
        </p:nvSpPr>
        <p:spPr>
          <a:xfrm>
            <a:off x="6910920" y="556092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64" name="ZoneTexte 219"/>
          <p:cNvSpPr/>
          <p:nvPr/>
        </p:nvSpPr>
        <p:spPr>
          <a:xfrm>
            <a:off x="6621840" y="577224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65" name="Espace réservé du pied de page 175"/>
          <p:cNvSpPr/>
          <p:nvPr/>
        </p:nvSpPr>
        <p:spPr>
          <a:xfrm>
            <a:off x="3840120" y="6407280"/>
            <a:ext cx="29005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Helvetica 55 Roman"/>
              </a:rPr>
              <a:t>JCTVC-H0224</a:t>
            </a: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10880" y="3571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Helvetica 65 Medium"/>
              </a:rPr>
              <a:t>Performance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9280" y="828720"/>
            <a:ext cx="8604360" cy="42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marL="156600"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56600"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56600"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56600"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56600"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56600"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56600" indent="0"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56600"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56600"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56600" indent="-156600">
              <a:spcAft>
                <a:spcPts val="1125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6600"/>
                </a:solidFill>
                <a:latin typeface="Helvetica 45 Light"/>
              </a:rPr>
              <a:t>Remarks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22080" indent="-231120">
              <a:spcAft>
                <a:spcPts val="499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Helvetica 45 Light"/>
              </a:rPr>
              <a:t>Homogenous gains across configs, luma/chroma, and QPs</a:t>
            </a: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22080" indent="-231120">
              <a:spcAft>
                <a:spcPts val="499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Helvetica 45 Light"/>
              </a:rPr>
              <a:t>Higher gains without Class E, higher gain at High QPs (partial results)</a:t>
            </a: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22080" indent="-231120">
              <a:spcAft>
                <a:spcPts val="499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Helvetica 45 Light"/>
              </a:rPr>
              <a:t>All sequences were examined (and compared with reference ones) and no specific artefacts due to the use of Sign Data Hiding could be detected </a:t>
            </a: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lvl="2" marL="961560" indent="0"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22080"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22080"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22080"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marL="15660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22080"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lvl="2" marL="961560" indent="0"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lvl="2" marL="961560" indent="0"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22080"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22080"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22080"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835280" y="1341360"/>
          <a:ext cx="4537080" cy="2316240"/>
        </p:xfrm>
        <a:graphic>
          <a:graphicData uri="http://schemas.openxmlformats.org/drawingml/2006/table">
            <a:tbl>
              <a:tblPr/>
              <a:tblGrid>
                <a:gridCol w="1079280"/>
                <a:gridCol w="865440"/>
                <a:gridCol w="863280"/>
                <a:gridCol w="863640"/>
                <a:gridCol w="8654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a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Helvetica 45 Light"/>
                        </a:rPr>
                        <a:t>AVE-R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a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Helvetica 45 Light"/>
                        </a:rPr>
                        <a:t>In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a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Helvetica 45 Light"/>
                        </a:rPr>
                        <a:t>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a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Helvetica 45 Light"/>
                        </a:rPr>
                        <a:t>LD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aaaa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Helvetica 45 Light"/>
                        </a:rPr>
                        <a:t>BD Rat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Helvetica 45 Light"/>
                        </a:rPr>
                        <a:t>(no F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Helvetica 45 Light"/>
                        </a:rPr>
                        <a:t>-0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Helvetica 45 Light"/>
                        </a:rPr>
                        <a:t>-0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Helvetica 45 Light"/>
                        </a:rPr>
                        <a:t>-0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Helvetica 45 Light"/>
                        </a:rPr>
                        <a:t>-0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2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Helvetica 45 Light"/>
                        </a:rPr>
                        <a:t>Encoder run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Helvetica 45 Light"/>
                        </a:rPr>
                        <a:t>10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Helvetica 45 Light"/>
                        </a:rPr>
                        <a:t>10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Helvetica 45 Light"/>
                        </a:rPr>
                        <a:t>10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Helvetica 45 Light"/>
                        </a:rPr>
                        <a:t>10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Helvetica 45 Light"/>
                        </a:rPr>
                        <a:t>Decoding run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Helvetica 45 Light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Helvetica 45 Light"/>
                        </a:rPr>
                        <a:t>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Helvetica 45 Light"/>
                        </a:rPr>
                        <a:t>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Helvetica 45 Light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2"/>
                    </a:solidFill>
                  </a:tcPr>
                </a:tc>
              </a:tr>
            </a:tbl>
          </a:graphicData>
        </a:graphic>
      </p:graphicFrame>
      <p:sp>
        <p:nvSpPr>
          <p:cNvPr id="93" name="Espace réservé du pied de page 175"/>
          <p:cNvSpPr/>
          <p:nvPr/>
        </p:nvSpPr>
        <p:spPr>
          <a:xfrm>
            <a:off x="3840120" y="6407280"/>
            <a:ext cx="29005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Helvetica 55 Roman"/>
              </a:rPr>
              <a:t>JCTVC-H0224</a:t>
            </a: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Helvetica 65 Medium"/>
              </a:rPr>
              <a:t>Detail results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95" name="Espace réservé du pied de page 3"/>
          <p:cNvSpPr/>
          <p:nvPr/>
        </p:nvSpPr>
        <p:spPr>
          <a:xfrm>
            <a:off x="3840120" y="6407280"/>
            <a:ext cx="29005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Helvetica 55 Roman"/>
              </a:rPr>
              <a:t>JCTVC-E196</a:t>
            </a: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116000" y="1341360"/>
          <a:ext cx="3960720" cy="5256360"/>
        </p:xfrm>
        <a:graphic>
          <a:graphicData uri="http://schemas.openxmlformats.org/drawingml/2006/table">
            <a:tbl>
              <a:tblPr/>
              <a:tblGrid>
                <a:gridCol w="671400"/>
                <a:gridCol w="547920"/>
                <a:gridCol w="549000"/>
                <a:gridCol w="546120"/>
                <a:gridCol w="549360"/>
                <a:gridCol w="547920"/>
                <a:gridCol w="549000"/>
              </a:tblGrid>
              <a:tr h="133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H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HE-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2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 (8bi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5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,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,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5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6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7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6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5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6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9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8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5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7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9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9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2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9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7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6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8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8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42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,6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,8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,8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9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,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9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2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2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H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HE-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2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 (8bi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4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6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9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4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4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5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5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5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5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4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4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5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5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4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4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3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5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7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2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5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5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4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4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4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42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,5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,5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,4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,4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,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,4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7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7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7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2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2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H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HE-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2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4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7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4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3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7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7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4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5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7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,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5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2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,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,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4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6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8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4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2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,6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,8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,4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7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5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8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2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7" name="ZoneTexte 7"/>
          <p:cNvSpPr/>
          <p:nvPr/>
        </p:nvSpPr>
        <p:spPr>
          <a:xfrm>
            <a:off x="1953000" y="836640"/>
            <a:ext cx="24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Base configuration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98" name="ZoneTexte 8"/>
          <p:cNvSpPr/>
          <p:nvPr/>
        </p:nvSpPr>
        <p:spPr>
          <a:xfrm>
            <a:off x="5157000" y="836640"/>
            <a:ext cx="207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Low QP (partial)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pic>
        <p:nvPicPr>
          <p:cNvPr id="99" name="Picture 429" descr=""/>
          <p:cNvPicPr/>
          <p:nvPr/>
        </p:nvPicPr>
        <p:blipFill>
          <a:blip r:embed="rId1"/>
          <a:stretch/>
        </p:blipFill>
        <p:spPr>
          <a:xfrm>
            <a:off x="5292720" y="1341360"/>
            <a:ext cx="2519280" cy="52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Helvetica 65 Medium"/>
              </a:rPr>
              <a:t>Conclusion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11240" y="1125360"/>
            <a:ext cx="709776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marL="110160" indent="-11016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Exploits a new source of rate reduction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437760" indent="-16272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Transmission of equiprobable signs into an existing « channel »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437760" indent="-16272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Additive to most other sources of improvement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10160" indent="-11016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Gains are homogenous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10160" indent="-11016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Almost no increase in decoder runtime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10160" indent="-11016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Small increase in encoder runtime 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437760" indent="-16272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Proposed encoder is just one straightforward implementation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437760" indent="-16272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Certainly possible to improve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10160" indent="-11016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Proposed for adoption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437760" indent="-162720">
              <a:spcAft>
                <a:spcPts val="1125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WD text is provided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437760" indent="-162720">
              <a:spcAft>
                <a:spcPts val="1125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Crosscheck by RIM (JCTVC-H0480)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437760" indent="-162720">
              <a:spcAft>
                <a:spcPts val="1125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Crosscheck by Samsung (JCTVC-H0651)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10160" indent="-11016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Non-RDOQ implementation of the encoder in JCTVC-H0227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437760" indent="-16272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10160" indent="-11016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10160" indent="-11016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10160" indent="-11016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10160" indent="-11016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10160" indent="-11016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10160" indent="-11016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10160" indent="-110160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02" name="Espace réservé du pied de page 175"/>
          <p:cNvSpPr/>
          <p:nvPr/>
        </p:nvSpPr>
        <p:spPr>
          <a:xfrm>
            <a:off x="3840120" y="6407280"/>
            <a:ext cx="29005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Helvetica 55 Roman"/>
              </a:rPr>
              <a:t>JCTVC-H0224</a:t>
            </a: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11240" y="2286000"/>
            <a:ext cx="7989840" cy="166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6600"/>
                </a:solidFill>
                <a:latin typeface="Helvetica 35 Thin"/>
              </a:rPr>
              <a:t>Support slides</a:t>
            </a:r>
            <a:endParaRPr b="0" lang="en-US" sz="4800" spc="-1" strike="noStrike">
              <a:solidFill>
                <a:srgbClr val="ff6600"/>
              </a:solidFill>
              <a:latin typeface="Helvetica 65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Helvetica 65 Medium"/>
              </a:rPr>
              <a:t>Data Hiding for compression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1163520" y="1182600"/>
            <a:ext cx="7097760" cy="40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What do we call Data Hiding for compression?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1250"/>
              </a:spcAft>
              <a:buClr>
                <a:srgbClr val="ff66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Avoid explicit transmission of a given syntax element 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2" marL="1108080" indent="-193680">
              <a:lnSpc>
                <a:spcPct val="100000"/>
              </a:lnSpc>
              <a:spcAft>
                <a:spcPts val="1250"/>
              </a:spcAft>
              <a:buClr>
                <a:srgbClr val="ff66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(typically, a binary element)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1250"/>
              </a:spcAft>
              <a:buClr>
                <a:srgbClr val="ff66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At decoding, derive its value from other elements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2" marL="1108080" indent="-193680">
              <a:lnSpc>
                <a:spcPct val="100000"/>
              </a:lnSpc>
              <a:spcAft>
                <a:spcPts val="1250"/>
              </a:spcAft>
              <a:buClr>
                <a:srgbClr val="ff66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(typically, their parity)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624"/>
              </a:spcAft>
              <a:buClr>
                <a:srgbClr val="ff66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Helvetica 45 Light"/>
              </a:rPr>
              <a:t>[1] JCTVC-A114, “Video coding technology proposal by France Telecom, NTT, NTT DoCoMo, Panasonic and Technicolor”, I. Amonou et AL, 1st JCTVC meeting, Dresden, April 2010</a:t>
            </a: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Helvetica 45 Light"/>
              </a:rPr>
              <a:t>[2] J-M. Thiesse, J. Jung, and M. Antonini, “Data hiding of Intra prediction information in chroma samples for video compression,” Proc. IEEE International Conference on Image Processing, ICIP 2010, pp. 2861-2864, Hong Kong, September 2010.</a:t>
            </a: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Helvetica 45 Light"/>
              </a:rPr>
              <a:t>[3] JCTVC-E428, “Low Complexity Embedding of Information in Transform Coefficients”, R. Cohen, S. Rane, A. Vetro, H. Sun, 5th JCTVC meeting, Geneva, March 2011 </a:t>
            </a: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06" name="Espace réservé du pied de page 175"/>
          <p:cNvSpPr/>
          <p:nvPr/>
        </p:nvSpPr>
        <p:spPr>
          <a:xfrm>
            <a:off x="3840120" y="6407280"/>
            <a:ext cx="29005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Helvetica 55 Roman"/>
              </a:rPr>
              <a:t>JCTVC-H0224</a:t>
            </a: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Helvetica 65 Medium"/>
              </a:rPr>
              <a:t>What is the purpose of Data Hiding here? 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11240" y="1052640"/>
            <a:ext cx="70977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Sometimes, we are spending bits to distinguish between coding choices, while their RD cost is similar!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This situation creates a « communication channel »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Data Hiding attempts to use this channel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cxnSp>
        <p:nvCxnSpPr>
          <p:cNvPr id="109" name="Connecteur droit avec flèche 5"/>
          <p:cNvCxnSpPr/>
          <p:nvPr/>
        </p:nvCxnSpPr>
        <p:spPr>
          <a:xfrm flipV="1">
            <a:off x="2991960" y="2565000"/>
            <a:ext cx="1080" cy="252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0" name="Connecteur droit avec flèche 7"/>
          <p:cNvCxnSpPr/>
          <p:nvPr/>
        </p:nvCxnSpPr>
        <p:spPr>
          <a:xfrm>
            <a:off x="2992320" y="5084280"/>
            <a:ext cx="2664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1" name="Connecteur droit 9"/>
          <p:cNvSpPr/>
          <p:nvPr/>
        </p:nvSpPr>
        <p:spPr>
          <a:xfrm>
            <a:off x="3279600" y="3500280"/>
            <a:ext cx="144000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12" name="Ellipse 15"/>
          <p:cNvSpPr/>
          <p:nvPr/>
        </p:nvSpPr>
        <p:spPr>
          <a:xfrm>
            <a:off x="4143240" y="4365720"/>
            <a:ext cx="73080" cy="7128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13" name="Ellipse 16"/>
          <p:cNvSpPr/>
          <p:nvPr/>
        </p:nvSpPr>
        <p:spPr>
          <a:xfrm>
            <a:off x="4000680" y="3716280"/>
            <a:ext cx="71280" cy="7308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14" name="Ellipse 17"/>
          <p:cNvSpPr/>
          <p:nvPr/>
        </p:nvSpPr>
        <p:spPr>
          <a:xfrm>
            <a:off x="4935600" y="3645000"/>
            <a:ext cx="73080" cy="7128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15" name="Ellipse 18"/>
          <p:cNvSpPr/>
          <p:nvPr/>
        </p:nvSpPr>
        <p:spPr>
          <a:xfrm>
            <a:off x="4216320" y="4005360"/>
            <a:ext cx="71640" cy="7128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16" name="Ellipse 19"/>
          <p:cNvSpPr/>
          <p:nvPr/>
        </p:nvSpPr>
        <p:spPr>
          <a:xfrm>
            <a:off x="4432320" y="4581360"/>
            <a:ext cx="71280" cy="7164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17" name="Ellipse 20"/>
          <p:cNvSpPr/>
          <p:nvPr/>
        </p:nvSpPr>
        <p:spPr>
          <a:xfrm>
            <a:off x="4863960" y="4653000"/>
            <a:ext cx="71640" cy="7128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18" name="Ellipse 21"/>
          <p:cNvSpPr/>
          <p:nvPr/>
        </p:nvSpPr>
        <p:spPr>
          <a:xfrm>
            <a:off x="4287960" y="3429000"/>
            <a:ext cx="71280" cy="7128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19" name="Ellipse 22"/>
          <p:cNvSpPr/>
          <p:nvPr/>
        </p:nvSpPr>
        <p:spPr>
          <a:xfrm>
            <a:off x="5151600" y="4437000"/>
            <a:ext cx="72720" cy="7164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20" name="Ellipse 23"/>
          <p:cNvSpPr/>
          <p:nvPr/>
        </p:nvSpPr>
        <p:spPr>
          <a:xfrm>
            <a:off x="4575240" y="3213000"/>
            <a:ext cx="73080" cy="7164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21" name="Ellipse 24"/>
          <p:cNvSpPr/>
          <p:nvPr/>
        </p:nvSpPr>
        <p:spPr>
          <a:xfrm>
            <a:off x="4648320" y="3429000"/>
            <a:ext cx="71280" cy="7128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22" name="Ellipse 25"/>
          <p:cNvSpPr/>
          <p:nvPr/>
        </p:nvSpPr>
        <p:spPr>
          <a:xfrm>
            <a:off x="4575240" y="3860640"/>
            <a:ext cx="73080" cy="7308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23" name="Ellipse 26"/>
          <p:cNvSpPr/>
          <p:nvPr/>
        </p:nvSpPr>
        <p:spPr>
          <a:xfrm>
            <a:off x="5295960" y="4724280"/>
            <a:ext cx="71280" cy="7308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24" name="Ellipse 27"/>
          <p:cNvSpPr/>
          <p:nvPr/>
        </p:nvSpPr>
        <p:spPr>
          <a:xfrm>
            <a:off x="5224320" y="4005360"/>
            <a:ext cx="71640" cy="7128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25" name="Ellipse 28"/>
          <p:cNvSpPr/>
          <p:nvPr/>
        </p:nvSpPr>
        <p:spPr>
          <a:xfrm>
            <a:off x="4935600" y="3933720"/>
            <a:ext cx="73080" cy="7164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26" name="Ellipse 29"/>
          <p:cNvSpPr/>
          <p:nvPr/>
        </p:nvSpPr>
        <p:spPr>
          <a:xfrm>
            <a:off x="3927600" y="3933720"/>
            <a:ext cx="73080" cy="7164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27" name="Ellipse 30"/>
          <p:cNvSpPr/>
          <p:nvPr/>
        </p:nvSpPr>
        <p:spPr>
          <a:xfrm>
            <a:off x="3711600" y="2997360"/>
            <a:ext cx="71280" cy="7128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28" name="Ellipse 31"/>
          <p:cNvSpPr/>
          <p:nvPr/>
        </p:nvSpPr>
        <p:spPr>
          <a:xfrm>
            <a:off x="3782880" y="3357720"/>
            <a:ext cx="73080" cy="7128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29" name="Ellipse 32"/>
          <p:cNvSpPr/>
          <p:nvPr/>
        </p:nvSpPr>
        <p:spPr>
          <a:xfrm>
            <a:off x="4575240" y="4292640"/>
            <a:ext cx="73080" cy="73080"/>
          </a:xfrm>
          <a:prstGeom prst="ellipse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30" name="ZoneTexte 56"/>
          <p:cNvSpPr/>
          <p:nvPr/>
        </p:nvSpPr>
        <p:spPr>
          <a:xfrm>
            <a:off x="5376240" y="515772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31" name="ZoneTexte 57"/>
          <p:cNvSpPr/>
          <p:nvPr/>
        </p:nvSpPr>
        <p:spPr>
          <a:xfrm>
            <a:off x="2556720" y="2492280"/>
            <a:ext cx="36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32" name="ZoneTexte 58"/>
          <p:cNvSpPr/>
          <p:nvPr/>
        </p:nvSpPr>
        <p:spPr>
          <a:xfrm>
            <a:off x="3072600" y="3460680"/>
            <a:ext cx="4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-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33" name="ZoneTexte 110"/>
          <p:cNvSpPr/>
          <p:nvPr/>
        </p:nvSpPr>
        <p:spPr>
          <a:xfrm>
            <a:off x="8037000" y="641340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cxnSp>
        <p:nvCxnSpPr>
          <p:cNvPr id="134" name="Connecteur droit avec flèche 117"/>
          <p:cNvCxnSpPr/>
          <p:nvPr/>
        </p:nvCxnSpPr>
        <p:spPr>
          <a:xfrm flipV="1">
            <a:off x="3473280" y="4487400"/>
            <a:ext cx="648360" cy="12247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135" name="Connecteur droit avec flèche 118"/>
          <p:cNvCxnSpPr/>
          <p:nvPr/>
        </p:nvCxnSpPr>
        <p:spPr>
          <a:xfrm flipV="1">
            <a:off x="3459240" y="4719240"/>
            <a:ext cx="937440" cy="10087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136" name="ZoneTexte 121"/>
          <p:cNvSpPr/>
          <p:nvPr/>
        </p:nvSpPr>
        <p:spPr>
          <a:xfrm>
            <a:off x="2670120" y="5629320"/>
            <a:ext cx="157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This is bad! 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37" name="Espace réservé du pied de page 175"/>
          <p:cNvSpPr/>
          <p:nvPr/>
        </p:nvSpPr>
        <p:spPr>
          <a:xfrm>
            <a:off x="3840120" y="6407280"/>
            <a:ext cx="29005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Helvetica 55 Roman"/>
              </a:rPr>
              <a:t>JCTVC-H0224</a:t>
            </a: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Helvetica 65 Medium"/>
              </a:rPr>
              <a:t>Proposal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1163520" y="1314360"/>
            <a:ext cx="7097760" cy="40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Modification of the residual block encoding and decoding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Can be summarized by: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If there is enough “space”, hide the sign of the first non-zero coefficient into the parity of the sum of the residue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Convention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001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50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3132000" y="4581360"/>
          <a:ext cx="3095640" cy="1114560"/>
        </p:xfrm>
        <a:graphic>
          <a:graphicData uri="http://schemas.openxmlformats.org/drawingml/2006/table">
            <a:tbl>
              <a:tblPr/>
              <a:tblGrid>
                <a:gridCol w="1548000"/>
                <a:gridCol w="15476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Helvetica 45 Light"/>
                        </a:rPr>
                        <a:t>Pa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Helvetica 45 Light"/>
                        </a:rPr>
                        <a:t>Sig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Helvetica 45 Light"/>
                        </a:rPr>
                        <a:t>Ev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Helvetica 45 Light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Helvetica 45 Light"/>
                        </a:rPr>
                        <a:t>O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Helvetica 45 Light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141" name="Espace réservé du pied de page 175"/>
          <p:cNvSpPr/>
          <p:nvPr/>
        </p:nvSpPr>
        <p:spPr>
          <a:xfrm>
            <a:off x="3840120" y="6407280"/>
            <a:ext cx="29005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Helvetica 55 Roman"/>
              </a:rPr>
              <a:t>JCTVC-H0224</a:t>
            </a: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10880" y="33336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Helvetica 65 Medium"/>
              </a:rPr>
              <a:t>Encoder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1163520" y="887400"/>
            <a:ext cx="7097760" cy="40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93680" indent="-193680">
              <a:spcAft>
                <a:spcPts val="1125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125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125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125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Checks whether the number of modifiable coefficients is larger than syntax element TSIG 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1125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If no, normal encoding of the signs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1125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If yes, 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2" marL="1108080" indent="-193680">
              <a:lnSpc>
                <a:spcPct val="100000"/>
              </a:lnSpc>
              <a:spcAft>
                <a:spcPts val="1125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first sign is not encoded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2" marL="1108080" indent="-193680">
              <a:lnSpc>
                <a:spcPct val="100000"/>
              </a:lnSpc>
              <a:spcAft>
                <a:spcPts val="1125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if the parity of the sum of the coefficients does not match the sign, modify amplitude to get a match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1125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437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437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437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437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44" name="Rectangle 49"/>
          <p:cNvSpPr/>
          <p:nvPr/>
        </p:nvSpPr>
        <p:spPr>
          <a:xfrm>
            <a:off x="1979640" y="1484280"/>
            <a:ext cx="504720" cy="360360"/>
          </a:xfrm>
          <a:prstGeom prst="rect">
            <a:avLst/>
          </a:prstGeom>
          <a:gradFill rotWithShape="0">
            <a:gsLst>
              <a:gs pos="0">
                <a:srgbClr val="f3f3f3"/>
              </a:gs>
              <a:gs pos="100000">
                <a:srgbClr val="fcfcfc"/>
              </a:gs>
            </a:gsLst>
            <a:lin ang="16200000"/>
          </a:gradFill>
          <a:ln w="9360">
            <a:solidFill>
              <a:srgbClr val="e2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45" name="Rectangle 50"/>
          <p:cNvSpPr/>
          <p:nvPr/>
        </p:nvSpPr>
        <p:spPr>
          <a:xfrm>
            <a:off x="2484360" y="1484280"/>
            <a:ext cx="503280" cy="360360"/>
          </a:xfrm>
          <a:prstGeom prst="rect">
            <a:avLst/>
          </a:prstGeom>
          <a:gradFill rotWithShape="0">
            <a:gsLst>
              <a:gs pos="0">
                <a:srgbClr val="f3f3f3"/>
              </a:gs>
              <a:gs pos="100000">
                <a:srgbClr val="fcfcfc"/>
              </a:gs>
            </a:gsLst>
            <a:lin ang="16200000"/>
          </a:gradFill>
          <a:ln w="9360">
            <a:solidFill>
              <a:srgbClr val="e2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+3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46" name="Rectangle 51"/>
          <p:cNvSpPr/>
          <p:nvPr/>
        </p:nvSpPr>
        <p:spPr>
          <a:xfrm>
            <a:off x="2987640" y="1484280"/>
            <a:ext cx="504720" cy="360360"/>
          </a:xfrm>
          <a:prstGeom prst="rect">
            <a:avLst/>
          </a:prstGeom>
          <a:gradFill rotWithShape="0">
            <a:gsLst>
              <a:gs pos="0">
                <a:srgbClr val="f3f3f3"/>
              </a:gs>
              <a:gs pos="100000">
                <a:srgbClr val="fcfcfc"/>
              </a:gs>
            </a:gsLst>
            <a:lin ang="16200000"/>
          </a:gradFill>
          <a:ln w="9360">
            <a:solidFill>
              <a:srgbClr val="e2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47" name="Rectangle 52"/>
          <p:cNvSpPr/>
          <p:nvPr/>
        </p:nvSpPr>
        <p:spPr>
          <a:xfrm>
            <a:off x="3492360" y="1484280"/>
            <a:ext cx="503280" cy="360360"/>
          </a:xfrm>
          <a:prstGeom prst="rect">
            <a:avLst/>
          </a:prstGeom>
          <a:gradFill rotWithShape="0">
            <a:gsLst>
              <a:gs pos="0">
                <a:srgbClr val="f3f3f3"/>
              </a:gs>
              <a:gs pos="100000">
                <a:srgbClr val="fcfcfc"/>
              </a:gs>
            </a:gsLst>
            <a:lin ang="16200000"/>
          </a:gradFill>
          <a:ln w="9360">
            <a:solidFill>
              <a:srgbClr val="e2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+2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48" name="Rectangle 53"/>
          <p:cNvSpPr/>
          <p:nvPr/>
        </p:nvSpPr>
        <p:spPr>
          <a:xfrm>
            <a:off x="3995640" y="1484280"/>
            <a:ext cx="505080" cy="360360"/>
          </a:xfrm>
          <a:prstGeom prst="rect">
            <a:avLst/>
          </a:prstGeom>
          <a:gradFill rotWithShape="0">
            <a:gsLst>
              <a:gs pos="0">
                <a:srgbClr val="f3f3f3"/>
              </a:gs>
              <a:gs pos="100000">
                <a:srgbClr val="fcfcfc"/>
              </a:gs>
            </a:gsLst>
            <a:lin ang="16200000"/>
          </a:gradFill>
          <a:ln w="9360">
            <a:solidFill>
              <a:srgbClr val="e2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49" name="Rectangle 54"/>
          <p:cNvSpPr/>
          <p:nvPr/>
        </p:nvSpPr>
        <p:spPr>
          <a:xfrm>
            <a:off x="4500720" y="1484280"/>
            <a:ext cx="502920" cy="360360"/>
          </a:xfrm>
          <a:prstGeom prst="rect">
            <a:avLst/>
          </a:prstGeom>
          <a:gradFill rotWithShape="0">
            <a:gsLst>
              <a:gs pos="0">
                <a:srgbClr val="f3f3f3"/>
              </a:gs>
              <a:gs pos="100000">
                <a:srgbClr val="fcfcfc"/>
              </a:gs>
            </a:gsLst>
            <a:lin ang="16200000"/>
          </a:gradFill>
          <a:ln w="9360">
            <a:solidFill>
              <a:srgbClr val="e2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50" name="Rectangle 55"/>
          <p:cNvSpPr/>
          <p:nvPr/>
        </p:nvSpPr>
        <p:spPr>
          <a:xfrm>
            <a:off x="5003640" y="1484280"/>
            <a:ext cx="505080" cy="360360"/>
          </a:xfrm>
          <a:prstGeom prst="rect">
            <a:avLst/>
          </a:prstGeom>
          <a:gradFill rotWithShape="0">
            <a:gsLst>
              <a:gs pos="0">
                <a:srgbClr val="f3f3f3"/>
              </a:gs>
              <a:gs pos="100000">
                <a:srgbClr val="fcfcfc"/>
              </a:gs>
            </a:gsLst>
            <a:lin ang="16200000"/>
          </a:gradFill>
          <a:ln w="9360">
            <a:solidFill>
              <a:srgbClr val="e2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+1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51" name="Rectangle 56"/>
          <p:cNvSpPr/>
          <p:nvPr/>
        </p:nvSpPr>
        <p:spPr>
          <a:xfrm>
            <a:off x="5508720" y="1484280"/>
            <a:ext cx="503280" cy="360360"/>
          </a:xfrm>
          <a:prstGeom prst="rect">
            <a:avLst/>
          </a:prstGeom>
          <a:gradFill rotWithShape="0">
            <a:gsLst>
              <a:gs pos="0">
                <a:srgbClr val="f3f3f3"/>
              </a:gs>
              <a:gs pos="100000">
                <a:srgbClr val="fcfcfc"/>
              </a:gs>
            </a:gsLst>
            <a:lin ang="16200000"/>
          </a:gradFill>
          <a:ln w="9360">
            <a:solidFill>
              <a:srgbClr val="e2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52" name="Rectangle 57"/>
          <p:cNvSpPr/>
          <p:nvPr/>
        </p:nvSpPr>
        <p:spPr>
          <a:xfrm>
            <a:off x="8244000" y="1484280"/>
            <a:ext cx="504720" cy="360360"/>
          </a:xfrm>
          <a:prstGeom prst="rect">
            <a:avLst/>
          </a:prstGeom>
          <a:gradFill rotWithShape="0">
            <a:gsLst>
              <a:gs pos="0">
                <a:srgbClr val="f3f3f3"/>
              </a:gs>
              <a:gs pos="100000">
                <a:srgbClr val="fcfcfc"/>
              </a:gs>
            </a:gsLst>
            <a:lin ang="16200000"/>
          </a:gradFill>
          <a:ln w="9360">
            <a:solidFill>
              <a:srgbClr val="e2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53" name="Rectangle 58"/>
          <p:cNvSpPr/>
          <p:nvPr/>
        </p:nvSpPr>
        <p:spPr>
          <a:xfrm>
            <a:off x="6012000" y="1484280"/>
            <a:ext cx="504720" cy="360360"/>
          </a:xfrm>
          <a:prstGeom prst="rect">
            <a:avLst/>
          </a:prstGeom>
          <a:gradFill rotWithShape="0">
            <a:gsLst>
              <a:gs pos="0">
                <a:srgbClr val="f3f3f3"/>
              </a:gs>
              <a:gs pos="100000">
                <a:srgbClr val="fcfcfc"/>
              </a:gs>
            </a:gsLst>
            <a:lin ang="16200000"/>
          </a:gradFill>
          <a:ln w="9360">
            <a:solidFill>
              <a:srgbClr val="e2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+1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54" name="Rectangle 59"/>
          <p:cNvSpPr/>
          <p:nvPr/>
        </p:nvSpPr>
        <p:spPr>
          <a:xfrm>
            <a:off x="6516720" y="1484280"/>
            <a:ext cx="503280" cy="360360"/>
          </a:xfrm>
          <a:prstGeom prst="rect">
            <a:avLst/>
          </a:prstGeom>
          <a:gradFill rotWithShape="0">
            <a:gsLst>
              <a:gs pos="0">
                <a:srgbClr val="f3f3f3"/>
              </a:gs>
              <a:gs pos="100000">
                <a:srgbClr val="fcfcfc"/>
              </a:gs>
            </a:gsLst>
            <a:lin ang="16200000"/>
          </a:gradFill>
          <a:ln w="9360">
            <a:solidFill>
              <a:srgbClr val="e2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55" name="Rectangle 60"/>
          <p:cNvSpPr/>
          <p:nvPr/>
        </p:nvSpPr>
        <p:spPr>
          <a:xfrm>
            <a:off x="7020000" y="1484280"/>
            <a:ext cx="504720" cy="360360"/>
          </a:xfrm>
          <a:prstGeom prst="rect">
            <a:avLst/>
          </a:prstGeom>
          <a:gradFill rotWithShape="0">
            <a:gsLst>
              <a:gs pos="0">
                <a:srgbClr val="f3f3f3"/>
              </a:gs>
              <a:gs pos="100000">
                <a:srgbClr val="fcfcfc"/>
              </a:gs>
            </a:gsLst>
            <a:lin ang="16200000"/>
          </a:gradFill>
          <a:ln w="9360">
            <a:solidFill>
              <a:srgbClr val="e2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56" name="Rectangle 61"/>
          <p:cNvSpPr/>
          <p:nvPr/>
        </p:nvSpPr>
        <p:spPr>
          <a:xfrm>
            <a:off x="1979640" y="1484280"/>
            <a:ext cx="6769080" cy="360360"/>
          </a:xfrm>
          <a:prstGeom prst="rect">
            <a:avLst/>
          </a:prstGeom>
          <a:noFill/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57" name="ZoneTexte 62"/>
          <p:cNvSpPr/>
          <p:nvPr/>
        </p:nvSpPr>
        <p:spPr>
          <a:xfrm>
            <a:off x="7697160" y="1413000"/>
            <a:ext cx="38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58" name="ZoneTexte 63"/>
          <p:cNvSpPr/>
          <p:nvPr/>
        </p:nvSpPr>
        <p:spPr>
          <a:xfrm>
            <a:off x="2309040" y="836640"/>
            <a:ext cx="932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Helvetica 45 Light"/>
              </a:rPr>
              <a:t>First 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Helvetica 45 Light"/>
              </a:rPr>
              <a:t>non-zero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59" name="ZoneTexte 64"/>
          <p:cNvSpPr/>
          <p:nvPr/>
        </p:nvSpPr>
        <p:spPr>
          <a:xfrm>
            <a:off x="5830920" y="836640"/>
            <a:ext cx="932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Helvetica 45 Light"/>
              </a:rPr>
              <a:t>Last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Helvetica 45 Light"/>
              </a:rPr>
              <a:t>non-zero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60" name="Flèche vers le bas 65"/>
          <p:cNvSpPr/>
          <p:nvPr/>
        </p:nvSpPr>
        <p:spPr>
          <a:xfrm>
            <a:off x="2700360" y="1341360"/>
            <a:ext cx="142920" cy="142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61" name="Flèche vers le bas 66"/>
          <p:cNvSpPr/>
          <p:nvPr/>
        </p:nvSpPr>
        <p:spPr>
          <a:xfrm>
            <a:off x="6227640" y="1341360"/>
            <a:ext cx="144720" cy="142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cxnSp>
        <p:nvCxnSpPr>
          <p:cNvPr id="162" name="Connecteur droit avec flèche 67"/>
          <p:cNvCxnSpPr/>
          <p:nvPr/>
        </p:nvCxnSpPr>
        <p:spPr>
          <a:xfrm>
            <a:off x="2700360" y="1988640"/>
            <a:ext cx="3744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63" name="ZoneTexte 68"/>
          <p:cNvSpPr/>
          <p:nvPr/>
        </p:nvSpPr>
        <p:spPr>
          <a:xfrm>
            <a:off x="3363120" y="1940040"/>
            <a:ext cx="2297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Helvetica 45 Light"/>
              </a:rPr>
              <a:t>N Modifiable coefficients,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Helvetica 45 Light"/>
              </a:rPr>
              <a:t>N&gt;TSIG?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64" name="ZoneTexte 69"/>
          <p:cNvSpPr/>
          <p:nvPr/>
        </p:nvSpPr>
        <p:spPr>
          <a:xfrm>
            <a:off x="347400" y="1397160"/>
            <a:ext cx="134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Helvetica 45 Light"/>
              </a:rPr>
              <a:t>Quantized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Helvetica 45 Light"/>
              </a:rPr>
              <a:t>residual block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65" name="Flèche droite 70"/>
          <p:cNvSpPr/>
          <p:nvPr/>
        </p:nvSpPr>
        <p:spPr>
          <a:xfrm>
            <a:off x="1619280" y="1557360"/>
            <a:ext cx="288720" cy="216000"/>
          </a:xfrm>
          <a:prstGeom prst="rightArrow">
            <a:avLst>
              <a:gd name="adj1" fmla="val 50000"/>
              <a:gd name="adj2" fmla="val 49939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66" name="Ellipse 71"/>
          <p:cNvSpPr/>
          <p:nvPr/>
        </p:nvSpPr>
        <p:spPr>
          <a:xfrm>
            <a:off x="2567160" y="1604880"/>
            <a:ext cx="185400" cy="184320"/>
          </a:xfrm>
          <a:prstGeom prst="ellipse">
            <a:avLst/>
          </a:prstGeom>
          <a:noFill/>
          <a:ln w="25560">
            <a:solidFill>
              <a:srgbClr val="ffa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67" name="Espace réservé du pied de page 175"/>
          <p:cNvSpPr/>
          <p:nvPr/>
        </p:nvSpPr>
        <p:spPr>
          <a:xfrm>
            <a:off x="3840120" y="6407280"/>
            <a:ext cx="29005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Helvetica 55 Roman"/>
              </a:rPr>
              <a:t>JCTVC-H0224</a:t>
            </a: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5T10:59:47Z</dcterms:created>
  <dc:creator> </dc:creator>
  <dc:description/>
  <dc:language>en-US</dc:language>
  <cp:lastModifiedBy>JCTVC-G197</cp:lastModifiedBy>
  <cp:lastPrinted>2006-12-08T11:02:13Z</cp:lastPrinted>
  <dcterms:modified xsi:type="dcterms:W3CDTF">2012-02-03T01:09:59Z</dcterms:modified>
  <cp:revision>528</cp:revision>
  <dc:subject/>
  <dc:title>presentation template Oran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