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EC57-2D23-4696-B446-3E269BE99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D4F7-B596-4E96-BFA3-D86B5453C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EEF1-F1E5-4312-A1F9-3D9CF8F36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0617-2516-4936-866E-B618B319C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A15A-B2EE-4310-9B66-E42F2D68B0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BB0A-25D3-4CD0-8005-622B70610E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641F-4910-4489-A5A9-EC23004804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AAB9-3DE5-464D-B90F-7E66239D2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ACB4-5CEA-4577-B883-0AE4616C96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E451-5576-4ADE-B362-7ED8E71F1D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06E9-8846-4337-B573-D7611BAD1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A1A6-1D9E-4FC7-A5BC-9BF3DDB61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C06D-015E-4039-B8A8-85DD1A21D6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F3F6-BF2A-4EC6-9353-BADEC64C80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4B07-A594-4AB9-9D98-4BD9784294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7400-1339-4D5A-811B-FB8CE55843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F3629-C996-4C82-8D10-4EEA00AA2C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EAD-FAF8-4642-830C-0CC0318674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40F-8129-45C9-9B95-3E731FCC93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B9F-7D68-44D9-9FED-D115ADC618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CC6-A959-47DB-A763-37E561C1E6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9F9-8ED5-46C3-8B36-2A383C92D8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9323-CC29-4AE5-8FE8-0050D36153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79A-728D-4E28-A9FE-CAE3279018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B70-7507-4788-8EFA-FBB1BFE3B1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DE9-3E35-4832-8BEA-B80484199A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7AE-C8F6-4A7F-8243-ED7725D831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80D-EFC2-44DF-BA82-36D97298B3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EDE-0589-49D9-AD08-906792DAB9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533-FF67-4A9B-8984-DEF6A1647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2DA4-CC1D-4051-9470-128C2A406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5D81-7189-44D7-B575-C159F08E4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E7A9-ABA0-4E12-9CAC-CC8250E20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3CC1-FAA2-40B8-BCC0-EFB76D8CD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38BE-AFFA-4824-A9D5-857A7C811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44FE-5B6A-486D-BF20-8220AD693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39CA-1A19-49EA-858B-51DF99D351DC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43" name="Picture 8" descr="Pifl_horiz_RGB_pozi"/>
          <p:cNvPicPr/>
          <p:nvPr/>
        </p:nvPicPr>
        <p:blipFill>
          <a:blip r:embed="rId2"/>
          <a:stretch/>
        </p:blipFill>
        <p:spPr>
          <a:xfrm>
            <a:off x="7184880" y="603720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9170-32A3-4F0A-8AE8-C29036B73997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83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5" name="テキスト ボックス 6"/>
          <p:cNvSpPr/>
          <p:nvPr/>
        </p:nvSpPr>
        <p:spPr>
          <a:xfrm>
            <a:off x="8408880" y="6535800"/>
            <a:ext cx="1440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TVC-H0216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3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B525-BEAA-4860-83D9-D5B4C83F073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20DD-4F85-459C-9C76-C26E9CFB34C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CTVC-H0216 Non-CE9:</a:t>
            </a:r>
            <a:br>
              <a:rPr sz="2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ification of derivation process for MVP candidate in AMVP/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40A4-0449-4996-966E-6CEC9938E422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4360" y="693720"/>
            <a:ext cx="9632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n MPEG4/AVC, the ranges of MV are restricted based on profiles and level in Anne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x) Horizontal motion vector range does not exceed the range of -2048 to 2047.75, inclusive, in units of luma 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Based on this restriction, a scaled MV range for temporal direct is also restricted with NO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NOTE4 – mvL0 and mvL1 cannot exceed the ranges specified in Annex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n HM5.0, there is no restriction of the ranges for a scaled MVP candid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A mismatch might be happened in the decoded pictures due to the difference of the supported MV bit precision between encoder and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x) Encoder supports 32 bit precision for MV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scaled MVP can become 32 bit prec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Decoder supports only 16 bit precision for MV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scaled MVP may become wrong due to overflow after sc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o avoid such a mismatch, one approach is to add a NOTE such as below like MPEG4/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NOTE – mvLXCol cannot exceed the ranges specified in Annex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is method does not affect a normative decoding proces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owever, an encoder has to take care of it by using some special tricks. For exam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f a scaled MVP exceeds the specified ranges, encoder controls to select Intra mode, even though in the case of Inter mode is eff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ncoder traces a scaled MVP candidate during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pruning and creating the additional candidate, and it controls not to select the candidate which is related to a scaled MVP candidate, which exceeds the specified ranges after sca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These methods are too complicated so that there’re</a:t>
            </a:r>
            <a:r>
              <a:rPr b="0" lang="ja-JP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ＭＳ 明朝"/>
              </a:rPr>
              <a:t>some possibilities to confuse encoder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ntroduct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958D-E1D8-4540-BACC-0DB0B0615ACE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95000" y="620280"/>
            <a:ext cx="9281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methods are proposed to avoid mismatch due to the difference of the supported MV bit precision between encoder and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1 : Not appending MVP candidate which exceeds the specified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f mvLXCol exceeds the ranges specified in Annex X, it is not appended into MVP candidate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2 : Clipping MVP candidate into the specified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f mvLXCol exceeds the ranges specified in Annex X, it is clipped into the r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methods affect a normative decoding process, however, it is not needed for an encoder to use any tricks for the mode decision to avoid mis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posed method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2075-D74B-42A6-8923-EA3907A95CC6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of solution1 and solution2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5" name="テキスト ボックス 6"/>
          <p:cNvSpPr/>
          <p:nvPr/>
        </p:nvSpPr>
        <p:spPr>
          <a:xfrm>
            <a:off x="6535800" y="2349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5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s were implemented to HM5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V bit precision was restricted to 16 bit, which can sufficiently cover the MV range for 8Kx4K images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o loss was observed for all test condition in both cases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n HM5.0, it’s considered that MV, which exceeds 16 bit precision, is not us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1712880" y="2708280"/>
            <a:ext cx="5938920" cy="1619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1712880" y="4508640"/>
            <a:ext cx="4311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0563-C88F-44B7-B011-9DB2AE69904F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95000" y="620280"/>
            <a:ext cx="9281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modified method were proposed to avoid a mismatch due to the difference of the supported MV bit precision between encoder and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w no loss for all test conditions relative to HM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uggest one of proposed methods be adopted in the HM/CD of HE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2-02-02T02:05:32Z</dcterms:modified>
  <cp:revision>2252</cp:revision>
  <dc:subject/>
  <dc:title>Title</dc:title>
</cp:coreProperties>
</file>