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907588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8C443-B37A-41CE-BEFA-A3E85B46E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0854-EBA5-4B69-ACA5-BD15604F3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3217C-A14D-4F36-83D6-4D9C37322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FF5C-E4D7-4850-B685-80A12B2180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BF6D7-67F2-49C8-B226-1287D62437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69C19-EE7F-437B-AAFD-99B8545EE96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21997D-3629-4CFC-98AB-46A1A60483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F47C5-4001-4CD7-831F-2E2B08D4A0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44D54-A67C-4487-8C6F-4FC672EACC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3686B-46A1-42FA-B53F-6067D04F20C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114DA-A3F6-47EE-B645-4671C672C7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9520-1F65-45C3-8474-64EB49C101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910E-1E89-4867-898E-232987F24CA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2252B-1E31-4B45-80DD-4D1CA5D8883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0C860-BCD0-4ED0-B395-CF38DEEF34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B75D8-41E5-436E-82F6-72266223EB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DEDB1-20CA-49E1-AD1E-27513A639C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0784-364C-4633-95CC-A4713F393C6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6F35-4DE5-4D30-9DCE-FEB5E5FD0E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112-801C-462F-9B6E-6B0FA69F5C9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06A4-9B1F-4337-8DC5-869BC273F05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967D-0D23-41EA-82A8-3E3B14E289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D6D9D-A305-4A61-9F8A-5F6DF109C94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EE6-2F27-4D2E-ADE8-1D62B2F579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6CD-413F-43A1-A709-3A9A96B2C6B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00F-3C8A-482E-A2AC-AB67AD45923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1ED-455C-4FE1-9C16-6C341E672C1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8B2-358B-49D9-B218-0CE166D4B9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F887-71CC-46D2-9ED1-130D67C5AA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35AB-6EC1-426E-8047-FBDE35E51D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309D-FEB2-4822-9381-FC597C741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22C1B-3C85-4433-A324-4160415255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04D6-B088-4C0B-872D-06E798767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CF6C-8CAE-4D81-90E8-B103621994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A3B1B-4E70-421C-B8F9-E28E7F4F48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4497-C5C6-4FED-A6A5-5DF72BEEC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5F1D7-7B3F-46DF-A189-2BC6784CE1CE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0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632304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43" name="Picture 8" descr="Pifl_horiz_RGB_pozi"/>
          <p:cNvPicPr/>
          <p:nvPr/>
        </p:nvPicPr>
        <p:blipFill>
          <a:blip r:embed="rId2"/>
          <a:stretch/>
        </p:blipFill>
        <p:spPr>
          <a:xfrm>
            <a:off x="7184880" y="6037200"/>
            <a:ext cx="2592360" cy="1684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8513-8248-4D8B-B3CB-822C62B0BE3B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0" y="0"/>
            <a:ext cx="9906120" cy="534960"/>
          </a:xfrm>
          <a:prstGeom prst="rect">
            <a:avLst/>
          </a:prstGeom>
          <a:gradFill rotWithShape="0">
            <a:gsLst>
              <a:gs pos="0">
                <a:srgbClr val="181847"/>
              </a:gs>
              <a:gs pos="50000">
                <a:srgbClr val="333399"/>
              </a:gs>
              <a:gs pos="100000">
                <a:srgbClr val="1818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83" name="Picture 67" descr="Pifl_horiz_RGB_pozi"/>
          <p:cNvPicPr/>
          <p:nvPr/>
        </p:nvPicPr>
        <p:blipFill>
          <a:blip r:embed="rId2"/>
          <a:stretch/>
        </p:blipFill>
        <p:spPr>
          <a:xfrm>
            <a:off x="200160" y="6572160"/>
            <a:ext cx="2160360" cy="1396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70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85" name="テキスト ボックス 6"/>
          <p:cNvSpPr/>
          <p:nvPr/>
        </p:nvSpPr>
        <p:spPr>
          <a:xfrm>
            <a:off x="8408880" y="6535800"/>
            <a:ext cx="1440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CTVC-H0214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Num" idx="3"/>
          </p:nvPr>
        </p:nvSpPr>
        <p:spPr>
          <a:xfrm>
            <a:off x="7594200" y="-2736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4110-05C3-46C6-AFEC-96421E504B88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3"/>
          <p:cNvSpPr/>
          <p:nvPr/>
        </p:nvSpPr>
        <p:spPr>
          <a:xfrm>
            <a:off x="7099200" y="624528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78FE-216D-4124-8AD5-FB857CBBD059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CTVC-H0214 Non-CE9:</a:t>
            </a:r>
            <a:br>
              <a:rPr sz="20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dification of derivation process for the reference index for temporal merging cand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0EA4-C852-4C7E-A2F7-E6DE72352555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88520" y="764640"/>
            <a:ext cx="89154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n HM5.0, the reference index for TMVP (temporal merging candidate) is calculated such as belo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Use left as default. Fix to 0 only if left is not availab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f refIdxLXA is not equal to -1, the following appli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refIdxLX = refIdxLX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Otherwise, the following applies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refIdxLX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re is still spatial dependency to calculate the reference index for TMV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It produces some waiting time for parallel calculation of merging candi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For example: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PU of PART_Nx2N,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and 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ＭＳ 明朝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 PU of PART_Nx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Introduction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grpSp>
        <p:nvGrpSpPr>
          <p:cNvPr id="130" name="グループ化 27"/>
          <p:cNvGrpSpPr/>
          <p:nvPr/>
        </p:nvGrpSpPr>
        <p:grpSpPr>
          <a:xfrm>
            <a:off x="3155400" y="4508640"/>
            <a:ext cx="1032480" cy="1363320"/>
            <a:chOff x="3155400" y="4508640"/>
            <a:chExt cx="1032480" cy="1363320"/>
          </a:xfrm>
        </p:grpSpPr>
        <p:sp>
          <p:nvSpPr>
            <p:cNvPr id="131" name="正方形/長方形 63"/>
            <p:cNvSpPr/>
            <p:nvPr/>
          </p:nvSpPr>
          <p:spPr>
            <a:xfrm>
              <a:off x="3756240" y="4508640"/>
              <a:ext cx="431640" cy="863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1</a:t>
              </a: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32" name="正方形/長方形 76"/>
            <p:cNvSpPr/>
            <p:nvPr/>
          </p:nvSpPr>
          <p:spPr>
            <a:xfrm>
              <a:off x="3324240" y="4510080"/>
              <a:ext cx="431640" cy="87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0</a:t>
              </a: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33" name="正方形/長方形 77"/>
            <p:cNvSpPr/>
            <p:nvPr/>
          </p:nvSpPr>
          <p:spPr>
            <a:xfrm>
              <a:off x="3611520" y="5237280"/>
              <a:ext cx="14436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34" name="Text Box 406"/>
            <p:cNvSpPr/>
            <p:nvPr/>
          </p:nvSpPr>
          <p:spPr>
            <a:xfrm>
              <a:off x="3155400" y="556488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it</a:t>
              </a:r>
              <a:endParaRPr b="0" lang="en-US" sz="14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35" name="直線コネクタ 118"/>
            <p:cNvSpPr/>
            <p:nvPr/>
          </p:nvSpPr>
          <p:spPr>
            <a:xfrm flipV="1">
              <a:off x="3465360" y="5304240"/>
              <a:ext cx="2156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36" name="正方形/長方形 69"/>
            <p:cNvSpPr/>
            <p:nvPr/>
          </p:nvSpPr>
          <p:spPr>
            <a:xfrm>
              <a:off x="3173400" y="5250240"/>
              <a:ext cx="144360" cy="142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</p:grpSp>
      <p:grpSp>
        <p:nvGrpSpPr>
          <p:cNvPr id="137" name="グループ化 26"/>
          <p:cNvGrpSpPr/>
          <p:nvPr/>
        </p:nvGrpSpPr>
        <p:grpSpPr>
          <a:xfrm>
            <a:off x="5435280" y="4508640"/>
            <a:ext cx="1030680" cy="1363320"/>
            <a:chOff x="5435280" y="4508640"/>
            <a:chExt cx="1030680" cy="1363320"/>
          </a:xfrm>
        </p:grpSpPr>
        <p:sp>
          <p:nvSpPr>
            <p:cNvPr id="138" name="正方形/長方形 61"/>
            <p:cNvSpPr/>
            <p:nvPr/>
          </p:nvSpPr>
          <p:spPr>
            <a:xfrm>
              <a:off x="5601600" y="451008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0</a:t>
              </a: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39" name="正方形/長方形 62"/>
            <p:cNvSpPr/>
            <p:nvPr/>
          </p:nvSpPr>
          <p:spPr>
            <a:xfrm>
              <a:off x="6033960" y="4508640"/>
              <a:ext cx="43200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1</a:t>
              </a: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40" name="正方形/長方形 87"/>
            <p:cNvSpPr/>
            <p:nvPr/>
          </p:nvSpPr>
          <p:spPr>
            <a:xfrm>
              <a:off x="5889240" y="5227920"/>
              <a:ext cx="14436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41" name="正方形/長方形 91"/>
            <p:cNvSpPr/>
            <p:nvPr/>
          </p:nvSpPr>
          <p:spPr>
            <a:xfrm>
              <a:off x="5898960" y="4795920"/>
              <a:ext cx="142920" cy="1443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42" name="正方形/長方形 92"/>
            <p:cNvSpPr/>
            <p:nvPr/>
          </p:nvSpPr>
          <p:spPr>
            <a:xfrm>
              <a:off x="6033960" y="4948200"/>
              <a:ext cx="43200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3</a:t>
              </a: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43" name="正方形/長方形 97"/>
            <p:cNvSpPr/>
            <p:nvPr/>
          </p:nvSpPr>
          <p:spPr>
            <a:xfrm>
              <a:off x="5601600" y="494820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U2</a:t>
              </a: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44" name="正方形/長方形 69"/>
            <p:cNvSpPr/>
            <p:nvPr/>
          </p:nvSpPr>
          <p:spPr>
            <a:xfrm>
              <a:off x="5456880" y="4799880"/>
              <a:ext cx="144360" cy="142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45" name="正方形/長方形 69"/>
            <p:cNvSpPr/>
            <p:nvPr/>
          </p:nvSpPr>
          <p:spPr>
            <a:xfrm>
              <a:off x="5456880" y="5231880"/>
              <a:ext cx="144360" cy="142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46" name="Text Box 406"/>
            <p:cNvSpPr/>
            <p:nvPr/>
          </p:nvSpPr>
          <p:spPr>
            <a:xfrm>
              <a:off x="5435280" y="5564880"/>
              <a:ext cx="48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it</a:t>
              </a:r>
              <a:endParaRPr b="0" lang="en-US" sz="14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47" name="直線コネクタ 118"/>
            <p:cNvSpPr/>
            <p:nvPr/>
          </p:nvSpPr>
          <p:spPr>
            <a:xfrm flipV="1">
              <a:off x="5745240" y="5303880"/>
              <a:ext cx="21600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48" name="直線コネクタ 118"/>
            <p:cNvSpPr/>
            <p:nvPr/>
          </p:nvSpPr>
          <p:spPr>
            <a:xfrm flipV="1">
              <a:off x="5745240" y="5303880"/>
              <a:ext cx="21600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  <p:sp>
          <p:nvSpPr>
            <p:cNvPr id="149" name="直線コネクタ 118"/>
            <p:cNvSpPr/>
            <p:nvPr/>
          </p:nvSpPr>
          <p:spPr>
            <a:xfrm flipV="1">
              <a:off x="5745240" y="4939920"/>
              <a:ext cx="225000" cy="66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3300"/>
                </a:solidFill>
                <a:latin typeface="Courier New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AFB6-AC06-4D52-9AD4-A0C16DEA4929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1" name="Rectangle 45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Proposed Method 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152" name="Picture 108" descr=""/>
          <p:cNvPicPr/>
          <p:nvPr/>
        </p:nvPicPr>
        <p:blipFill>
          <a:blip r:embed="rId1"/>
          <a:stretch/>
        </p:blipFill>
        <p:spPr>
          <a:xfrm>
            <a:off x="2187720" y="3141720"/>
            <a:ext cx="4781520" cy="2097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488880" y="765000"/>
            <a:ext cx="8915400" cy="56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Purpose : </a:t>
            </a:r>
            <a:endParaRPr b="0" lang="en-US" sz="2000" spc="-1" strike="noStrike">
              <a:solidFill>
                <a:srgbClr val="ff33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o remove the spatial dependency to calculate TMVP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Method:</a:t>
            </a:r>
            <a:endParaRPr b="0" lang="en-US" sz="2000" spc="-1" strike="noStrike">
              <a:solidFill>
                <a:srgbClr val="ff3300"/>
              </a:solidFill>
              <a:latin typeface="Courier New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reference index refIdxCol of colPu is used as the current reference index RefIdxLX for TMVP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RefIdxLX = Min( refIdxCol, num_ref_idx_lX_active_minus1 )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4" name="テキスト ボックス 109"/>
          <p:cNvSpPr/>
          <p:nvPr/>
        </p:nvSpPr>
        <p:spPr>
          <a:xfrm>
            <a:off x="1424160" y="5516640"/>
            <a:ext cx="7561080" cy="6426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atial dependency for TMVP calculation in CU-level and CU groups-level is completely</a:t>
            </a:r>
            <a:r>
              <a:rPr b="1" lang="ja-JP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moved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03E8-C89E-4505-B31A-8E0ABB2350FD}" type="slidenum"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47600" y="572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Simulation Result of simplification1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7" name="テキスト ボックス 6"/>
          <p:cNvSpPr/>
          <p:nvPr/>
        </p:nvSpPr>
        <p:spPr>
          <a:xfrm>
            <a:off x="6535800" y="198900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chor: HM5.0</a:t>
            </a:r>
            <a:endParaRPr b="0" lang="en-US" sz="12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344520" y="620640"/>
            <a:ext cx="90597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The proposed method was implemented to HM5.0 software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No loss was observed in RA setting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明朝"/>
              </a:rPr>
              <a:t>0.1% gain was observed in LDB setting</a:t>
            </a:r>
            <a:endParaRPr b="0" lang="en-US" sz="1800" spc="-1" strike="noStrike">
              <a:solidFill>
                <a:srgbClr val="ff3300"/>
              </a:solidFill>
              <a:latin typeface="Courier New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1712880" y="2276640"/>
            <a:ext cx="5938920" cy="161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2"/>
          <a:stretch/>
        </p:blipFill>
        <p:spPr>
          <a:xfrm>
            <a:off x="1712880" y="4221000"/>
            <a:ext cx="43117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スライド番号プレースホルダ 3"/>
          <p:cNvSpPr/>
          <p:nvPr/>
        </p:nvSpPr>
        <p:spPr>
          <a:xfrm>
            <a:off x="7594560" y="-27000"/>
            <a:ext cx="231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BBBC-DB19-4ED3-8BA4-6C2AD0B8FFD7}" type="slidenum"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600" spc="-1" strike="noStrike">
              <a:solidFill>
                <a:srgbClr val="ff3300"/>
              </a:solidFill>
              <a:latin typeface="Courier New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95000" y="620280"/>
            <a:ext cx="9281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modified derivation process of the reference index for TMVP was propo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how no loss for RA setting and 0.1% gain for LDB with removing the spatial dependency of TMVP calculation process in HM5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suggest the proposed method be adopted in the HM/CD of HE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47600" y="57240"/>
            <a:ext cx="88441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Conclusion</a:t>
            </a:r>
            <a:endParaRPr b="0" lang="en-US" sz="2400" spc="-1" strike="noStrike">
              <a:solidFill>
                <a:srgbClr val="ff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01:19Z</dcterms:created>
  <dc:creator>Hisao Sasai</dc:creator>
  <dc:description/>
  <dc:language>en-US</dc:language>
  <cp:lastModifiedBy>sugio</cp:lastModifiedBy>
  <dcterms:modified xsi:type="dcterms:W3CDTF">2012-01-30T05:39:07Z</dcterms:modified>
  <cp:revision>2232</cp:revision>
  <dc:subject/>
  <dc:title>Title</dc:title>
</cp:coreProperties>
</file>