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EA31-3357-41B7-A266-0E4ACAC3CB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F4BC-318B-4D23-B940-0EC98508856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4E4-7E08-49B4-9FEB-05EF034F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D9A-024A-4C77-BBAB-F46D521A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32A-BDD7-44E3-8270-264B8F6F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402-6B6F-4EA2-A193-A917B3F4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74FD-2E51-4C7B-A0C3-2606BBF4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7FF5-AACB-4EF6-8E94-A25455D3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D353-0D03-473B-893A-19F84219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011C-69DE-4854-B4E8-722C8A2E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2870-7380-41E6-ADD9-BBE603B1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D1F1-3D4A-4154-BDC2-232D4A0C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4A17-7002-4F9C-A946-3518026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3E1-3CD7-478C-ABE2-CCA86B0D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C51A-5E84-449D-B862-D5C8A23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949-6865-43CD-B6C8-0CB2C88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7EBB-060B-4A29-8BD1-19F6529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7F6-6B88-476E-AD14-B53BF1DA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9193-4C60-4A73-A5BA-5EEB040D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A9A7-EBB2-41E0-AD40-A660E38F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1DD2-415D-4C6A-8513-784D60AF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5429-B132-4354-B850-63E3F1C1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18C8-A570-4547-A1C7-BA35CA17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C94F-2044-4E25-882A-7C3A833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CDB-1F6B-4F48-9283-5CC9F242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4F7D-7BC8-4953-962A-E8B62DC2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CACB-1786-4820-83DF-C633367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E1B0-CC6B-416C-A440-F46ED7D3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A660-DC45-4FCE-BD84-A56EDAC9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40AB-FA0F-4DEA-828F-3FC62E0A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767B-CA8C-419D-ABD9-84CEA69B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6BFA-2E19-4D32-8606-7CF7DA6F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B35D-A97C-4FD9-B3B1-B1BD2333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9A86-ABC3-4723-BB9C-5AB1D527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4138-DEBF-4E57-88D3-124CA074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B26-A396-4438-83E8-E2A38AC7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9FDE-2967-49C2-AC5E-7FF93FEB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3712-CC33-4576-88C9-6D77F76F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98DF8-096D-4A5D-8E85-27FC650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67E7-63A0-48BB-9C8B-39DD5EC4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AB03-2D9A-493D-BC2B-FBF1E77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4E5C-B811-4302-88CA-AE7F7FD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0314-E9B1-4E01-B7D8-AABFE717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A32A-C4D6-483C-B0BB-55D390EC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8E5A-2CC0-4087-A8BB-FEE0CD64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FA33-F02D-42D6-813E-F4565287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882-C548-4D2E-AA0C-8D3BF6B0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2A597-2DA5-428A-A2A8-F7B0BC03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D337-ABF2-4BC7-9ED3-26582E87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A19B5-F964-4DF9-B12A-C18A013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BCC1-BCA9-4E1E-A331-76C3953A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7677-C616-4BEA-8D72-4E15ABAD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B1BFD-BB42-4864-8554-03857EF4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909E-8D3C-40E4-BA63-EE815E55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66F9F-10CA-4322-B4D6-C38FBA4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3C24-1E91-433B-9515-E7D221BF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6C4D8-0791-416D-86E5-C8DF1965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07D-7725-4A52-819E-ECBDE07B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63DC-B297-46FB-9778-E01F4A4A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79B7A-9DBD-4D0B-910C-0310B506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D8166-2540-4A39-84C0-4F376555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01160-FA29-4CED-8D4E-E99A0569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0FEE-0EC3-4293-8571-1D3BF2A5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981FB-C031-4AB8-9911-3A374A8D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3EDC-E007-4DF5-8DF0-2DD16339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9450-665E-4F7A-BFCD-BE3DD70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6537-EBEF-4B44-8AAD-12E3F027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D760-3050-4574-99E9-110FFAE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E32-2A0B-4D80-A861-F47F672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5AD32-EFB1-4F8A-A19F-AD4DD692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EC070-6E07-49F4-B1DB-51841E82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1631F-5358-4B41-AA25-2EC65555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9C696-8FE7-42D2-BA61-F2D2AAA2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642EA-5620-4595-B7A8-CABCFEBB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5B9DD-1CD6-405D-9ECF-98597C82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9A978-0AC7-447B-B09B-8DB85D3F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F2A1-7895-4AB1-8334-2F525A3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86F3A-7E99-4508-8891-DD1CB227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8BD9-DA3B-4074-BC16-32A2F14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CCA-37A1-4492-82FC-0CDE83C2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93374-74E7-4FB2-9669-51536666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69DE-C9A1-4969-8BC9-8412F6D5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33D8E-20BC-4FFD-BD03-114CE4EA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51E82-2B8F-48E5-AA8F-685CF8CA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04F1-15A5-41FC-B75C-501FFE07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0BE5A-E2D3-4221-91C5-045485EE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2CD13-5A92-4ACC-B46F-62A0DDB1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8AC02-F720-4F51-9D78-C56FC965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6DE2E-233A-45A9-AA04-46313902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D4923-9242-4C81-98FC-FD2EC19F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720-5128-4C67-B5AB-FAD0C86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FBD56-CA68-45D1-A251-3D4C5D4F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8D48-FC04-46EA-8639-234D97EF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A7275-09A5-4799-BCE9-D08ADBE9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D8090-735C-4F85-A5E3-955B5663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1DA9A-5D7E-41E4-B61A-F7CACDCD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F4412-7458-4F9F-AD2E-3DC25EE4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ABF79-9D0B-44F1-8623-A85A6135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841D-C9D9-4911-B06F-F1F6D45DF51A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D2C-34DE-4A61-9ED0-6808BFEFBD3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6156360" y="5646600"/>
            <a:ext cx="273528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8839-2C57-4D33-B585-A94BBF00EEB0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FE33-807E-407C-A8E7-9E53032858D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08DE-5891-48BF-9D88-EF1A43C729F8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816E-7021-4309-9DA4-D81FA4EE5E0B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6BB5-A734-4898-8407-FA770F76241B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F9BA-551A-4322-924B-A1F88F8AD78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7CC0-6F30-460B-B038-22096FA376CD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167-DE84-4B6B-844E-5AC74FD593F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1212-E445-43B6-9D10-2A5E04DED6AD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D2A8-7B91-4DB1-B1EB-68C8BDC328D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60FE-B335-4A1F-8ED1-C8374973BC6F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43C-1FE1-405B-B725-A74F3DBB5F4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ACD6-3BE5-4555-9CB0-6C778F542F06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E602-8D16-4F38-82F1-6DB3521B0C8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8000" y="141264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based on unified RQ model for HEVC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Choi, J. Nam, J. Yoo, D. Si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.V. Bajić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649-4384-4D8A-A8D5-94BE194577FD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직사각형 2"/>
          <p:cNvSpPr/>
          <p:nvPr/>
        </p:nvSpPr>
        <p:spPr>
          <a:xfrm>
            <a:off x="6732720" y="2535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H0213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그림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456000" cy="280368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389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accumulated occupancy of VB LC RA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ECB-B589-4D90-81AE-2E3DF8810FA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3456000" cy="275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"/>
          <p:cNvPicPr/>
          <p:nvPr/>
        </p:nvPicPr>
        <p:blipFill>
          <a:blip r:embed="rId3"/>
          <a:stretch/>
        </p:blipFill>
        <p:spPr>
          <a:xfrm>
            <a:off x="755640" y="3936960"/>
            <a:ext cx="3456000" cy="2805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" descr=""/>
          <p:cNvPicPr/>
          <p:nvPr/>
        </p:nvPicPr>
        <p:blipFill>
          <a:blip r:embed="rId4"/>
          <a:stretch/>
        </p:blipFill>
        <p:spPr>
          <a:xfrm>
            <a:off x="4572000" y="3933720"/>
            <a:ext cx="3456000" cy="275904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4464000" y="23364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4464000" y="66132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그림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456000" cy="280368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389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accumulated occupancy of VB LC LB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0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C361-3093-4149-A4C6-3337FBF523D8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3456000" cy="2803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55640" y="3865680"/>
            <a:ext cx="3456000" cy="2803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3456000" cy="28036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4464000" y="22507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2520" y="6281640"/>
            <a:ext cx="215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440" y="827388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그림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456000" cy="28036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389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accumulated occupancy of VB LC LP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0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F0F9-AD35-4669-BA76-DE3C3E5DA6DC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3456000" cy="2803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"/>
          <p:cNvPicPr/>
          <p:nvPr/>
        </p:nvPicPr>
        <p:blipFill>
          <a:blip r:embed="rId3"/>
          <a:stretch/>
        </p:blipFill>
        <p:spPr>
          <a:xfrm>
            <a:off x="755640" y="3865680"/>
            <a:ext cx="3456000" cy="28033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" descr=""/>
          <p:cNvPicPr/>
          <p:nvPr/>
        </p:nvPicPr>
        <p:blipFill>
          <a:blip r:embed="rId4"/>
          <a:stretch/>
        </p:blipFill>
        <p:spPr>
          <a:xfrm>
            <a:off x="4572000" y="3865680"/>
            <a:ext cx="3456000" cy="28033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4464000" y="2260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4464000" y="63748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3777480" y="8337240"/>
            <a:ext cx="1589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                            (d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opt the proposed RC to HM6.X a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itial version for HEVC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uld be improved and verified for the other conditions such as VBR and different LCU sizes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0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90F9-DC82-44EC-BE13-F76581D78ACC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HEVC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cial technical module for real video servic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5 for MPEG-2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8 for MPEG-4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VT-N046 for H.264/A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??? For HE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RC is based on the leaky bucket model same as wel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P level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 control for a GOP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level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 control for a frame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QP with Pixel based Unified Rate-Quantization model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level (a group of LCU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QP with Pixel based Unified Rate-Quantization model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0443-3B28-43FE-892E-4CC95C0FC28C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el based Unified RQ-mod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bit allocation should be taken into account with number of pixel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EEF9-04BA-4F3D-8CA3-41F21B8252F5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개체 5"/>
              <p:cNvSpPr txBox="1"/>
              <p:nvPr/>
            </p:nvSpPr>
            <p:spPr>
              <a:xfrm>
                <a:off x="1558800" y="2486160"/>
                <a:ext cx="56055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xels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Rectangle 3"/>
          <p:cNvSpPr/>
          <p:nvPr/>
        </p:nvSpPr>
        <p:spPr>
          <a:xfrm>
            <a:off x="2160" y="326520"/>
            <a:ext cx="25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직사각형 7"/>
          <p:cNvSpPr/>
          <p:nvPr/>
        </p:nvSpPr>
        <p:spPr>
          <a:xfrm>
            <a:off x="4080960" y="4211640"/>
            <a:ext cx="4453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ixels,i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number of pixels in a frame or Unit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직사각형 8"/>
          <p:cNvSpPr/>
          <p:nvPr/>
        </p:nvSpPr>
        <p:spPr>
          <a:xfrm>
            <a:off x="4042080" y="3841920"/>
            <a:ext cx="344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target bit for a frame or Unit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77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 to employ a pixel based Unified RQ-mod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760" y="1213920"/>
            <a:ext cx="788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ardless of CU block siz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block sizes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ligned LCU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boundary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lice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8072280" y="628668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5C33-E027-44FA-A47F-46CD4DCFE834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직사각형 7"/>
          <p:cNvSpPr/>
          <p:nvPr/>
        </p:nvSpPr>
        <p:spPr>
          <a:xfrm>
            <a:off x="755640" y="2852640"/>
            <a:ext cx="719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직사각형 8"/>
          <p:cNvSpPr/>
          <p:nvPr/>
        </p:nvSpPr>
        <p:spPr>
          <a:xfrm>
            <a:off x="1474920" y="285264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직사각형 9"/>
          <p:cNvSpPr/>
          <p:nvPr/>
        </p:nvSpPr>
        <p:spPr>
          <a:xfrm>
            <a:off x="2195640" y="285264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직사각형 10"/>
          <p:cNvSpPr/>
          <p:nvPr/>
        </p:nvSpPr>
        <p:spPr>
          <a:xfrm>
            <a:off x="2916360" y="2852640"/>
            <a:ext cx="7189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직사각형 11"/>
          <p:cNvSpPr/>
          <p:nvPr/>
        </p:nvSpPr>
        <p:spPr>
          <a:xfrm>
            <a:off x="3635280" y="285264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직사각형 12"/>
          <p:cNvSpPr/>
          <p:nvPr/>
        </p:nvSpPr>
        <p:spPr>
          <a:xfrm>
            <a:off x="4356000" y="2852640"/>
            <a:ext cx="719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직사각형 13"/>
          <p:cNvSpPr/>
          <p:nvPr/>
        </p:nvSpPr>
        <p:spPr>
          <a:xfrm>
            <a:off x="5075280" y="285264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직사각형 14"/>
          <p:cNvSpPr/>
          <p:nvPr/>
        </p:nvSpPr>
        <p:spPr>
          <a:xfrm>
            <a:off x="5796000" y="2852640"/>
            <a:ext cx="719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직사각형 15"/>
          <p:cNvSpPr/>
          <p:nvPr/>
        </p:nvSpPr>
        <p:spPr>
          <a:xfrm>
            <a:off x="6515280" y="285264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직사각형 16"/>
          <p:cNvSpPr/>
          <p:nvPr/>
        </p:nvSpPr>
        <p:spPr>
          <a:xfrm>
            <a:off x="7236000" y="2852640"/>
            <a:ext cx="7189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직사각형 17"/>
          <p:cNvSpPr/>
          <p:nvPr/>
        </p:nvSpPr>
        <p:spPr>
          <a:xfrm>
            <a:off x="7954920" y="2852640"/>
            <a:ext cx="720720" cy="7207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직사각형 30"/>
          <p:cNvSpPr/>
          <p:nvPr/>
        </p:nvSpPr>
        <p:spPr>
          <a:xfrm>
            <a:off x="755640" y="3565440"/>
            <a:ext cx="719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직사각형 31"/>
          <p:cNvSpPr/>
          <p:nvPr/>
        </p:nvSpPr>
        <p:spPr>
          <a:xfrm>
            <a:off x="1474920" y="356544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직사각형 32"/>
          <p:cNvSpPr/>
          <p:nvPr/>
        </p:nvSpPr>
        <p:spPr>
          <a:xfrm>
            <a:off x="2195640" y="356544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직사각형 33"/>
          <p:cNvSpPr/>
          <p:nvPr/>
        </p:nvSpPr>
        <p:spPr>
          <a:xfrm>
            <a:off x="2916360" y="3565440"/>
            <a:ext cx="7189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직사각형 34"/>
          <p:cNvSpPr/>
          <p:nvPr/>
        </p:nvSpPr>
        <p:spPr>
          <a:xfrm>
            <a:off x="3635280" y="3568680"/>
            <a:ext cx="7207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직사각형 35"/>
          <p:cNvSpPr/>
          <p:nvPr/>
        </p:nvSpPr>
        <p:spPr>
          <a:xfrm>
            <a:off x="4356000" y="3568680"/>
            <a:ext cx="71928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직사각형 36"/>
          <p:cNvSpPr/>
          <p:nvPr/>
        </p:nvSpPr>
        <p:spPr>
          <a:xfrm>
            <a:off x="5075280" y="3568680"/>
            <a:ext cx="7207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직사각형 37"/>
          <p:cNvSpPr/>
          <p:nvPr/>
        </p:nvSpPr>
        <p:spPr>
          <a:xfrm>
            <a:off x="5796000" y="3568680"/>
            <a:ext cx="71928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직사각형 38"/>
          <p:cNvSpPr/>
          <p:nvPr/>
        </p:nvSpPr>
        <p:spPr>
          <a:xfrm>
            <a:off x="6515280" y="3568680"/>
            <a:ext cx="7207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직사각형 39"/>
          <p:cNvSpPr/>
          <p:nvPr/>
        </p:nvSpPr>
        <p:spPr>
          <a:xfrm>
            <a:off x="7236000" y="3568680"/>
            <a:ext cx="7189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직사각형 40"/>
          <p:cNvSpPr/>
          <p:nvPr/>
        </p:nvSpPr>
        <p:spPr>
          <a:xfrm>
            <a:off x="7954920" y="3568680"/>
            <a:ext cx="720720" cy="71928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TextBox 2"/>
          <p:cNvSpPr/>
          <p:nvPr/>
        </p:nvSpPr>
        <p:spPr>
          <a:xfrm>
            <a:off x="3887640" y="5075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직사각형 42"/>
          <p:cNvSpPr/>
          <p:nvPr/>
        </p:nvSpPr>
        <p:spPr>
          <a:xfrm>
            <a:off x="755640" y="4286160"/>
            <a:ext cx="71928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직사각형 43"/>
          <p:cNvSpPr/>
          <p:nvPr/>
        </p:nvSpPr>
        <p:spPr>
          <a:xfrm>
            <a:off x="1474920" y="4286160"/>
            <a:ext cx="7207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직사각형 44"/>
          <p:cNvSpPr/>
          <p:nvPr/>
        </p:nvSpPr>
        <p:spPr>
          <a:xfrm>
            <a:off x="2195640" y="4286160"/>
            <a:ext cx="7207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직사각형 45"/>
          <p:cNvSpPr/>
          <p:nvPr/>
        </p:nvSpPr>
        <p:spPr>
          <a:xfrm>
            <a:off x="2916360" y="4286160"/>
            <a:ext cx="7189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직사각형 46"/>
          <p:cNvSpPr/>
          <p:nvPr/>
        </p:nvSpPr>
        <p:spPr>
          <a:xfrm>
            <a:off x="3635280" y="428796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직사각형 47"/>
          <p:cNvSpPr/>
          <p:nvPr/>
        </p:nvSpPr>
        <p:spPr>
          <a:xfrm>
            <a:off x="4356000" y="4287960"/>
            <a:ext cx="719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직사각형 48"/>
          <p:cNvSpPr/>
          <p:nvPr/>
        </p:nvSpPr>
        <p:spPr>
          <a:xfrm>
            <a:off x="5075280" y="428796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직사각형 49"/>
          <p:cNvSpPr/>
          <p:nvPr/>
        </p:nvSpPr>
        <p:spPr>
          <a:xfrm>
            <a:off x="5796000" y="4287960"/>
            <a:ext cx="719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직사각형 50"/>
          <p:cNvSpPr/>
          <p:nvPr/>
        </p:nvSpPr>
        <p:spPr>
          <a:xfrm>
            <a:off x="6515280" y="4287960"/>
            <a:ext cx="720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직사각형 51"/>
          <p:cNvSpPr/>
          <p:nvPr/>
        </p:nvSpPr>
        <p:spPr>
          <a:xfrm>
            <a:off x="7236000" y="4287960"/>
            <a:ext cx="7189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직사각형 52"/>
          <p:cNvSpPr/>
          <p:nvPr/>
        </p:nvSpPr>
        <p:spPr>
          <a:xfrm>
            <a:off x="7954920" y="4287960"/>
            <a:ext cx="720720" cy="159228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직사각형 53"/>
          <p:cNvSpPr/>
          <p:nvPr/>
        </p:nvSpPr>
        <p:spPr>
          <a:xfrm>
            <a:off x="755640" y="5877000"/>
            <a:ext cx="719280" cy="7207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직사각형 54"/>
          <p:cNvSpPr/>
          <p:nvPr/>
        </p:nvSpPr>
        <p:spPr>
          <a:xfrm>
            <a:off x="1474920" y="5877000"/>
            <a:ext cx="720720" cy="7207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직사각형 55"/>
          <p:cNvSpPr/>
          <p:nvPr/>
        </p:nvSpPr>
        <p:spPr>
          <a:xfrm>
            <a:off x="2195640" y="5877000"/>
            <a:ext cx="720720" cy="7207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직사각형 56"/>
          <p:cNvSpPr/>
          <p:nvPr/>
        </p:nvSpPr>
        <p:spPr>
          <a:xfrm>
            <a:off x="2916360" y="5877000"/>
            <a:ext cx="718920" cy="7207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직사각형 57"/>
          <p:cNvSpPr/>
          <p:nvPr/>
        </p:nvSpPr>
        <p:spPr>
          <a:xfrm>
            <a:off x="3635280" y="5880240"/>
            <a:ext cx="720720" cy="7189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직사각형 58"/>
          <p:cNvSpPr/>
          <p:nvPr/>
        </p:nvSpPr>
        <p:spPr>
          <a:xfrm>
            <a:off x="4356000" y="5880240"/>
            <a:ext cx="719280" cy="7189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직사각형 59"/>
          <p:cNvSpPr/>
          <p:nvPr/>
        </p:nvSpPr>
        <p:spPr>
          <a:xfrm>
            <a:off x="5075280" y="5880240"/>
            <a:ext cx="720720" cy="7189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직사각형 60"/>
          <p:cNvSpPr/>
          <p:nvPr/>
        </p:nvSpPr>
        <p:spPr>
          <a:xfrm>
            <a:off x="5796000" y="5880240"/>
            <a:ext cx="719280" cy="7189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직사각형 61"/>
          <p:cNvSpPr/>
          <p:nvPr/>
        </p:nvSpPr>
        <p:spPr>
          <a:xfrm>
            <a:off x="6515280" y="5880240"/>
            <a:ext cx="720720" cy="7189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직사각형 62"/>
          <p:cNvSpPr/>
          <p:nvPr/>
        </p:nvSpPr>
        <p:spPr>
          <a:xfrm>
            <a:off x="7236000" y="5880240"/>
            <a:ext cx="718920" cy="7189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직사각형 63"/>
          <p:cNvSpPr/>
          <p:nvPr/>
        </p:nvSpPr>
        <p:spPr>
          <a:xfrm>
            <a:off x="7954920" y="5880240"/>
            <a:ext cx="720720" cy="718920"/>
          </a:xfrm>
          <a:prstGeom prst="rect">
            <a:avLst/>
          </a:prstGeom>
          <a:solidFill>
            <a:srgbClr val="c4bd97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직사각형 1"/>
          <p:cNvSpPr/>
          <p:nvPr/>
        </p:nvSpPr>
        <p:spPr>
          <a:xfrm>
            <a:off x="755640" y="2852640"/>
            <a:ext cx="7626240" cy="345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직선 연결선 41"/>
          <p:cNvSpPr/>
          <p:nvPr/>
        </p:nvSpPr>
        <p:spPr>
          <a:xfrm>
            <a:off x="755640" y="5005440"/>
            <a:ext cx="439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직사각형 175"/>
          <p:cNvSpPr/>
          <p:nvPr/>
        </p:nvSpPr>
        <p:spPr>
          <a:xfrm>
            <a:off x="5075280" y="4286160"/>
            <a:ext cx="360360" cy="360360"/>
          </a:xfrm>
          <a:prstGeom prst="rect">
            <a:avLst/>
          </a:prstGeom>
          <a:solidFill>
            <a:srgbClr val="ddd9c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직사각형 176"/>
          <p:cNvSpPr/>
          <p:nvPr/>
        </p:nvSpPr>
        <p:spPr>
          <a:xfrm>
            <a:off x="5435640" y="4286160"/>
            <a:ext cx="360360" cy="360360"/>
          </a:xfrm>
          <a:prstGeom prst="rect">
            <a:avLst/>
          </a:prstGeom>
          <a:solidFill>
            <a:srgbClr val="ddd9c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직사각형 177"/>
          <p:cNvSpPr/>
          <p:nvPr/>
        </p:nvSpPr>
        <p:spPr>
          <a:xfrm>
            <a:off x="5435640" y="4646520"/>
            <a:ext cx="360360" cy="358920"/>
          </a:xfrm>
          <a:prstGeom prst="rect">
            <a:avLst/>
          </a:prstGeom>
          <a:solidFill>
            <a:srgbClr val="ddd9c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직사각형 178"/>
          <p:cNvSpPr/>
          <p:nvPr/>
        </p:nvSpPr>
        <p:spPr>
          <a:xfrm>
            <a:off x="5076720" y="4646520"/>
            <a:ext cx="358920" cy="358920"/>
          </a:xfrm>
          <a:prstGeom prst="rect">
            <a:avLst/>
          </a:prstGeom>
          <a:solidFill>
            <a:srgbClr val="ddd9c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직선 연결선 179"/>
          <p:cNvSpPr/>
          <p:nvPr/>
        </p:nvSpPr>
        <p:spPr>
          <a:xfrm>
            <a:off x="5788080" y="4286160"/>
            <a:ext cx="28875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직선 연결선 182"/>
          <p:cNvSpPr/>
          <p:nvPr/>
        </p:nvSpPr>
        <p:spPr>
          <a:xfrm>
            <a:off x="5788080" y="4287960"/>
            <a:ext cx="0" cy="35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직선 연결선 185"/>
          <p:cNvSpPr/>
          <p:nvPr/>
        </p:nvSpPr>
        <p:spPr>
          <a:xfrm flipH="1">
            <a:off x="5432040" y="4635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8" name="직선 연결선 188"/>
          <p:cNvSpPr/>
          <p:nvPr/>
        </p:nvSpPr>
        <p:spPr>
          <a:xfrm flipV="1">
            <a:off x="5432400" y="4648320"/>
            <a:ext cx="3240" cy="95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직선 연결선 191"/>
          <p:cNvSpPr/>
          <p:nvPr/>
        </p:nvSpPr>
        <p:spPr>
          <a:xfrm>
            <a:off x="5256360" y="4826160"/>
            <a:ext cx="9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직선 연결선 194"/>
          <p:cNvSpPr/>
          <p:nvPr/>
        </p:nvSpPr>
        <p:spPr>
          <a:xfrm>
            <a:off x="5256360" y="4826160"/>
            <a:ext cx="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직선 연결선 197"/>
          <p:cNvSpPr/>
          <p:nvPr/>
        </p:nvSpPr>
        <p:spPr>
          <a:xfrm flipH="1">
            <a:off x="5148360" y="4902120"/>
            <a:ext cx="1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직선 연결선 199"/>
          <p:cNvSpPr/>
          <p:nvPr/>
        </p:nvSpPr>
        <p:spPr>
          <a:xfrm flipV="1">
            <a:off x="5143680" y="4901760"/>
            <a:ext cx="0" cy="103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직선 연결선 208"/>
          <p:cNvSpPr/>
          <p:nvPr/>
        </p:nvSpPr>
        <p:spPr>
          <a:xfrm flipV="1">
            <a:off x="5332320" y="4736880"/>
            <a:ext cx="0" cy="9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직선 연결선 211"/>
          <p:cNvSpPr/>
          <p:nvPr/>
        </p:nvSpPr>
        <p:spPr>
          <a:xfrm flipH="1">
            <a:off x="5331960" y="4737240"/>
            <a:ext cx="103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TextBox 215"/>
          <p:cNvSpPr/>
          <p:nvPr/>
        </p:nvSpPr>
        <p:spPr>
          <a:xfrm>
            <a:off x="3490920" y="44942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0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TextBox 216"/>
          <p:cNvSpPr/>
          <p:nvPr/>
        </p:nvSpPr>
        <p:spPr>
          <a:xfrm>
            <a:off x="5886360" y="4495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1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5.0 (Hierarchical QP) against Rate Control on HM5.0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Efficiency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access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lay B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lay P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access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lay B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lay P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condi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92DE-F2B3-4BA0-BBAA-1952B4A7B245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0" name="Rectangle 4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개체 2"/>
              <p:cNvSpPr txBox="1"/>
              <p:nvPr/>
            </p:nvSpPr>
            <p:spPr>
              <a:xfrm>
                <a:off x="2268360" y="4869000"/>
                <a:ext cx="3873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'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M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bit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M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44"/>
          <p:cNvSpPr/>
          <p:nvPr/>
        </p:nvSpPr>
        <p:spPr>
          <a:xfrm>
            <a:off x="2520" y="30744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Rectangle 4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개체 7"/>
              <p:cNvSpPr txBox="1"/>
              <p:nvPr/>
            </p:nvSpPr>
            <p:spPr>
              <a:xfrm>
                <a:off x="2268360" y="5877000"/>
                <a:ext cx="3927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'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M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bit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M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Efficiency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7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E680-4BFE-44E0-9EF3-68D7E9617D82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0000" y="1773360"/>
          <a:ext cx="7272360" cy="1800000"/>
        </p:xfrm>
        <a:graphic>
          <a:graphicData uri="http://schemas.openxmlformats.org/drawingml/2006/table">
            <a:tbl>
              <a:tblPr/>
              <a:tblGrid>
                <a:gridCol w="1049400"/>
                <a:gridCol w="1036800"/>
                <a:gridCol w="1036440"/>
                <a:gridCol w="1038240"/>
                <a:gridCol w="1036800"/>
                <a:gridCol w="1038240"/>
                <a:gridCol w="1036440"/>
              </a:tblGrid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8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6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1dB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9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6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5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8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8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1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2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1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9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900000" y="4365720"/>
          <a:ext cx="7272360" cy="1788840"/>
        </p:xfrm>
        <a:graphic>
          <a:graphicData uri="http://schemas.openxmlformats.org/drawingml/2006/table">
            <a:tbl>
              <a:tblPr/>
              <a:tblGrid>
                <a:gridCol w="1049400"/>
                <a:gridCol w="1036800"/>
                <a:gridCol w="1036440"/>
                <a:gridCol w="1038240"/>
                <a:gridCol w="1036800"/>
                <a:gridCol w="1038240"/>
                <a:gridCol w="1036440"/>
              </a:tblGrid>
              <a:tr h="2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Δ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1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22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9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7dB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2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7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9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6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7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8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1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3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2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5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Rectangle 240"/>
          <p:cNvSpPr/>
          <p:nvPr/>
        </p:nvSpPr>
        <p:spPr>
          <a:xfrm>
            <a:off x="1494000" y="32367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Rectangle 241"/>
          <p:cNvSpPr/>
          <p:nvPr/>
        </p:nvSpPr>
        <p:spPr>
          <a:xfrm>
            <a:off x="1496160" y="5443200"/>
            <a:ext cx="241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389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accumulated occupancy of VB HE RA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4C45-A9D0-4017-A42C-34756935116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4" name="그림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456000" cy="27291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51480" y="981000"/>
            <a:ext cx="3476520" cy="2720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3503520" cy="2737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" descr=""/>
          <p:cNvPicPr/>
          <p:nvPr/>
        </p:nvPicPr>
        <p:blipFill>
          <a:blip r:embed="rId4"/>
          <a:stretch/>
        </p:blipFill>
        <p:spPr>
          <a:xfrm>
            <a:off x="4533840" y="3868560"/>
            <a:ext cx="3479760" cy="27291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4464000" y="216504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4464000" y="61084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그림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456000" cy="27417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389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accumulated occupancy of VB HE LB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BE89-19EF-4565-9454-ECFB2150899B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3456000" cy="2773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3"/>
          <a:stretch/>
        </p:blipFill>
        <p:spPr>
          <a:xfrm>
            <a:off x="755640" y="3895560"/>
            <a:ext cx="3456000" cy="2773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" descr=""/>
          <p:cNvPicPr/>
          <p:nvPr/>
        </p:nvPicPr>
        <p:blipFill>
          <a:blip r:embed="rId4"/>
          <a:stretch/>
        </p:blipFill>
        <p:spPr>
          <a:xfrm>
            <a:off x="4572000" y="3895560"/>
            <a:ext cx="3456000" cy="27910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4446360" y="2203200"/>
            <a:ext cx="25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4446360" y="6260760"/>
            <a:ext cx="25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그림 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456000" cy="274968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389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accumulated occupancy of VB HE LP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971-E63C-4367-88BF-C488A4707D03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3456000" cy="2710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3"/>
          <a:stretch/>
        </p:blipFill>
        <p:spPr>
          <a:xfrm>
            <a:off x="755640" y="3841920"/>
            <a:ext cx="3456000" cy="2755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" descr=""/>
          <p:cNvPicPr/>
          <p:nvPr/>
        </p:nvPicPr>
        <p:blipFill>
          <a:blip r:embed="rId4"/>
          <a:stretch/>
        </p:blipFill>
        <p:spPr>
          <a:xfrm>
            <a:off x="4572000" y="3846600"/>
            <a:ext cx="3456000" cy="2751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4464000" y="21934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4464000" y="617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JohnChris</cp:lastModifiedBy>
  <cp:lastPrinted>2011-07-17T23:54:03Z</cp:lastPrinted>
  <dcterms:modified xsi:type="dcterms:W3CDTF">2012-02-04T16:49:17Z</dcterms:modified>
  <cp:revision>257</cp:revision>
  <dc:subject/>
  <dc:title>PowerPoint 프레젠테이션</dc:title>
</cp:coreProperties>
</file>