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84BED-1FFB-4029-805D-00E95F1E40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11A48-7230-48C7-82CB-81B8D528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50FB57-4636-427D-B64B-2742F957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7887F2-70A3-401E-8C1D-C75F9FFB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57FC83-BBF4-4CBC-84BF-BC84393A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BF8F1A-FBAE-46B9-8561-A0B89FC8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72E764-BE44-4C1F-B394-CCAC7650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F0B73B-55BE-4817-9D05-70B5C786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A82F03-03AA-4F0A-9AC1-BEB047CF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C9E29F-4C34-40B6-8B81-0BE168AA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7928CE-0523-4DB6-95C5-E66DF86CFA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1DADE-50C6-4BF5-AFDE-5F2CC2507D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F74DA-C870-4CF9-9BBB-F82E1C96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D7956-27EE-4DC6-A888-3C59CE07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58BDF-A986-466F-9DE7-590F7F1F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53364-DBEF-4C9B-B5B6-DAACB03D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F256C-D37A-412A-AEC9-460C5929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270FC-0A45-4011-9D54-0D856604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727A9-0F07-4505-8633-BB4CF14B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2F7E5-99A5-4A1D-8EA4-F7245C44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6865C-EE23-45F9-A519-1D6BB795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7CB42-CE1D-42A2-82D9-7AFCDCD1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C1540-59F3-4CB0-BD6C-683EEA05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2542D-0335-45FA-8402-C37280D494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B4868-B03A-404E-93BE-2BA36A5599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58AC6D-7230-437D-9544-9C83634563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57C3A7-A5A6-4C68-9116-FA313DD1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86C11F-49ED-47EF-95E0-47150568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A292D1-DCA6-4862-8299-21F4CF6B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4697AB-0C6E-4808-BD75-60EE662F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616CCF-4FE4-4C04-A78E-188608C6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302286-AE98-4FC6-95EA-CCD7CA9E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1FA09D-9436-4279-BBA8-27EFDDC7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9ECDA3-24D7-4AF8-8291-017D8D47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2606E-AB32-45C1-9720-946D1DEA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5D4159-8FAA-455E-A4D3-177C2D76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F16D32-43B0-4AC8-B2CF-226D2820FB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87BA56-A38E-4CEF-8E42-E88DD6ADE3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9DFDA0-9BB5-4D3D-B21D-3D2907C8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5BC4F2-671D-4ED4-B072-F947BEF0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650B1F-8C3C-42B6-BE19-73419B20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DC8ACF-3EA2-410B-B952-A24F3F6A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E2294D-B73E-4DF9-865A-E7E122A3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C09847-7583-41EB-9191-C19A39E2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4871B7-1D97-4A4D-88F0-8271A72E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784B9B-6421-4F77-95AF-FDE07089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85000B-D23A-4013-AB28-187727A9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DF88DE-AA79-4FEA-B215-F5B8D938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63414A-1B7C-4170-9CB8-D6FF64D849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63815-1F4D-48F5-9BDE-DFA6FB4AF7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6A1F2-E87F-4E8E-B3B9-C8A6066F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781B8-5E6D-4618-99DE-D4EB6DE5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9BEB0-CE06-4D7B-A469-28328F0F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819E9-5328-4887-AF20-4C22C22F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7D408-9B81-4771-B6C8-C3C88AFB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D4407-2265-47B5-AC41-78BF8464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E4302-0670-4302-855B-78A47CE5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AA89C-AB11-4AC0-8BB7-CC96D44E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8BA97-696B-4E43-900A-65BF967B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2034C-7F74-4223-9B3D-CE7F4AE5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A21F9-497B-401C-AA81-61461C4FFA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44C9AC-4EC8-4DA4-B2FE-8DF5C4A3A2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D2AF2F-C736-4C46-91F9-4942F01B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2DDE6D-8CEF-48EB-8165-8264E1DE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FE27DE-190D-4BE1-AC74-446D6BAA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3EFEC8-A58A-4679-9944-E53D0F93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1FF5FE-4101-4DC5-B304-A6A08435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3FEE5D-5EC4-420A-8FFC-2ABB2AD2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3D9038-384B-433B-B563-E8CDD69F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760BA0-7589-4E55-8C52-A7C93EE3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9C8B80-FC11-4FC7-8D4E-BAD91DD6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0CB82D-26F2-443F-AF1A-FB34C55E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022432-B39D-4CCA-8704-3B073E2EE5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F3A85-C89A-4E92-92B8-78C12C59AC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1258D5-9BEB-4CD4-9C09-D7BE4D81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6DC490-33BA-4EE0-97E7-FF80F042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14F11-1923-4A40-A7E2-D358C159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15A4D5-54F9-4FCB-A86E-1A3AFB69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F9E51-9AC2-4F47-9507-F3EDC2EE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8C84A-845E-4515-BD05-CD51D239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707BB-F5EC-47AA-AA3C-559E1FE0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43F383-10EC-4A66-A3F7-A0682866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B685E-F8D7-47C2-A6C8-8C132724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46B41-F871-429E-BA4E-9E3B1033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AC461-9D51-44A7-A66C-3070624616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72CEE-92AB-4357-82FD-A363396D37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50CE4-277D-48CA-A675-D80350CF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A255E-3A48-4BA1-BFCD-07739865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724FD-F1AC-4F3F-AE2F-A9240C2C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2BA45-6387-456B-9A96-D537809C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0A88F-0CDF-48DE-859F-710CABE6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524D7-2E86-453D-989E-9B1D0DD3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2FB07-7EEE-4C37-A1DE-0CF2DA72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C5101-FAC2-44F3-A6E6-37BB0E4D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8D02F-1BF3-47A8-A36B-6BF85D7E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4C37B-5CFB-47C6-928B-4D4C599B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C4335-6031-4AA4-ABE0-97D9EC1806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D1E23-4502-49CA-8392-86374E98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A6602-25A5-4010-A2BE-971725E639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6A628-1BA4-45AC-81CB-473D85A4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2838E-330A-4184-A2B4-2BF0219A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25106-EE58-4358-BAA8-A606F1F6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980AD-88D3-4577-8FFF-6E906811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D87EB-B63C-4E0B-8096-D994DF41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2BEFA-3EAA-48F4-8EA6-EFADD6DC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6CD13-9F04-4A6E-8FB0-2EA61492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4602D-557D-4A11-96E7-4C542D47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44323-1279-4298-BC58-3C721288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D016B-FFC0-4805-973A-98092E03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5FB63-EC18-4421-82BF-65AD65E0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49EE5-AD50-4A55-8CEB-C5DEDAE7AE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2CF5-D4F4-4B2F-9B6B-BD6C6BB3D3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E29A-D651-46BF-A482-E0CE146F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B197-90BC-4F64-A346-FE0896D6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99C26-A040-4A26-95E9-BC96CA51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6649-CD86-4BB2-9AA2-7F0CC311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AED2-70EC-4ACA-A905-3FCBD03F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03DD-9E37-4545-9F56-248650C0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B1DE-25DD-4D78-ABB5-0D802EF4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776B-4162-4CD5-AF43-D8DF3877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5DE7-C0A3-4787-94D6-89EEF59D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767E-8BA0-42CE-BD62-017C49F0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91AB-BAC1-4CDE-A1A8-91C458D3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E1A6-556D-4C11-B987-1B4D905F4C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F6926-7D09-403A-8B99-DA2D32A603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84D82-8A05-48C6-9194-D0A6B596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6FD01-C257-4BFB-872A-CD87A92D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BD4BB-0843-4DE4-9291-145BE3C4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4932D5-5FAB-4DF9-AD4D-5770E94F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BEA09-DED1-4AF7-AC7B-343944BD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694A8-6C0E-4C4F-93B1-3637AD43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55817-4B1D-4161-BBBF-2CA3B203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38EB6-27C3-407C-A6F5-FAE44D6D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FF6737-6710-4CF7-BFF0-7539A279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D3297-423B-44FC-84AB-26EABAC4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099C8-D08A-4FF7-A292-4437EA45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90BE3-270F-40EF-A770-ADE29A68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F3E06-44C4-4DDF-99CF-074482127B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6B6CEA-1175-416A-B696-170B2AE853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C0F951-13F7-4A61-88BC-EC66039E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D7D88C-CA96-4C32-881F-0B9B303E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01025B-F956-4D6E-80DB-60D65ECF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ABDBA3-DD09-4B78-B003-09DEB32D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6F3351-E7EF-4990-A4A8-FF0BC683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AFB244-177A-464E-B143-6543CA04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4308DE-0968-4C39-A182-FA25064C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F6197C-5EF4-4C79-BCB9-34186E21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FDFE2-2E92-4708-BDE0-C42899B3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F87CF5-2F6E-4393-85D9-FE1000E1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26D5F7-BBB6-4E71-BCCD-266E9CA8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B34DA6-B087-4F8F-886D-023E4861C9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33197-FA18-4CDC-BAF6-1AC014F1AA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480EE-A55C-4D30-9625-47F7F2A4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61FD5-B86F-4B19-8D79-B98CDB6E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72A69-2331-4E15-8393-87478C3C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84A52-E4C0-4040-958F-8F7B3945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397E5-14CE-4628-B72A-F2B4B1F6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F989D-5499-43F7-AEE4-B7A84F96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C9974-F613-4EE5-9A56-8EC0EB44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A411A-A22F-4E66-9412-3BAEE58C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F5AC8-055B-4552-8FCA-9C3468A4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167A7-C8E3-4904-A708-B9313FB7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76CD5-F80E-4A56-80B4-7A738855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A9613-93FE-4F00-9B65-181AB47EBE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0DF412-4093-4732-B78E-7BA80E9D85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EAA0A-FF99-4462-BF8A-46D68FF3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863E56-4E54-4D3F-8AE1-DD701C77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E60597-DC2C-4E4C-8DD6-E27173FE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7E0416-91E0-401B-8BA5-EC26399B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F86A9-1C4F-4010-BAF9-C9FAB9B9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C1E8D9-3141-465A-93B9-B69E3FC1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1BFD2D-980C-419D-8AAE-685A357F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A0096B-0BF7-4B01-9C10-7DC0CF9F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46C63E-E9F6-4B87-BDA9-232136F7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5F619C-A961-42ED-B7C1-AF7D8338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A8FCC-FEFE-40D1-B527-9C855637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310BA7-E9D6-4083-A0AB-A00BC57612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EFE635-B670-4CED-848B-9AD33C19D2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B0E343-8FBF-427F-9367-0D3FD678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E4DBA2-E16D-41C6-B19F-BF39AB53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452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7163-7F5B-4417-92DE-5422711F95D7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B412-1896-4CE5-A53D-2608C39DBB53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8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4AB1-4FCD-462D-A0B9-AFE0A80E4361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dt" idx="19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14FF-82C3-4B7E-8B09-88DFB306E22A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20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8469-89FC-4AA3-B17B-FD9CD253EC82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dt" idx="21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E764-0532-4F53-9FF0-D21604102B2D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22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4B43-8BAD-48A3-A214-D1296A3D0579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dt" idx="23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9B74-D61B-4B0B-9B13-A9E8A358F33C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24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6DDA-47D3-4C5B-BBAA-4C1D7E475CBB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dt" idx="25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2260-567F-410B-8C05-B6FCF5288D57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Num" idx="26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E64F-4C4F-4E01-878E-CC47BCB133D3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dt" idx="27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BB51-C478-4C7F-8378-C6D398CC7E0A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1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sldNum" idx="28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D991-F663-484F-8E1E-BE47265CF9B3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dt" idx="29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DCA2-CB58-4317-8F97-75730B25345A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sldNum" idx="30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6142-48DA-49CE-9893-051B63E2E476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dt" idx="31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73AF-F4D8-427D-B7FE-1FABDE0506AA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165240" y="2895480"/>
            <a:ext cx="9575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Freeform 8"/>
          <p:cNvSpPr/>
          <p:nvPr/>
        </p:nvSpPr>
        <p:spPr>
          <a:xfrm>
            <a:off x="517680" y="366840"/>
            <a:ext cx="8899200" cy="736560"/>
          </a:xfrm>
          <a:custGeom>
            <a:avLst/>
            <a:gdLst>
              <a:gd name="textAreaLeft" fmla="*/ 0 w 8899200"/>
              <a:gd name="textAreaRight" fmla="*/ 8899560 w 889920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5116" h="464">
                <a:moveTo>
                  <a:pt x="3" y="417"/>
                </a:moveTo>
                <a:cubicBezTo>
                  <a:pt x="1" y="415"/>
                  <a:pt x="1" y="69"/>
                  <a:pt x="0" y="70"/>
                </a:cubicBezTo>
                <a:cubicBezTo>
                  <a:pt x="1" y="15"/>
                  <a:pt x="31" y="0"/>
                  <a:pt x="70" y="4"/>
                </a:cubicBezTo>
                <a:cubicBezTo>
                  <a:pt x="2557" y="0"/>
                  <a:pt x="5068" y="4"/>
                  <a:pt x="5067" y="6"/>
                </a:cubicBezTo>
                <a:cubicBezTo>
                  <a:pt x="5116" y="6"/>
                  <a:pt x="5113" y="94"/>
                  <a:pt x="5067" y="94"/>
                </a:cubicBezTo>
                <a:cubicBezTo>
                  <a:pt x="5065" y="91"/>
                  <a:pt x="207" y="93"/>
                  <a:pt x="205" y="94"/>
                </a:cubicBezTo>
                <a:cubicBezTo>
                  <a:pt x="160" y="94"/>
                  <a:pt x="138" y="103"/>
                  <a:pt x="114" y="154"/>
                </a:cubicBezTo>
                <a:cubicBezTo>
                  <a:pt x="66" y="285"/>
                  <a:pt x="24" y="405"/>
                  <a:pt x="19" y="417"/>
                </a:cubicBezTo>
                <a:cubicBezTo>
                  <a:pt x="4" y="464"/>
                  <a:pt x="3" y="417"/>
                  <a:pt x="3" y="417"/>
                </a:cubicBezTo>
                <a:close/>
              </a:path>
            </a:pathLst>
          </a:custGeom>
          <a:solidFill>
            <a:srgbClr val="c60c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44520" y="5816520"/>
            <a:ext cx="9072360" cy="720720"/>
          </a:xfrm>
          <a:custGeom>
            <a:avLst/>
            <a:gdLst/>
            <a:ahLst/>
            <a:rect l="l" t="t" r="r" b="b"/>
            <a:pathLst>
              <a:path w="5105" h="454">
                <a:moveTo>
                  <a:pt x="5105" y="43"/>
                </a:moveTo>
                <a:cubicBezTo>
                  <a:pt x="5105" y="63"/>
                  <a:pt x="5105" y="385"/>
                  <a:pt x="5105" y="385"/>
                </a:cubicBezTo>
                <a:cubicBezTo>
                  <a:pt x="5104" y="440"/>
                  <a:pt x="5079" y="454"/>
                  <a:pt x="5035" y="451"/>
                </a:cubicBezTo>
                <a:cubicBezTo>
                  <a:pt x="5034" y="451"/>
                  <a:pt x="63" y="452"/>
                  <a:pt x="63" y="451"/>
                </a:cubicBezTo>
                <a:cubicBezTo>
                  <a:pt x="24" y="451"/>
                  <a:pt x="0" y="431"/>
                  <a:pt x="0" y="382"/>
                </a:cubicBezTo>
                <a:cubicBezTo>
                  <a:pt x="0" y="384"/>
                  <a:pt x="0" y="109"/>
                  <a:pt x="0" y="106"/>
                </a:cubicBezTo>
                <a:cubicBezTo>
                  <a:pt x="0" y="42"/>
                  <a:pt x="26" y="32"/>
                  <a:pt x="65" y="32"/>
                </a:cubicBezTo>
                <a:cubicBezTo>
                  <a:pt x="72" y="31"/>
                  <a:pt x="957" y="32"/>
                  <a:pt x="957" y="31"/>
                </a:cubicBezTo>
                <a:cubicBezTo>
                  <a:pt x="1002" y="31"/>
                  <a:pt x="1011" y="58"/>
                  <a:pt x="1010" y="103"/>
                </a:cubicBezTo>
                <a:cubicBezTo>
                  <a:pt x="1010" y="101"/>
                  <a:pt x="1010" y="296"/>
                  <a:pt x="1010" y="298"/>
                </a:cubicBezTo>
                <a:cubicBezTo>
                  <a:pt x="1011" y="340"/>
                  <a:pt x="1028" y="362"/>
                  <a:pt x="1077" y="362"/>
                </a:cubicBezTo>
                <a:cubicBezTo>
                  <a:pt x="1077" y="362"/>
                  <a:pt x="4910" y="361"/>
                  <a:pt x="4908" y="361"/>
                </a:cubicBezTo>
                <a:cubicBezTo>
                  <a:pt x="4953" y="361"/>
                  <a:pt x="4974" y="355"/>
                  <a:pt x="5000" y="284"/>
                </a:cubicBezTo>
                <a:cubicBezTo>
                  <a:pt x="5048" y="153"/>
                  <a:pt x="5079" y="59"/>
                  <a:pt x="5084" y="47"/>
                </a:cubicBezTo>
                <a:cubicBezTo>
                  <a:pt x="5099" y="0"/>
                  <a:pt x="5103" y="23"/>
                  <a:pt x="5105" y="43"/>
                </a:cubicBez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" name="Picture 10" descr="canon_logo_new.jpg"/>
          <p:cNvPicPr/>
          <p:nvPr/>
        </p:nvPicPr>
        <p:blipFill>
          <a:blip r:embed="rId2"/>
          <a:stretch/>
        </p:blipFill>
        <p:spPr>
          <a:xfrm>
            <a:off x="606600" y="6070680"/>
            <a:ext cx="1106280" cy="237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34452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679D-9D7B-4411-81F3-710B2CDEAB5C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7" name="Picture 10" descr="canon_logo_new.jpg"/>
          <p:cNvPicPr/>
          <p:nvPr/>
        </p:nvPicPr>
        <p:blipFill>
          <a:blip r:embed="rId2"/>
          <a:stretch/>
        </p:blipFill>
        <p:spPr>
          <a:xfrm>
            <a:off x="272880" y="6119640"/>
            <a:ext cx="1141560" cy="238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4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AE26-0FFE-4CE8-898E-ABF003D51AA4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5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C056-933C-41D7-BD98-A16416768684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96A7-CFD3-40B9-9359-EFDCE0B9C53F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dt" idx="7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CFAB-DD3B-4922-945D-362814FB8B60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8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53E1-44C1-4FB9-A6D9-10D02BD0E52C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dt" idx="9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1BCA-8B25-4D10-8673-F59E4620D0B0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10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3C26-074F-456F-A65A-993AE95194E5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dt" idx="11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B3AF-F446-4DD0-AA1A-050D51856AA0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2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BF5B-0DCB-4F44-A815-CE72237018F1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dt" idx="13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82F7-B3DF-409E-B0B7-CD351B31DD93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14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A960-A19D-48B8-9677-7DA6BD087E86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dt" idx="15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3CF6-D785-419E-AA6D-8360C6EC770F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16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3856-967D-4BFD-9C6E-7C3561A03DD6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dt" idx="17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0591-6EA1-437C-B802-E741898DD7B4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64880" y="2285640"/>
            <a:ext cx="95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Lucida Sans Unicode"/>
              </a:rPr>
              <a:t>JCTVC-H0178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Lucida Sans Unicode"/>
              </a:rPr>
              <a:t>Encoder speed-up for the Motion Vector predictor cost estimation </a:t>
            </a:r>
            <a:endParaRPr b="1" lang="en-US" sz="36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560160" y="4149720"/>
            <a:ext cx="8856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Sans Unicode"/>
              </a:rPr>
              <a:t>G. LAROCHE, T. POIRIER, </a:t>
            </a:r>
            <a:r>
              <a:rPr b="1" lang="en-US" sz="2400" spc="-1" strike="noStrike" u="sng">
                <a:solidFill>
                  <a:srgbClr val="595959"/>
                </a:solidFill>
                <a:uFillTx/>
                <a:latin typeface="Lucida Sans Unicode"/>
              </a:rPr>
              <a:t>P. ONNO</a:t>
            </a:r>
            <a:endParaRPr b="0" lang="en-US" sz="2400" spc="-1" strike="noStrike">
              <a:solidFill>
                <a:srgbClr val="3333cc"/>
              </a:solidFill>
              <a:latin typeface="Lucida Sans Unicode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Lucida Sans Unicode"/>
            </a:endParaRPr>
          </a:p>
          <a:p>
            <a:pPr indent="0" algn="ctr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Lucida Sans Unicode"/>
            </a:endParaRPr>
          </a:p>
          <a:p>
            <a:pPr indent="0" algn="ctr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Lucida Sans Unicode"/>
              </a:rPr>
              <a:t>JCT-VC 8</a:t>
            </a:r>
            <a:r>
              <a:rPr b="1" lang="en-US" sz="1600" spc="-1" strike="noStrike" baseline="30000">
                <a:solidFill>
                  <a:srgbClr val="7f7f7f"/>
                </a:solidFill>
                <a:latin typeface="Lucida Sans Unicode"/>
              </a:rPr>
              <a:t>th</a:t>
            </a:r>
            <a:r>
              <a:rPr b="1" lang="en-US" sz="1600" spc="-1" strike="noStrike">
                <a:solidFill>
                  <a:srgbClr val="7f7f7f"/>
                </a:solidFill>
                <a:latin typeface="Lucida Sans Unicode"/>
              </a:rPr>
              <a:t> Meeting: San José, CA, USA, 1–10 February, 2012</a:t>
            </a:r>
            <a:endParaRPr b="0" lang="en-US" sz="1600" spc="-1" strike="noStrike">
              <a:solidFill>
                <a:srgbClr val="3333cc"/>
              </a:solidFill>
              <a:latin typeface="Lucida Sans Unicode"/>
            </a:endParaRPr>
          </a:p>
          <a:p>
            <a:pPr indent="0" algn="ctr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8624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9D17-BD5D-4FA6-A94D-7436E786FB19}" type="slidenum">
              <a:rPr b="0" lang="en-US" sz="800" spc="-1" strike="noStrike">
                <a:solidFill>
                  <a:srgbClr val="c60c30"/>
                </a:solidFill>
                <a:latin typeface="Lucida Sans Unico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Lucida Sans Unicode"/>
              </a:rPr>
              <a:t>Introduction</a:t>
            </a:r>
            <a:endParaRPr b="1" lang="en-US" sz="32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Encoding time dedicated to the rate-distortion cost determination for the Merge/Skip list is quite important: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668520" indent="-257040">
              <a:spcBef>
                <a:spcPts val="601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8520" indent="-257040">
              <a:spcBef>
                <a:spcPts val="601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ue to the exhaustive computation of the rate-distortion cost of all (up to 5) candidates in the lis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8520" indent="-257040">
              <a:spcBef>
                <a:spcPts val="601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8520" indent="-257040">
              <a:spcBef>
                <a:spcPts val="601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or the Merge mode, it is quite expensive due to the residual data encod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8520" indent="-257040">
              <a:spcBef>
                <a:spcPts val="601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8520" indent="-308520">
              <a:spcBef>
                <a:spcPts val="700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roposa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668520" indent="-257040">
              <a:spcBef>
                <a:spcPts val="601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Introduce an early termination rule to save encoding tim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8520" indent="-257040">
              <a:spcBef>
                <a:spcPts val="601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8520" indent="-308520">
              <a:spcBef>
                <a:spcPts val="601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Lucida Sans Unicode"/>
            </a:endParaRPr>
          </a:p>
          <a:p>
            <a:pPr marL="308520" indent="-308520">
              <a:spcBef>
                <a:spcPts val="601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Lucida Sans Unicode"/>
            </a:endParaRPr>
          </a:p>
          <a:p>
            <a:pPr marL="308520" indent="-308520">
              <a:spcBef>
                <a:spcPts val="601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Lucida Sans Unicode"/>
            </a:endParaRPr>
          </a:p>
          <a:p>
            <a:pPr marL="308520" indent="-308520">
              <a:spcBef>
                <a:spcPts val="700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66852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8624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CCD6-C4BF-4602-9048-11F0D945DD0D}" type="slidenum">
              <a:rPr b="0" lang="en-US" sz="800" spc="-1" strike="noStrike">
                <a:solidFill>
                  <a:srgbClr val="c60c30"/>
                </a:solidFill>
                <a:latin typeface="Lucida Sans Unico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76160" y="259920"/>
            <a:ext cx="8647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Lucida Sans Unicode"/>
              </a:rPr>
              <a:t>HM5.0: exhaustive RD cost evaluation of all MV predictors candidates </a:t>
            </a:r>
            <a:endParaRPr b="1" lang="en-US" sz="32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8624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2497-BBD4-47CE-8726-8067A9B53068}" type="slidenum">
              <a:rPr b="0" lang="en-US" sz="800" spc="-1" strike="noStrike">
                <a:solidFill>
                  <a:srgbClr val="c60c30"/>
                </a:solidFill>
                <a:latin typeface="Lucida Sans Unico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83" name="Object 5"/>
          <p:cNvGraphicFramePr/>
          <p:nvPr/>
        </p:nvGraphicFramePr>
        <p:xfrm>
          <a:off x="992160" y="1204920"/>
          <a:ext cx="8121600" cy="54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1204920"/>
                    <a:ext cx="8121600" cy="54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76160" y="115560"/>
            <a:ext cx="86472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Lucida Sans Unicode"/>
              </a:rPr>
              <a:t>Proposal : early termination rule for Merge</a:t>
            </a:r>
            <a:endParaRPr b="1" lang="en-US" sz="32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8624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5595-C420-4763-B2B2-B6317DAFD03D}" type="slidenum">
              <a:rPr b="0" lang="en-US" sz="800" spc="-1" strike="noStrike">
                <a:solidFill>
                  <a:srgbClr val="c60c30"/>
                </a:solidFill>
                <a:latin typeface="Lucida Sans Unico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89" name="Object 2"/>
          <p:cNvGraphicFramePr/>
          <p:nvPr/>
        </p:nvGraphicFramePr>
        <p:xfrm>
          <a:off x="1784520" y="1844640"/>
          <a:ext cx="6911640" cy="467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4520" y="1844640"/>
                    <a:ext cx="6911640" cy="46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"/>
          <p:cNvSpPr txBox="1"/>
          <p:nvPr/>
        </p:nvSpPr>
        <p:spPr>
          <a:xfrm>
            <a:off x="165240" y="907920"/>
            <a:ext cx="94932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Rule: Stop evaluating Merge candidates when the Skip mode is less than the minimum of any previous rate-distortion costs already computed for previous candidates.</a:t>
            </a:r>
            <a:endParaRPr b="0" lang="en-US" sz="20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76160" y="115560"/>
            <a:ext cx="86472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Lucida Sans Unicode"/>
              </a:rPr>
              <a:t>Results</a:t>
            </a:r>
            <a:endParaRPr b="1" lang="en-US" sz="32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8624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0DEE-3466-475C-A450-7111539FEFF6}" type="slidenum">
              <a:rPr b="0" lang="en-US" sz="800" spc="-1" strike="noStrike">
                <a:solidFill>
                  <a:srgbClr val="c60c30"/>
                </a:solidFill>
                <a:latin typeface="Lucida Sans Unico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2432160" y="404640"/>
          <a:ext cx="6913440" cy="5916960"/>
        </p:xfrm>
        <a:graphic>
          <a:graphicData uri="http://schemas.openxmlformats.org/drawingml/2006/table">
            <a:tbl>
              <a:tblPr/>
              <a:tblGrid>
                <a:gridCol w="828720"/>
                <a:gridCol w="676080"/>
                <a:gridCol w="676440"/>
                <a:gridCol w="676080"/>
                <a:gridCol w="676440"/>
                <a:gridCol w="676080"/>
                <a:gridCol w="674640"/>
                <a:gridCol w="676440"/>
                <a:gridCol w="676080"/>
                <a:gridCol w="676440"/>
              </a:tblGrid>
              <a:tr h="290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L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L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76160" y="115560"/>
            <a:ext cx="86472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Lucida Sans Unicode"/>
              </a:rPr>
              <a:t>Conclusion</a:t>
            </a:r>
            <a:endParaRPr b="1" lang="en-US" sz="32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Early termination rule for the RD cost estimation of Merge candidates.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Non-normative change: just a software change. 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duction of the encoding time is about 5% on average on all configurations.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No impact on BDR.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10-lines modification in HM5 source codes.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Cross-checked by ETRI (JCTVC- H0241)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606060"/>
              </a:buClr>
              <a:buSzPct val="17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8624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9FBB-1DD7-479C-82B5-C8C12E6B1A66}" type="slidenum">
              <a:rPr b="0" lang="en-US" sz="800" spc="-1" strike="noStrike">
                <a:solidFill>
                  <a:srgbClr val="c60c30"/>
                </a:solidFill>
                <a:latin typeface="Lucida Sans Unico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2:06:28Z</dcterms:created>
  <dc:creator>Herve Dias</dc:creator>
  <dc:description/>
  <cp:keywords>YEARLY RATE REVENUE SGA TRANSFERT PRICE</cp:keywords>
  <dc:language>en-US</dc:language>
  <cp:lastModifiedBy>NVC</cp:lastModifiedBy>
  <dcterms:modified xsi:type="dcterms:W3CDTF">2012-02-02T19:34:01Z</dcterms:modified>
  <cp:revision>1215</cp:revision>
  <dc:subject>TP Transfert Price Yearly Rate</dc:subject>
  <dc:title>CRF Transfert Price Policy</dc:title>
</cp:coreProperties>
</file>