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7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0"/>
          </p:nvPr>
        </p:nvSpPr>
        <p:spPr>
          <a:xfrm>
            <a:off x="3771720" y="-360"/>
            <a:ext cx="2866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699840" y="766800"/>
            <a:ext cx="5313240" cy="367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move the slide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904680" y="4752720"/>
            <a:ext cx="490356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31"/>
          </p:nvPr>
        </p:nvSpPr>
        <p:spPr>
          <a:xfrm>
            <a:off x="0" y="9429480"/>
            <a:ext cx="2867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32"/>
          </p:nvPr>
        </p:nvSpPr>
        <p:spPr>
          <a:xfrm>
            <a:off x="3771720" y="9429480"/>
            <a:ext cx="2866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F48-33C1-461A-9D7E-02926361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700200" y="76680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4680" y="4752720"/>
            <a:ext cx="490356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772080" y="9429840"/>
            <a:ext cx="28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B49-8520-4B7C-9CBB-FB1F4FA3D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700200" y="76680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04680" y="4752720"/>
            <a:ext cx="490356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772080" y="9429840"/>
            <a:ext cx="28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5842-D64D-4AF9-8DE3-BF362CBF3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700200" y="76680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04680" y="4752720"/>
            <a:ext cx="490356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772080" y="9429840"/>
            <a:ext cx="28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D39-B54A-41E0-A5C2-15ABF4EC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700200" y="76680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04680" y="4752720"/>
            <a:ext cx="490356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772080" y="9429840"/>
            <a:ext cx="28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DC4-BCF1-430B-AA97-E9D69F8E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E22A-E755-4990-ACF0-2AB9343AE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1448-CA4D-4952-9633-49BEED5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38F98F-76D4-4588-A1E4-4A2A1B32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683D1-7714-4D9F-A987-9B19913F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9C5A8-6AC2-4477-9911-D36CD826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C358D-A2AB-4307-AB51-915796B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999F0-FAD7-4931-B77C-8F79B3BA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1E5D0-BFBD-492C-B042-BB9E58DE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4BF19-1173-4C00-8AB9-03A49914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8BB3BA-17C9-4223-92BD-B730B34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15DF8-C7C6-4553-B4CE-162DB7E8B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6F3C-E0B2-495D-9FB7-06FF8FA5FB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8C35-76BF-40BE-BD39-4F77A2D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4221-46D9-4ECB-BD87-BF88943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2FF95-A08F-4758-8128-51E1C71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4DF9-3CD7-42E0-A31B-B5D0435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BBAD-CAD4-48B0-8BCD-5BDCE8D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25AF-D655-4F42-B995-FFCB059B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D1B0-1183-4182-84D9-1F94D5FA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96EA-987F-4A05-86DF-15DF25D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987D-3380-49D7-9F7A-C74D197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0A5B-2D4E-4B13-A085-ECDC64C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D8A1-EE71-482A-80E2-30BC5C2F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637A-0014-470A-8C56-A9D03A2BC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D8DE-30D4-49AC-A68D-C79FB370D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7F001-075B-48B7-AA7E-2C332B471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BB219-DDDB-416C-853A-4C945B29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8B010-6315-450D-B7C5-EB51A9C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DD1BE-7785-4019-B747-9BFFA95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A8986-262D-4F4E-845B-F4889FEF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16CCC-B38E-412C-8571-C096C82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0FBB6-18E3-4735-BE06-A580FE5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E7478-A946-4BBC-9C91-ECE7898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5DC49-DBA4-4FC7-A0FF-1F6DDE6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79F48-37C1-4AD1-B589-71C02444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A3AA4-F163-462D-AD9C-DF137CA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2DD07-39D3-45D6-8893-4243BB06D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64A48-C709-4F85-A893-9DEA9CB2D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9F1D37-9876-4805-8D6D-4041B12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B8B6E1-F1ED-4401-9D5F-C85A897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35D995-C88F-4465-87B1-DFB69AB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15E6F-12DD-48E1-B32E-83DAEF9B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263634-F701-4AA2-9A54-233782B6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CE217-B0AF-4EA7-B1BE-5D447D5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99181-0F12-46F8-B755-FC80388E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E58F1-79B1-4922-8F7D-BA66007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075F9-705F-4892-AD47-6BD8EC82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C7C3E8-3F6A-43A5-B646-3B241A5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8DAF2B-C6FF-4161-9DD1-6851B4107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BE5D6-D34E-43C3-B0BA-94E8F98DE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97B9-B29D-482E-A529-AB2709A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A9FD-AB97-4935-B9FB-4891909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9C4C-1DA4-43C9-A253-78724E1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85FB1-072E-486C-B5A1-E268F6F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3B85-131B-4C39-9CB9-74159948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DA59-E4EB-4C51-B6E3-8F0BF89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A47BB-0EAF-401F-B99E-36ACBB8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51E2-0302-4001-92D0-21CC4D3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B5284-E06F-4F8D-BA56-C51A7E71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A1270-123F-4ACE-8DF1-8C51F30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5F4D2-5955-4BE3-8E99-2C70E1B9A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B89DF-489A-4C95-95B4-F59761AB3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E4F43-DB50-411F-AA67-FA06A378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907EF-A7FE-4C83-84AC-30AF4D8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11206-7819-47AE-8B03-7A98B143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FB7E2-361D-4D06-8E6A-D9C530B6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A70B46-FA7E-4DFC-9F9E-38513337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56C37-DF52-4B5D-A63D-C3B36AC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059B6-AD7D-479F-9D85-793F379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FE294-00F2-4FA4-B761-6EBCE73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3BE7A6-21D3-470E-B460-60272590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7622C-53B1-4753-A6B8-41668AB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EE313-D6DD-414B-A69E-0CAEDD6D9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C4214-3D5F-460A-A7BE-DA55873B6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B4E14-1ADC-4E2C-8502-F1C519C6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FE3D1-0EAE-4762-A830-FD695E21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B64F7-E6F6-4DE8-A2DB-2D2B869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6E74B-B0C0-4305-9A39-9BBE7DDB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4A68C-3F4D-4733-8FFB-CEB5EDE4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682DA-9BAE-4FF0-A047-4E5DDEF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9DF5C-EFA1-4991-AC30-CF4EA93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574ED-A623-471D-AA17-B50856A9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8811C-E62E-4F1E-8A9E-293C8D3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E36AD-50BE-4E31-8FA7-90AF3EC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AB8C3-479E-4C03-8C86-838F0ECEF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5BB3-EE63-47D5-8142-EBB9E60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F57E6-5F65-4BF8-8863-6F5C384BF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8A40F-F9AA-44BE-946D-81CE09A7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03EE3-2296-4521-A7A7-08C93F7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30CC8-2648-4769-9A67-B8ECB8A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D0AD6-6063-4DB8-934C-996700A9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E723-3C11-4DD7-8BD3-1C5BE4B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7AFE1-288D-4651-B30D-5B90E3EB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03B3D-F537-405D-8444-48D12B4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3D04F-4D07-4911-8635-B57A90F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F3DDA-266E-46DE-B060-3F0C554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19883-A39F-4054-96F1-E8C047D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A3113-C56A-4BC5-A406-BCC4E48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59181-BC17-4362-B125-44D8D3FD3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299-BE3D-4B2A-9FA0-34C7102CE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A497-CF1A-47FF-8FAB-DA93E1D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ADF9-60B7-4023-B306-877A4FE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33A6-C783-4A1A-95BA-F2E99E7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5BC-3C14-4BA6-9E5E-90E22A50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AB8A-B88F-4524-866E-C67E7EB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0592-71E9-41C3-8397-103DEE2D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7AC3-8D74-48B1-A13F-B5D23C0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143-E507-4A6C-A8B0-6473950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812-5B50-4F4F-B9B4-CAF0EFF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3DA-B071-4F20-AE8A-2297A328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578-C044-4876-992A-196C3C1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8ED-F2A4-44DC-8426-D3B1F1880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1D13B-280C-478C-8691-90998A856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776B-F6B4-4DD9-98B2-CC81BF56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DD8BB-A38A-4536-976A-7B8A6B4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87F02-C2A5-4E8E-B479-A49ECAA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493A4-4C1A-4564-82F8-EA2863E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3BEDA-B329-4FD0-AAE4-522B28D4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60F24-2CC3-4107-8B15-CB904A5C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749DC-6564-4AB3-9B78-92C12B9A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8282E-2A19-4C4E-A5E1-E5A4F4E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E12E4-9666-476B-8B84-B48990B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3BAF7-AC6A-434F-9515-FCF6E211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A8FDE-8F94-4858-BE0B-52DF38E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D6C-8E0B-4EFC-A642-34B82D9C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1A6E2-E28F-4431-874E-FD2476B691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3FE45-5B16-499D-83D3-F9F7EF81E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F83B8-9229-4841-A644-69D6514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D7B6A-5205-40AE-8492-2E0DCA3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54EC3-D84A-457A-A3D3-CD58093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BA1E3-6DE2-4132-A683-51D02A02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3AE7C-2BE7-4A2B-B240-564646C0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D7827-EFD1-437E-B8E5-4082A0BC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20219-4ECF-410E-B602-76EDC204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02CA3-B45E-44C1-A08E-EB6F4210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3CA7-16D9-4DFD-B025-397C616E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3D0AF-843B-4763-BCDF-4ACADA2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7EE1A-710E-490F-9C2F-F522A0BD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FB203-DFDB-4267-8A84-B2B221EEE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3FC7-AD0E-4139-8014-4CF408CFC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5F0D-6A63-40B6-9BD1-0E397412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2C82-CC13-4CA6-B1B9-A9BFBCC3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3C2E-30EB-4EFE-97C3-558CD28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04D2-5949-4AB5-A267-9D777872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6D4B7-1208-49A4-AAC5-A5B91082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95A4-E003-4F89-9E60-EE6C6E0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A71E-B4C2-46B2-B8C2-38222E0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3D0E-C8FF-4A2A-9899-57C726D1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67CF-0AFC-4D37-96CD-6A9E76BD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A33E-7A6C-4BD2-8FD6-8B52D1D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35F8-AA43-498E-B80B-0C617B8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3CF1E-4CF1-4E22-AC51-2A02287F40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900A7-B23A-4903-86B7-50955FAE5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BF696-F92F-4819-A6E2-AAC9C013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B8D81-BAB2-4960-B816-89810723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F9A07-18D6-4A25-BDD3-E214068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0C596-58D8-4046-A6B4-187B8670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C343-654E-4E36-8904-9E3F8BB2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20880" y="115560"/>
            <a:ext cx="8502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92207-94E2-4874-A3F9-8DD57A87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87B08-EC47-4EEC-8E5A-80B51C3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FF633-12EC-4B7A-8F6D-BC64C8E7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2D31D-80A5-4FC4-89D8-ABAB3CD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65240" y="3699000"/>
            <a:ext cx="94932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F9695-3ED4-422E-8650-CCF36E6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29560" y="105228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6524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29560" y="3699000"/>
            <a:ext cx="463248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43E72-4CB8-4187-9ABA-F4DF6DA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750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84400" y="105228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6524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750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584400" y="3699000"/>
            <a:ext cx="3056400" cy="24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AD087-41EF-4B64-AC93-314DB137F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0495EC-C50E-4EB9-A988-985145D8C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0B060-0985-4F4D-B549-9E05CD4D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56BD1-BA0C-463A-9E26-696480A3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452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7986-7AE2-44D4-9E61-84B7DA205F90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1AC-D975-4221-9047-C43E61EA84E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6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389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BE0E-2228-45FE-9DA8-D05E918157F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1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51D-EB42-47C4-9C92-BA6ACFB734F3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432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0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2191-5227-4AB5-859B-C7F4CD0C136E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21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C071-5645-4747-8BFF-F776D6416F54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ACC-B90F-4D15-A430-086750C9BB44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dt" idx="23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CA9-3623-473C-9E96-DA203FEEE08D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7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724-BAF2-45CB-82DB-4549321339AF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461-2488-4F30-BC28-35EE9AB6D457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0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561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2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00B-A84C-4AD2-9483-EE477BA5997B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dt" idx="2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8D16-0733-4CE3-972E-37D825B739AF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3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604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9360-D648-4BC6-8C59-825D213597FE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863E-9B90-467C-8BC8-C1D1DA2FC844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2"/>
          <p:cNvSpPr/>
          <p:nvPr/>
        </p:nvSpPr>
        <p:spPr>
          <a:xfrm>
            <a:off x="344520" y="5816520"/>
            <a:ext cx="9072360" cy="720720"/>
          </a:xfrm>
          <a:custGeom>
            <a:avLst/>
            <a:gdLst/>
            <a:ahLst/>
            <a:rect l="l" t="t" r="r" b="b"/>
            <a:pathLst>
              <a:path w="5105" h="454">
                <a:moveTo>
                  <a:pt x="5105" y="43"/>
                </a:moveTo>
                <a:cubicBezTo>
                  <a:pt x="5105" y="63"/>
                  <a:pt x="5105" y="385"/>
                  <a:pt x="5105" y="385"/>
                </a:cubicBezTo>
                <a:cubicBezTo>
                  <a:pt x="5104" y="440"/>
                  <a:pt x="5079" y="454"/>
                  <a:pt x="5035" y="451"/>
                </a:cubicBezTo>
                <a:cubicBezTo>
                  <a:pt x="5034" y="451"/>
                  <a:pt x="63" y="452"/>
                  <a:pt x="63" y="451"/>
                </a:cubicBezTo>
                <a:cubicBezTo>
                  <a:pt x="24" y="451"/>
                  <a:pt x="0" y="431"/>
                  <a:pt x="0" y="382"/>
                </a:cubicBezTo>
                <a:cubicBezTo>
                  <a:pt x="0" y="384"/>
                  <a:pt x="0" y="109"/>
                  <a:pt x="0" y="106"/>
                </a:cubicBezTo>
                <a:cubicBezTo>
                  <a:pt x="0" y="42"/>
                  <a:pt x="26" y="32"/>
                  <a:pt x="65" y="32"/>
                </a:cubicBezTo>
                <a:cubicBezTo>
                  <a:pt x="72" y="31"/>
                  <a:pt x="957" y="32"/>
                  <a:pt x="957" y="31"/>
                </a:cubicBezTo>
                <a:cubicBezTo>
                  <a:pt x="1002" y="31"/>
                  <a:pt x="1011" y="58"/>
                  <a:pt x="1010" y="103"/>
                </a:cubicBezTo>
                <a:cubicBezTo>
                  <a:pt x="1010" y="101"/>
                  <a:pt x="1010" y="296"/>
                  <a:pt x="1010" y="298"/>
                </a:cubicBezTo>
                <a:cubicBezTo>
                  <a:pt x="1011" y="340"/>
                  <a:pt x="1028" y="362"/>
                  <a:pt x="1077" y="362"/>
                </a:cubicBezTo>
                <a:cubicBezTo>
                  <a:pt x="1077" y="362"/>
                  <a:pt x="4910" y="361"/>
                  <a:pt x="4908" y="361"/>
                </a:cubicBezTo>
                <a:cubicBezTo>
                  <a:pt x="4953" y="361"/>
                  <a:pt x="4974" y="355"/>
                  <a:pt x="5000" y="284"/>
                </a:cubicBezTo>
                <a:cubicBezTo>
                  <a:pt x="5048" y="153"/>
                  <a:pt x="5079" y="59"/>
                  <a:pt x="5084" y="47"/>
                </a:cubicBezTo>
                <a:cubicBezTo>
                  <a:pt x="5099" y="0"/>
                  <a:pt x="5103" y="23"/>
                  <a:pt x="5105" y="43"/>
                </a:cubicBez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65240" y="2895480"/>
            <a:ext cx="957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Picture 10" descr="canon_logo_new.jpg"/>
          <p:cNvPicPr/>
          <p:nvPr/>
        </p:nvPicPr>
        <p:blipFill>
          <a:blip r:embed="rId2"/>
          <a:stretch/>
        </p:blipFill>
        <p:spPr>
          <a:xfrm>
            <a:off x="606600" y="6070680"/>
            <a:ext cx="1106280" cy="2379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8"/>
          <p:cNvSpPr/>
          <p:nvPr/>
        </p:nvSpPr>
        <p:spPr>
          <a:xfrm>
            <a:off x="517680" y="366840"/>
            <a:ext cx="8899200" cy="736560"/>
          </a:xfrm>
          <a:custGeom>
            <a:avLst/>
            <a:gdLst>
              <a:gd name="textAreaLeft" fmla="*/ 0 w 8899200"/>
              <a:gd name="textAreaRight" fmla="*/ 8899560 w 88992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5116" h="464">
                <a:moveTo>
                  <a:pt x="3" y="417"/>
                </a:moveTo>
                <a:cubicBezTo>
                  <a:pt x="1" y="415"/>
                  <a:pt x="1" y="69"/>
                  <a:pt x="0" y="70"/>
                </a:cubicBezTo>
                <a:cubicBezTo>
                  <a:pt x="1" y="15"/>
                  <a:pt x="31" y="0"/>
                  <a:pt x="70" y="4"/>
                </a:cubicBezTo>
                <a:cubicBezTo>
                  <a:pt x="2557" y="0"/>
                  <a:pt x="5068" y="4"/>
                  <a:pt x="5067" y="6"/>
                </a:cubicBezTo>
                <a:cubicBezTo>
                  <a:pt x="5116" y="6"/>
                  <a:pt x="5113" y="94"/>
                  <a:pt x="5067" y="94"/>
                </a:cubicBezTo>
                <a:cubicBezTo>
                  <a:pt x="5065" y="91"/>
                  <a:pt x="207" y="93"/>
                  <a:pt x="205" y="94"/>
                </a:cubicBezTo>
                <a:cubicBezTo>
                  <a:pt x="160" y="94"/>
                  <a:pt x="138" y="103"/>
                  <a:pt x="114" y="154"/>
                </a:cubicBezTo>
                <a:cubicBezTo>
                  <a:pt x="66" y="285"/>
                  <a:pt x="24" y="405"/>
                  <a:pt x="19" y="417"/>
                </a:cubicBezTo>
                <a:cubicBezTo>
                  <a:pt x="4" y="464"/>
                  <a:pt x="3" y="417"/>
                  <a:pt x="3" y="417"/>
                </a:cubicBezTo>
                <a:close/>
              </a:path>
            </a:pathLst>
          </a:custGeom>
          <a:solidFill>
            <a:srgbClr val="c60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34452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679-094D-484D-9625-650EF7D3EDA9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7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88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C97-C317-4C53-B5F2-E71CF19A2454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CA6-CD7A-45E2-B750-163AF81394DF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0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57AE-EA79-4C70-82DA-86991869B87B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B60-D53C-4B43-AC56-D68990367D8B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3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8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7DA-E119-4ABC-A0B8-35457115F764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9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B7C-120A-4291-A48D-A1821D5F3469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6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0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749C-0586-4D82-9E59-28E49F19FA15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dt" idx="11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55B-174F-4097-AC1A-4EC671B5FF75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59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260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539-BBFB-41B0-948C-D7AA98D18042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dt" idx="13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47AE-F231-430D-AA88-185228CE88CA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2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4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6004-7C16-4E28-B789-9F9AD0AA5E66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15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0A6-F28F-49B4-9928-07EEEC617FAE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 flipH="1" flipV="1">
            <a:off x="343440" y="6031800"/>
            <a:ext cx="9288360" cy="492120"/>
          </a:xfrm>
          <a:custGeom>
            <a:avLst/>
            <a:gdLst>
              <a:gd name="textAreaLeft" fmla="*/ -360 w 9288360"/>
              <a:gd name="textAreaRight" fmla="*/ 9288360 w 928836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5" name="Picture 10" descr="canon_logo_new.jpg"/>
          <p:cNvPicPr/>
          <p:nvPr/>
        </p:nvPicPr>
        <p:blipFill>
          <a:blip r:embed="rId2"/>
          <a:stretch/>
        </p:blipFill>
        <p:spPr>
          <a:xfrm>
            <a:off x="272880" y="6119640"/>
            <a:ext cx="1141560" cy="238320"/>
          </a:xfrm>
          <a:prstGeom prst="rect">
            <a:avLst/>
          </a:prstGeom>
          <a:ln w="0">
            <a:noFill/>
          </a:ln>
        </p:spPr>
      </p:pic>
      <p:sp>
        <p:nvSpPr>
          <p:cNvPr id="346" name="Freeform 3"/>
          <p:cNvSpPr/>
          <p:nvPr/>
        </p:nvSpPr>
        <p:spPr>
          <a:xfrm>
            <a:off x="200160" y="115920"/>
            <a:ext cx="9432720" cy="492120"/>
          </a:xfrm>
          <a:custGeom>
            <a:avLst/>
            <a:gdLst/>
            <a:ahLst/>
            <a:rect l="l" t="t" r="r" b="b"/>
            <a:pathLst>
              <a:path w="5102" h="310">
                <a:moveTo>
                  <a:pt x="0" y="310"/>
                </a:moveTo>
                <a:cubicBezTo>
                  <a:pt x="15" y="271"/>
                  <a:pt x="92" y="75"/>
                  <a:pt x="93" y="76"/>
                </a:cubicBezTo>
                <a:cubicBezTo>
                  <a:pt x="111" y="29"/>
                  <a:pt x="137" y="0"/>
                  <a:pt x="204" y="0"/>
                </a:cubicBezTo>
                <a:cubicBezTo>
                  <a:pt x="2631" y="0"/>
                  <a:pt x="4082" y="0"/>
                  <a:pt x="510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Lucida Sans Unicode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6"/>
          </p:nvPr>
        </p:nvSpPr>
        <p:spPr>
          <a:xfrm>
            <a:off x="8624880" y="6484680"/>
            <a:ext cx="7905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60c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78D1-9B87-43ED-BCF0-2A876411A68A}" type="slidenum">
              <a:rPr b="0" lang="en-US" sz="800" spc="-1" strike="noStrike">
                <a:solidFill>
                  <a:srgbClr val="c60c3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dt" idx="17"/>
          </p:nvPr>
        </p:nvSpPr>
        <p:spPr>
          <a:xfrm>
            <a:off x="353880" y="6482880"/>
            <a:ext cx="171936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987-66C1-46AD-8E93-3A33DB4FFEFE}" type="datetime"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4880" y="2285640"/>
            <a:ext cx="95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Lucida Sans Unicode"/>
              </a:rPr>
              <a:t>Proposal combining H075 and H0175</a:t>
            </a:r>
            <a:br>
              <a:rPr sz="3600"/>
            </a:br>
            <a:br>
              <a:rPr sz="1600"/>
            </a:br>
            <a:r>
              <a:rPr b="1" lang="en-US" sz="3600" spc="-1" strike="noStrike">
                <a:solidFill>
                  <a:srgbClr val="cc0000"/>
                </a:solidFill>
                <a:latin typeface="Lucida Sans Unicode"/>
              </a:rPr>
              <a:t>Intra Mode Coding</a:t>
            </a:r>
            <a:endParaRPr b="1" lang="en-US" sz="36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155600" y="4149720"/>
            <a:ext cx="7594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Lucida Sans Unicode"/>
              </a:rPr>
              <a:t>JCT-VC 8</a:t>
            </a:r>
            <a:r>
              <a:rPr b="1" lang="en-US" sz="1600" spc="-1" strike="noStrike" baseline="30000">
                <a:solidFill>
                  <a:srgbClr val="7f7f7f"/>
                </a:solidFill>
                <a:latin typeface="Lucida Sans Unicode"/>
              </a:rPr>
              <a:t>th</a:t>
            </a:r>
            <a:r>
              <a:rPr b="1" lang="en-US" sz="1600" spc="-1" strike="noStrike">
                <a:solidFill>
                  <a:srgbClr val="7f7f7f"/>
                </a:solidFill>
                <a:latin typeface="Lucida Sans Unicode"/>
              </a:rPr>
              <a:t> Meeting, San Jose, February, 2012</a:t>
            </a:r>
            <a:endParaRPr b="0" lang="en-US" sz="1600" spc="-1" strike="noStrike">
              <a:solidFill>
                <a:srgbClr val="3333cc"/>
              </a:solidFill>
              <a:latin typeface="Lucida Sans Unicode"/>
            </a:endParaRPr>
          </a:p>
          <a:p>
            <a:pPr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45F-340E-439A-B519-58F32AAB649E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Proposal overview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Lucida Sans Unicode"/>
              </a:rPr>
              <a:t>Based on H0075 decoding tree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99"/>
                </a:solidFill>
                <a:latin typeface="Lucida Sans Unicode"/>
              </a:rPr>
              <a:t>35 modes for 4x4 PUs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Lucida Sans Unicode"/>
              </a:rPr>
              <a:t>3 MPMs - Planar is the 3rd MPM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99"/>
                </a:solidFill>
                <a:latin typeface="Lucida Sans Unicode"/>
              </a:rPr>
              <a:t>MPM sorting moved in remaining branch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marL="343080" indent="-34308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99"/>
                </a:solidFill>
                <a:latin typeface="Lucida Sans Unicode"/>
              </a:rPr>
              <a:t>Simplified mode numbering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DC=0, then angular indexes 1..33, Planar=3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62699"/>
                </a:solidFill>
                <a:latin typeface="Lucida Sans Unicode"/>
              </a:rPr>
              <a:t>Remove all contexts (including 1 context of HM5)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E6D-91BD-425C-9FC3-82271BE20F97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H0075 decoding tree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CDC-D155-440E-95AE-DD18F8A4CFD5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1712880" y="1484280"/>
          <a:ext cx="723096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484280"/>
                    <a:ext cx="72309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H0175 decoding tree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Lucida Sans Unicode"/>
              </a:rPr>
              <a:t>Insert Planar as a preferred (3rd MPM) mode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C63-F382-488E-8A55-11058ADC9D34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71" name="Object 3"/>
          <p:cNvGraphicFramePr/>
          <p:nvPr/>
        </p:nvGraphicFramePr>
        <p:xfrm>
          <a:off x="1136520" y="2060640"/>
          <a:ext cx="77709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060640"/>
                    <a:ext cx="77709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Move MPM sorting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B4B-A5B8-4257-AB48-89C7C64F31F9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78" name="Object 2"/>
          <p:cNvGraphicFramePr/>
          <p:nvPr/>
        </p:nvGraphicFramePr>
        <p:xfrm>
          <a:off x="1614600" y="1763640"/>
          <a:ext cx="585936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763640"/>
                    <a:ext cx="585936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Box 3"/>
          <p:cNvSpPr/>
          <p:nvPr/>
        </p:nvSpPr>
        <p:spPr>
          <a:xfrm>
            <a:off x="2941920" y="4572000"/>
            <a:ext cx="31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Lucida Sans Unicode"/>
              </a:rPr>
              <a:t>Figure from H0428, Qualcom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1424160" y="1643040"/>
            <a:ext cx="6553080" cy="3289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New mode numbering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65240" y="1052280"/>
            <a:ext cx="94932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Lucida Sans Unicode"/>
              </a:rPr>
              <a:t>Use simpler mode numbering based on angular indexes</a:t>
            </a:r>
            <a:endParaRPr b="0" lang="en-US" sz="24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DC=0, then angular indexes 1..33, Planar=3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2CC-B8E8-45A3-AA77-FED84EC91E78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Straight Connector 2"/>
          <p:cNvSpPr/>
          <p:nvPr/>
        </p:nvSpPr>
        <p:spPr>
          <a:xfrm>
            <a:off x="4952880" y="213372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89" name="Object 1"/>
          <p:cNvGraphicFramePr/>
          <p:nvPr/>
        </p:nvGraphicFramePr>
        <p:xfrm>
          <a:off x="920880" y="2205000"/>
          <a:ext cx="8208720" cy="38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2205000"/>
                    <a:ext cx="82087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Content Placeholder 2"/>
          <p:cNvSpPr/>
          <p:nvPr/>
        </p:nvSpPr>
        <p:spPr>
          <a:xfrm>
            <a:off x="165240" y="1052640"/>
            <a:ext cx="94932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Lucida Sans Unicode"/>
              </a:rPr>
              <a:t>Overall process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307800" y="1413000"/>
          <a:ext cx="9325080" cy="3825720"/>
        </p:xfrm>
        <a:graphic>
          <a:graphicData uri="http://schemas.openxmlformats.org/drawingml/2006/table">
            <a:tbl>
              <a:tblPr/>
              <a:tblGrid>
                <a:gridCol w="1548000"/>
                <a:gridCol w="3672000"/>
                <a:gridCol w="4105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HM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opos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left/top non available or not 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Left == Planar)         Left = 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Top == Planar)          Top  = 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p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Left &gt; 17)   Left = 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Top &gt; 17)    Top  = 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PMs deri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Top != Left) MPM0 = min(Top,Lef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PM1 = max(Top,Lef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PM0 = 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Top!=Planar)   MPM1 = To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               MPM1 = 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PM0 = 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Top != Left)            MPM1 = 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 if (Left != DC)        MPM1 = 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                        MPM1 = V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maining mode de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prev_intra)      mode = MPM[idx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ode = rem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MPM0&lt;= mode) mode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MPM1&lt;= mode) mode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prev_intra)             mode = MPM[idx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 if (planar_flag)       mode = 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MPM0&gt;MPM1)          swap MPM0 &amp; MPM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ode = rem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MPM0&lt;= mode)        mode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 (MPM1&lt;= mode)        mode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94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572-1128-4AB0-9440-FDD85B6749CA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Lucida Sans Unicode"/>
              </a:rPr>
              <a:t>Results</a:t>
            </a:r>
            <a:endParaRPr b="1" lang="en-US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65240" y="907920"/>
            <a:ext cx="9493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62699"/>
                </a:solidFill>
                <a:latin typeface="Lucida Sans Unicode"/>
              </a:rPr>
              <a:t>With H0175 numbering (DC 34, Planar 33, Angular 0..32)</a:t>
            </a:r>
            <a:endParaRPr b="0" lang="en-US" sz="22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Gain from contexts: 0.07% AIHE, 0.08% AIL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>
              <a:spcBef>
                <a:spcPts val="1800"/>
              </a:spcBef>
              <a:buClr>
                <a:srgbClr val="262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62699"/>
                </a:solidFill>
                <a:latin typeface="Lucida Sans Unicode"/>
              </a:rPr>
              <a:t>With adopted numbering (DC 0, Planar 34, Angular 1..33)</a:t>
            </a:r>
            <a:endParaRPr b="0" lang="en-US" sz="22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119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Cross-check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04080" indent="-214560">
              <a:spcBef>
                <a:spcPts val="349"/>
              </a:spcBef>
              <a:buClr>
                <a:srgbClr val="ff9900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Sans Unicode"/>
              </a:rPr>
              <a:t>H0597 – NEC (19 modes 4x4, Planar 33, DC 34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04080" indent="-214560">
              <a:spcBef>
                <a:spcPts val="349"/>
              </a:spcBef>
              <a:buClr>
                <a:srgbClr val="ff9900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Sans Unicode"/>
              </a:rPr>
              <a:t>H0717 – Huawei (35 modes 4x4, Planar 33, DC 34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spcBef>
                <a:spcPts val="349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7914-3975-4B19-B57E-6AD2464A2899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15800" y="1413000"/>
          <a:ext cx="9145800" cy="1511280"/>
        </p:xfrm>
        <a:graphic>
          <a:graphicData uri="http://schemas.openxmlformats.org/drawingml/2006/table">
            <a:tbl>
              <a:tblPr/>
              <a:tblGrid>
                <a:gridCol w="1079640"/>
                <a:gridCol w="739800"/>
                <a:gridCol w="824040"/>
                <a:gridCol w="825480"/>
                <a:gridCol w="707760"/>
                <a:gridCol w="814680"/>
                <a:gridCol w="823680"/>
                <a:gridCol w="824040"/>
                <a:gridCol w="825480"/>
                <a:gridCol w="849240"/>
                <a:gridCol w="831960"/>
              </a:tblGrid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-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-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C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15800" y="4095720"/>
          <a:ext cx="9145800" cy="1133640"/>
        </p:xfrm>
        <a:graphic>
          <a:graphicData uri="http://schemas.openxmlformats.org/drawingml/2006/table">
            <a:tbl>
              <a:tblPr/>
              <a:tblGrid>
                <a:gridCol w="1079640"/>
                <a:gridCol w="739800"/>
                <a:gridCol w="824040"/>
                <a:gridCol w="825480"/>
                <a:gridCol w="707760"/>
                <a:gridCol w="814680"/>
                <a:gridCol w="823680"/>
                <a:gridCol w="824040"/>
                <a:gridCol w="825480"/>
                <a:gridCol w="849240"/>
                <a:gridCol w="831960"/>
              </a:tblGrid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-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-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20880" y="115560"/>
            <a:ext cx="8502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cc0000"/>
              </a:solidFill>
              <a:latin typeface="Lucida Sans Unicode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2681280" y="1265400"/>
          <a:ext cx="4863960" cy="187632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  <a:gridCol w="673200"/>
                <a:gridCol w="673200"/>
                <a:gridCol w="6728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2" name="Slide Number Placeholder 3"/>
          <p:cNvSpPr/>
          <p:nvPr/>
        </p:nvSpPr>
        <p:spPr>
          <a:xfrm>
            <a:off x="8624880" y="6485040"/>
            <a:ext cx="790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38A-FA5B-43A3-B286-25B558233C6D}" type="slidenum">
              <a:rPr b="0" lang="en-US" sz="800" spc="-1" strike="noStrike">
                <a:solidFill>
                  <a:srgbClr val="c60c30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681280" y="3568680"/>
          <a:ext cx="4863960" cy="187632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  <a:gridCol w="673200"/>
                <a:gridCol w="673200"/>
                <a:gridCol w="6728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4" name="TextBox 7"/>
          <p:cNvSpPr/>
          <p:nvPr/>
        </p:nvSpPr>
        <p:spPr>
          <a:xfrm>
            <a:off x="614880" y="19890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2 contex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TextBox 8"/>
          <p:cNvSpPr/>
          <p:nvPr/>
        </p:nvSpPr>
        <p:spPr>
          <a:xfrm>
            <a:off x="599400" y="4335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No contex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2:06:28Z</dcterms:created>
  <dc:creator>Herve Dias</dc:creator>
  <dc:description/>
  <cp:keywords>YEARLY RATE REVENUE SGA TRANSFERT PRICE</cp:keywords>
  <dc:language>en-US</dc:language>
  <cp:lastModifiedBy>FRANCOIS Edouard</cp:lastModifiedBy>
  <dcterms:modified xsi:type="dcterms:W3CDTF">2012-02-05T04:06:44Z</dcterms:modified>
  <cp:revision>1253</cp:revision>
  <dc:subject>TP Transfert Price Yearly Rate</dc:subject>
  <dc:title>CRF Transfert Price Policy</dc:title>
</cp:coreProperties>
</file>