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13800" y="659772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0148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FA7-F5FC-417C-A909-57AB0776470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1920" y="16020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0148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0360" y="2069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10 Subtest 4: Deblocking filter using adaptive weighting factor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09280" y="293220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nn-Kathrin Seifert,Thomas Wedi, Matthias Narrosch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99960" y="6497640"/>
            <a:ext cx="510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th JCT-VC meeting, San José, 01.-10. February 201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bjective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114440" y="34243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84200" y="5516640"/>
            <a:ext cx="36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M5.0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4932360" y="5516640"/>
            <a:ext cx="36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CTVC-H0148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979640" y="836640"/>
            <a:ext cx="51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ketballDrill, RA HE, QP42, Frame 107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43" name="Picture 10" descr="BasketballDrill_RA_HE_QP42_frame107_HM5x"/>
          <p:cNvPicPr/>
          <p:nvPr/>
        </p:nvPicPr>
        <p:blipFill>
          <a:blip r:embed="rId1">
            <a:lum contrast="6000"/>
          </a:blip>
          <a:srcRect l="0" t="17014" r="37678" b="0"/>
          <a:stretch/>
        </p:blipFill>
        <p:spPr>
          <a:xfrm>
            <a:off x="324000" y="1557360"/>
            <a:ext cx="4176720" cy="390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BasketballDrill_RA_HE_QP42_frame107_AD"/>
          <p:cNvPicPr/>
          <p:nvPr/>
        </p:nvPicPr>
        <p:blipFill>
          <a:blip r:embed="rId2">
            <a:lum contrast="6000"/>
          </a:blip>
          <a:srcRect l="0" t="17794" r="37678" b="0"/>
          <a:stretch/>
        </p:blipFill>
        <p:spPr>
          <a:xfrm>
            <a:off x="4645080" y="1557360"/>
            <a:ext cx="4174920" cy="3903480"/>
          </a:xfrm>
          <a:prstGeom prst="rect">
            <a:avLst/>
          </a:prstGeom>
          <a:ln w="0">
            <a:noFill/>
          </a:ln>
        </p:spPr>
      </p:pic>
      <p:sp>
        <p:nvSpPr>
          <p:cNvPr id="145" name="Oval 13"/>
          <p:cNvSpPr/>
          <p:nvPr/>
        </p:nvSpPr>
        <p:spPr>
          <a:xfrm>
            <a:off x="1690560" y="1989000"/>
            <a:ext cx="2160720" cy="260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6012000" y="1989000"/>
            <a:ext cx="2160360" cy="260856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adaptive weighting factors in the deblocking filter to adapt to varying sign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weighting factors by minimization of mean squared reconstruction error for subjective importa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and transmission of estimated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compared to HM5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ibly improved su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me o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me run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CD/WD and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2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locking filter using adaptive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imation of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Deblocking filter according to HM4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blocking of a reconstructed sample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alue by which a sample value is modifi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generated by a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xe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=&gt; No adaptation to varying signal statistic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5789520" y="644400"/>
                <a:ext cx="428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894040" y="1447920"/>
                <a:ext cx="1950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669960" y="2325600"/>
                <a:ext cx="46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379440" y="4375080"/>
                <a:ext cx="46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locking filter using adaptive weighting facto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ation to varying signal statistics by adaptive weighting factor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minance: Individual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ong and weak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tance to block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rominances: No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2843280" y="2060640"/>
                <a:ext cx="239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AutoShape 8"/>
          <p:cNvSpPr/>
          <p:nvPr/>
        </p:nvSpPr>
        <p:spPr>
          <a:xfrm>
            <a:off x="4376880" y="4292640"/>
            <a:ext cx="287280" cy="649080"/>
          </a:xfrm>
          <a:custGeom>
            <a:avLst/>
            <a:gdLst>
              <a:gd name="textAreaLeft" fmla="*/ 0 w 287280"/>
              <a:gd name="textAreaRight" fmla="*/ 103680 w 287280"/>
              <a:gd name="textAreaTop" fmla="*/ 14760 h 649080"/>
              <a:gd name="textAreaBottom" fmla="*/ 634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0"/>
                  <a:pt x="10800" y="1599"/>
                </a:cubicBezTo>
                <a:lnTo>
                  <a:pt x="10800" y="9201"/>
                </a:lnTo>
                <a:cubicBezTo>
                  <a:pt x="10800" y="10001"/>
                  <a:pt x="16200" y="10800"/>
                  <a:pt x="21600" y="10800"/>
                </a:cubicBezTo>
                <a:cubicBezTo>
                  <a:pt x="16200" y="10800"/>
                  <a:pt x="10800" y="11600"/>
                  <a:pt x="10800" y="12399"/>
                </a:cubicBezTo>
                <a:lnTo>
                  <a:pt x="10800" y="20001"/>
                </a:lnTo>
                <a:cubicBezTo>
                  <a:pt x="10800" y="208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799160" y="4449600"/>
            <a:ext cx="324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tal: 5 weighting factors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1476360" y="1135080"/>
                <a:ext cx="393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imation of weighting fact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" y="73800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tion of MSE for subjectively important s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ly important samples are def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908000" y="1344600"/>
                <a:ext cx="5040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203040" y="3933720"/>
                <a:ext cx="8893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517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203040" y="4630680"/>
                <a:ext cx="8893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Rectangle 17"/>
          <p:cNvSpPr/>
          <p:nvPr/>
        </p:nvSpPr>
        <p:spPr>
          <a:xfrm>
            <a:off x="4572000" y="51958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6"/>
              <p:cNvSpPr txBox="1"/>
              <p:nvPr/>
            </p:nvSpPr>
            <p:spPr>
              <a:xfrm>
                <a:off x="196920" y="5372280"/>
                <a:ext cx="2143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Box 1"/>
          <p:cNvSpPr/>
          <p:nvPr/>
        </p:nvSpPr>
        <p:spPr>
          <a:xfrm>
            <a:off x="2484360" y="53690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=&gt; Considered as subjectively important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ding of estimated weighting fact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ation with step size of 1/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ing of the 5 quantized weighting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arithmetic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bjective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3840" y="981000"/>
          <a:ext cx="8138880" cy="5135760"/>
        </p:xfrm>
        <a:graphic>
          <a:graphicData uri="http://schemas.openxmlformats.org/drawingml/2006/table">
            <a:tbl>
              <a:tblPr/>
              <a:tblGrid>
                <a:gridCol w="1779480"/>
                <a:gridCol w="1339920"/>
                <a:gridCol w="1063440"/>
                <a:gridCol w="1978200"/>
                <a:gridCol w="1977840"/>
              </a:tblGrid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Configuration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es A-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F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 10bit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d5d6e5"/>
                    </a:solidFill>
                  </a:tcPr>
                </a:tc>
              </a:tr>
              <a:tr h="391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bjective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611280" y="5570640"/>
            <a:ext cx="365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M5.0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22920" y="5570640"/>
            <a:ext cx="365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CTVC-H0148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95640" y="836640"/>
            <a:ext cx="455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tus, LD HE, QP42, Frame 269</a:t>
            </a:r>
            <a:r>
              <a:rPr b="1" lang="de-DE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23" name="Group 17"/>
          <p:cNvGrpSpPr/>
          <p:nvPr/>
        </p:nvGrpSpPr>
        <p:grpSpPr>
          <a:xfrm>
            <a:off x="220680" y="1533600"/>
            <a:ext cx="4280040" cy="3943440"/>
            <a:chOff x="220680" y="1533600"/>
            <a:chExt cx="4280040" cy="3943440"/>
          </a:xfrm>
        </p:grpSpPr>
        <p:pic>
          <p:nvPicPr>
            <p:cNvPr id="124" name="Picture 13" descr="Cactus_LD_HE_QP42_frame269_HM5x"/>
            <p:cNvPicPr/>
            <p:nvPr/>
          </p:nvPicPr>
          <p:blipFill>
            <a:blip r:embed="rId1"/>
            <a:srcRect l="0" t="0" r="11435" b="0"/>
            <a:stretch/>
          </p:blipFill>
          <p:spPr>
            <a:xfrm>
              <a:off x="220680" y="1533600"/>
              <a:ext cx="428004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14"/>
            <p:cNvSpPr/>
            <p:nvPr/>
          </p:nvSpPr>
          <p:spPr>
            <a:xfrm>
              <a:off x="757440" y="1846440"/>
              <a:ext cx="3332160" cy="3527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4626000" y="1533600"/>
            <a:ext cx="4255920" cy="3943440"/>
            <a:chOff x="4626000" y="1533600"/>
            <a:chExt cx="4255920" cy="3943440"/>
          </a:xfrm>
        </p:grpSpPr>
        <p:pic>
          <p:nvPicPr>
            <p:cNvPr id="127" name="Picture 15" descr="Cactus_LD_HE_QP42_frame269_AD"/>
            <p:cNvPicPr/>
            <p:nvPr/>
          </p:nvPicPr>
          <p:blipFill>
            <a:blip r:embed="rId2"/>
            <a:srcRect l="0" t="0" r="11928" b="0"/>
            <a:stretch/>
          </p:blipFill>
          <p:spPr>
            <a:xfrm>
              <a:off x="4626000" y="1533600"/>
              <a:ext cx="4255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Oval 16"/>
            <p:cNvSpPr/>
            <p:nvPr/>
          </p:nvSpPr>
          <p:spPr>
            <a:xfrm>
              <a:off x="5148360" y="1844640"/>
              <a:ext cx="3332160" cy="352764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6" descr="RaceHorses_LD_HE_QP42_frame218_AD"/>
          <p:cNvPicPr/>
          <p:nvPr/>
        </p:nvPicPr>
        <p:blipFill>
          <a:blip r:embed="rId1"/>
          <a:srcRect l="840" t="1746" r="0" b="0"/>
          <a:stretch/>
        </p:blipFill>
        <p:spPr>
          <a:xfrm>
            <a:off x="4643280" y="1452600"/>
            <a:ext cx="4330800" cy="392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RaceHorses_LD_HE_QP42_frame218_HM5x"/>
          <p:cNvPicPr/>
          <p:nvPr/>
        </p:nvPicPr>
        <p:blipFill>
          <a:blip r:embed="rId2"/>
          <a:stretch/>
        </p:blipFill>
        <p:spPr>
          <a:xfrm>
            <a:off x="249120" y="1503360"/>
            <a:ext cx="4322880" cy="387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bjective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114440" y="34243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84200" y="5516640"/>
            <a:ext cx="36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M5.0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932360" y="5516640"/>
            <a:ext cx="36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CTVC-H0148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979640" y="836640"/>
            <a:ext cx="51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Horses, LD HE, QP42, Frame 218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971640" y="1989000"/>
            <a:ext cx="2160360" cy="260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5435640" y="1989000"/>
            <a:ext cx="2160720" cy="260856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 Narroschke</cp:lastModifiedBy>
  <dcterms:modified xsi:type="dcterms:W3CDTF">2012-02-02T20:16:06Z</dcterms:modified>
  <cp:revision>1726</cp:revision>
  <dc:subject/>
  <dc:title>Deblocking filter using adaptive weighting factors</dc:title>
</cp:coreProperties>
</file>