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AD3-4954-424A-B9E4-483FFAD16EEF}" type="datetime5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F9F0-91EF-45B7-AB2E-FC845C2A29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0AA6-4892-4ECA-BD3D-51E0FBCD02B6}" type="datetime5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Jul 29, 2026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FB2-9405-4D26-AF40-C8C9377F96EF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808040" y="659772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H0146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6F4D-3109-460A-A856-955187A5CDF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1920" y="160200"/>
            <a:ext cx="132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H0146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E10.3: Simplified delta calculation in the deblocking filter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09280" y="293220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Anand Kotra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999960" y="6497640"/>
            <a:ext cx="510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8th JCT-VC meeting, San José, 01.-10. February 2012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mplified delta calculation in the weak deblocking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HM-5.0 Deblocking weak fil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Calculation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Dec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Decisions whether to filter outer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4265640" y="782640"/>
                <a:ext cx="4383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2843280" y="1268280"/>
                <a:ext cx="107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"/>
              <p:cNvSpPr txBox="1"/>
              <p:nvPr/>
            </p:nvSpPr>
            <p:spPr>
              <a:xfrm>
                <a:off x="4259160" y="2824200"/>
                <a:ext cx="2116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1042920" y="2824200"/>
                <a:ext cx="2181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1168560" y="2254320"/>
                <a:ext cx="2201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84"/>
              <p:cNvSpPr txBox="1"/>
              <p:nvPr/>
            </p:nvSpPr>
            <p:spPr>
              <a:xfrm>
                <a:off x="237960" y="4670280"/>
                <a:ext cx="6169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5"/>
              <p:cNvSpPr txBox="1"/>
              <p:nvPr/>
            </p:nvSpPr>
            <p:spPr>
              <a:xfrm>
                <a:off x="237960" y="5376960"/>
                <a:ext cx="60627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86"/>
              <p:cNvSpPr txBox="1"/>
              <p:nvPr/>
            </p:nvSpPr>
            <p:spPr>
              <a:xfrm>
                <a:off x="6772320" y="4653000"/>
                <a:ext cx="22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87"/>
              <p:cNvSpPr txBox="1"/>
              <p:nvPr/>
            </p:nvSpPr>
            <p:spPr>
              <a:xfrm>
                <a:off x="6827760" y="5373720"/>
                <a:ext cx="21639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Line 68"/>
          <p:cNvSpPr/>
          <p:nvPr/>
        </p:nvSpPr>
        <p:spPr>
          <a:xfrm>
            <a:off x="4140360" y="1212840"/>
            <a:ext cx="45082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" name="Line 68"/>
          <p:cNvSpPr/>
          <p:nvPr/>
        </p:nvSpPr>
        <p:spPr>
          <a:xfrm>
            <a:off x="2843280" y="170028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" name="Line 68"/>
          <p:cNvSpPr/>
          <p:nvPr/>
        </p:nvSpPr>
        <p:spPr>
          <a:xfrm>
            <a:off x="1128600" y="2643120"/>
            <a:ext cx="22417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" name="Line 68"/>
          <p:cNvSpPr/>
          <p:nvPr/>
        </p:nvSpPr>
        <p:spPr>
          <a:xfrm>
            <a:off x="237960" y="5070600"/>
            <a:ext cx="61693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" name="Line 68"/>
          <p:cNvSpPr/>
          <p:nvPr/>
        </p:nvSpPr>
        <p:spPr>
          <a:xfrm>
            <a:off x="250920" y="5805360"/>
            <a:ext cx="617040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3632040" y="1312920"/>
            <a:ext cx="2530800" cy="820800"/>
          </a:xfrm>
          <a:custGeom>
            <a:avLst/>
            <a:gdLst/>
            <a:ahLst/>
            <a:rect l="l" t="t" r="r" b="b"/>
            <a:pathLst>
              <a:path w="2530257" h="819295">
                <a:moveTo>
                  <a:pt x="2530257" y="0"/>
                </a:moveTo>
                <a:cubicBezTo>
                  <a:pt x="2227544" y="361167"/>
                  <a:pt x="1924832" y="722334"/>
                  <a:pt x="1503123" y="801665"/>
                </a:cubicBezTo>
                <a:cubicBezTo>
                  <a:pt x="1081414" y="880996"/>
                  <a:pt x="540707" y="678492"/>
                  <a:pt x="0" y="475989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" name="Freeform 5"/>
          <p:cNvSpPr/>
          <p:nvPr/>
        </p:nvSpPr>
        <p:spPr>
          <a:xfrm>
            <a:off x="3406680" y="1754280"/>
            <a:ext cx="352440" cy="825480"/>
          </a:xfrm>
          <a:custGeom>
            <a:avLst/>
            <a:gdLst/>
            <a:ahLst/>
            <a:rect l="l" t="t" r="r" b="b"/>
            <a:pathLst>
              <a:path w="352147" h="826718">
                <a:moveTo>
                  <a:pt x="100209" y="0"/>
                </a:moveTo>
                <a:cubicBezTo>
                  <a:pt x="233819" y="194153"/>
                  <a:pt x="367430" y="388307"/>
                  <a:pt x="350729" y="526093"/>
                </a:cubicBezTo>
                <a:cubicBezTo>
                  <a:pt x="334028" y="663879"/>
                  <a:pt x="167014" y="745298"/>
                  <a:pt x="0" y="826718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3444840" y="2630520"/>
            <a:ext cx="4357800" cy="2405160"/>
          </a:xfrm>
          <a:custGeom>
            <a:avLst/>
            <a:gdLst/>
            <a:ahLst/>
            <a:rect l="l" t="t" r="r" b="b"/>
            <a:pathLst>
              <a:path w="4357991" h="2404997">
                <a:moveTo>
                  <a:pt x="0" y="0"/>
                </a:moveTo>
                <a:lnTo>
                  <a:pt x="4208745" y="200416"/>
                </a:lnTo>
                <a:cubicBezTo>
                  <a:pt x="4709786" y="601249"/>
                  <a:pt x="3858016" y="1503123"/>
                  <a:pt x="3006246" y="2404997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03280" y="60530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Dependencies =&gt; Long critical path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implification of weak fil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Calculation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Dec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Decisions whether to filter outer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: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4265640" y="782640"/>
                <a:ext cx="4383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2843280" y="1268280"/>
                <a:ext cx="1079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"/>
              <p:cNvSpPr txBox="1"/>
              <p:nvPr/>
            </p:nvSpPr>
            <p:spPr>
              <a:xfrm>
                <a:off x="4259160" y="2824200"/>
                <a:ext cx="2116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1042920" y="2824200"/>
                <a:ext cx="2181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168560" y="2254320"/>
                <a:ext cx="2201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4"/>
              <p:cNvSpPr txBox="1"/>
              <p:nvPr/>
            </p:nvSpPr>
            <p:spPr>
              <a:xfrm>
                <a:off x="237960" y="4670280"/>
                <a:ext cx="61693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85"/>
              <p:cNvSpPr txBox="1"/>
              <p:nvPr/>
            </p:nvSpPr>
            <p:spPr>
              <a:xfrm>
                <a:off x="237960" y="5376960"/>
                <a:ext cx="60627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  <m:sSub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&gt;&gt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sSub>
                              <m:e>
                                <m:r>
                                  <m:t xml:space="preserve">1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86"/>
              <p:cNvSpPr txBox="1"/>
              <p:nvPr/>
            </p:nvSpPr>
            <p:spPr>
              <a:xfrm>
                <a:off x="6772320" y="4653000"/>
                <a:ext cx="2249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7"/>
              <p:cNvSpPr txBox="1"/>
              <p:nvPr/>
            </p:nvSpPr>
            <p:spPr>
              <a:xfrm>
                <a:off x="6827760" y="5373720"/>
                <a:ext cx="21639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sSubSup>
                      <m:e>
                        <m:r>
                          <m:t xml:space="preserve">1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TextBox 7"/>
          <p:cNvSpPr/>
          <p:nvPr/>
        </p:nvSpPr>
        <p:spPr>
          <a:xfrm>
            <a:off x="1403280" y="587700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b05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b050"/>
                </a:solidFill>
                <a:latin typeface="Arial"/>
              </a:rPr>
              <a:t>Parallel filtering of p0,p1,q0,q1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b050"/>
                </a:solidFill>
                <a:latin typeface="Arial"/>
              </a:rPr>
              <a:t>Shorter critical path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Straight Connector 20"/>
          <p:cNvSpPr/>
          <p:nvPr/>
        </p:nvSpPr>
        <p:spPr>
          <a:xfrm>
            <a:off x="5364000" y="4581360"/>
            <a:ext cx="432000" cy="576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" name="Straight Connector 25"/>
          <p:cNvSpPr/>
          <p:nvPr/>
        </p:nvSpPr>
        <p:spPr>
          <a:xfrm flipV="1">
            <a:off x="5364000" y="4581000"/>
            <a:ext cx="432000" cy="576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" name="Straight Connector 26"/>
          <p:cNvSpPr/>
          <p:nvPr/>
        </p:nvSpPr>
        <p:spPr>
          <a:xfrm>
            <a:off x="5219640" y="5300640"/>
            <a:ext cx="432000" cy="576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" name="Straight Connector 27"/>
          <p:cNvSpPr/>
          <p:nvPr/>
        </p:nvSpPr>
        <p:spPr>
          <a:xfrm flipV="1">
            <a:off x="5219640" y="5300280"/>
            <a:ext cx="432000" cy="576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" name="Line 68"/>
          <p:cNvSpPr/>
          <p:nvPr/>
        </p:nvSpPr>
        <p:spPr>
          <a:xfrm>
            <a:off x="4140360" y="1212840"/>
            <a:ext cx="45082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" name="Line 68"/>
          <p:cNvSpPr/>
          <p:nvPr/>
        </p:nvSpPr>
        <p:spPr>
          <a:xfrm>
            <a:off x="2843280" y="170028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" name="Line 68"/>
          <p:cNvSpPr/>
          <p:nvPr/>
        </p:nvSpPr>
        <p:spPr>
          <a:xfrm>
            <a:off x="1128600" y="2643120"/>
            <a:ext cx="22417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" name="Freeform 31"/>
          <p:cNvSpPr/>
          <p:nvPr/>
        </p:nvSpPr>
        <p:spPr>
          <a:xfrm>
            <a:off x="3632040" y="1312920"/>
            <a:ext cx="2530800" cy="820800"/>
          </a:xfrm>
          <a:custGeom>
            <a:avLst/>
            <a:gdLst/>
            <a:ahLst/>
            <a:rect l="l" t="t" r="r" b="b"/>
            <a:pathLst>
              <a:path w="2530257" h="819295">
                <a:moveTo>
                  <a:pt x="2530257" y="0"/>
                </a:moveTo>
                <a:cubicBezTo>
                  <a:pt x="2227544" y="361167"/>
                  <a:pt x="1924832" y="722334"/>
                  <a:pt x="1503123" y="801665"/>
                </a:cubicBezTo>
                <a:cubicBezTo>
                  <a:pt x="1081414" y="880996"/>
                  <a:pt x="540707" y="678492"/>
                  <a:pt x="0" y="475989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" name="Freeform 32"/>
          <p:cNvSpPr/>
          <p:nvPr/>
        </p:nvSpPr>
        <p:spPr>
          <a:xfrm>
            <a:off x="3406680" y="1754280"/>
            <a:ext cx="352440" cy="825480"/>
          </a:xfrm>
          <a:custGeom>
            <a:avLst/>
            <a:gdLst/>
            <a:ahLst/>
            <a:rect l="l" t="t" r="r" b="b"/>
            <a:pathLst>
              <a:path w="352147" h="826718">
                <a:moveTo>
                  <a:pt x="100209" y="0"/>
                </a:moveTo>
                <a:cubicBezTo>
                  <a:pt x="233819" y="194153"/>
                  <a:pt x="367430" y="388307"/>
                  <a:pt x="350729" y="526093"/>
                </a:cubicBezTo>
                <a:cubicBezTo>
                  <a:pt x="334028" y="663879"/>
                  <a:pt x="167014" y="745298"/>
                  <a:pt x="0" y="826718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47600" y="754200"/>
          <a:ext cx="8745480" cy="4908240"/>
        </p:xfrm>
        <a:graphic>
          <a:graphicData uri="http://schemas.openxmlformats.org/drawingml/2006/table">
            <a:tbl>
              <a:tblPr/>
              <a:tblGrid>
                <a:gridCol w="1986120"/>
                <a:gridCol w="927000"/>
                <a:gridCol w="934920"/>
                <a:gridCol w="936720"/>
                <a:gridCol w="1944720"/>
                <a:gridCol w="2016000"/>
              </a:tblGrid>
              <a:tr h="96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BD-Bit rate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En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e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-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7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-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-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-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-HE 1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-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-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-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-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5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mplified delta calculation in weak deblocking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compared to HM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horter critical path by increased parallel processin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ss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milar coding efficiency in average over all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milar subjectiv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oss checked by 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sion into CD/WD and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 Narroschke</cp:lastModifiedBy>
  <dcterms:modified xsi:type="dcterms:W3CDTF">2012-02-02T20:15:52Z</dcterms:modified>
  <cp:revision>1768</cp:revision>
  <dc:subject/>
  <dc:title>Deblocking filter using adaptive weighting factors</dc:title>
</cp:coreProperties>
</file>