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B97-ED35-458D-AA54-75CB592E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BA6-24E3-4976-BFAD-B25C905A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995-9B9E-4B0C-9B3D-30AEF93A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3D1-556B-4F68-BBD2-44014701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C54-BCF9-4D9D-88E3-FDD65B8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8C9-5CA6-48BD-9914-FBB1DAEE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5C9-C42B-4E02-A4A2-C6E6F1A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780-792F-40BE-A122-6511DD3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E81-3E7F-47A2-9021-ED45AF3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31A-73AA-400A-8EB3-9CA803C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930-F269-4A09-8301-BFF6194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3F2-A494-43AF-ABCD-485046F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-360"/>
            <a:ext cx="4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2ADC-9E6C-4CF3-82A7-0DFC6DC13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bjective and subjective evaluation of HM5.0</a:t>
            </a: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CTVC-H0116,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CTV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 Tan, A. Fujibayashi, Y. Suzuki &amp; J. Taki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T DOCOMO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10 February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D34-A131-4792-9619-593557A171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Informal subject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main indicative findings of the informal subjective test comparing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5.0 HE, HM5.0 LC+RDOQ+SAO and JM18.2*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HM5.0 HE and HM5.0 LC+RDOQ+SAO has achieved the target of 50% bitrate savings over JM18.2* and it is quite possible than the bitrate saving is even higher than 5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5.0 HE and HM5.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C+RDOQ+SAO at the same bitrate have the same subjective qua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2811600"/>
          <a:ext cx="8642160" cy="4002120"/>
        </p:xfrm>
        <a:graphic>
          <a:graphicData uri="http://schemas.openxmlformats.org/drawingml/2006/table">
            <a:tbl>
              <a:tblPr/>
              <a:tblGrid>
                <a:gridCol w="1346040"/>
                <a:gridCol w="1538280"/>
                <a:gridCol w="1724040"/>
                <a:gridCol w="1806480"/>
                <a:gridCol w="222732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# of observer votes received by a test case (combination of vot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# of test cases where the combination of votes occurr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umulative % where majority voted that HM5.0 HE at half the bitrate has a quality better than or equal to JM 18.2*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5.0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E at half the bitrate is better than JM 18.2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5.0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E at half the bitrate and JM 18.2* are compar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JM 18.2* is better than </a:t>
                      </a: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5.0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E at half the bit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5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6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8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E2F-57C1-408A-8553-A5F19EB5F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Formal subjective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main findings of the formal subjective test comparing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5.0 HE, HM5.0 LC+RDOQ+SAO and JM18.2* are: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OS vs. bitrate (see slides 20 to 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 all the test cases, the MOS scores assigned to HM HE and HM LC+RDOQ+SAO coded at comparable bitrates are not statistically distinguish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comparison to the corresponding JM bitstreams, except for the lower 3 bitrate points of "PartyScene", HM at half the bitrate or less (52% to 36%) achieves similar subjective quality to JM. (33/36 test poi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D-rate calculations from MOS vs. bitrate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verage BD-rate gains achieved by HM5.0 RA-HE and HM5.0 RA-LC+RDOQ+SAO compared to JM are 51.2% and 49.4%, respective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difference between HM5.0 RA-HE and HM5.0 RA-LC+RDOQ+RA is only 1.8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63640" y="3284640"/>
          <a:ext cx="5702400" cy="3490920"/>
        </p:xfrm>
        <a:graphic>
          <a:graphicData uri="http://schemas.openxmlformats.org/drawingml/2006/table">
            <a:tbl>
              <a:tblPr/>
              <a:tblGrid>
                <a:gridCol w="1660680"/>
                <a:gridCol w="1104840"/>
                <a:gridCol w="2117880"/>
                <a:gridCol w="819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RAHE vs J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RA LC+RDOQ+SAO vs. J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A) - 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68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6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6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67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Kimon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4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Park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5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2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2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8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5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4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ＭＳ 明朝"/>
                        </a:rPr>
                        <a:t>-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D0D-D8F7-46A5-80DD-7E764F7B7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following are concluded in this con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D-rate measures give a very rough indication of the actual performance gains achieved by HEVC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ometimes, subjective gains are not visible despite significant objective gains and vice-ver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t is recommended that subjective assessment should be the norm rather than the exception when accessing the performance of the HEV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random access coding structure, the formal subjective test confirmed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5.0 HE and HM5.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C+RDOQ+SAO at the same bitrate have the same subjective qua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5.0 at half the bitrate or less (52% to 36%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the same subjective quality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ared to JM18.2*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B9E-A7A4-4629-B07B-30654C1B67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F68-C1EE-452D-B5FB-4EE4D54AE7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lay B encoding with LC +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encoding time (100% = JM18.0 encoding time)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gains come from RDOQ (2.3%), ALF (2.0%) and SAO (1.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1428840"/>
            <a:ext cx="7200720" cy="54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0D8-1598-41C5-830A-A8DF4DA573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lay B decoding with LC +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decoding time (100% = JM18.0 decoding time)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oding time increase is mostly due to ALF and S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73080" y="1413000"/>
            <a:ext cx="719928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26E-6AB1-47C8-890A-820E8C2C7F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lay P encoding with LC +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encoding time (100% = JM18.0 encoding tim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 gains come from ALF (6.5%), SAO (5.5%) and RDOQ (1.3%)  out of 11.2% HE g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51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C78-9CA1-4D1E-9E88-9692023BB2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lay P decoding with LC +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decoding time (100% = JM18.0 decoding ti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oding time increase is mostly due to ALF and S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551-DE1C-4A2D-8A78-CF5B4C8AA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 only encoding with LC +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encoding time (100% = JM18.0 encoding ti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gains come from RDOQ (3.0%) and ALF (1.8%) out of 6.4% HE g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B48-6F53-467D-B8BA-907931B2F0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 only decoding with LC +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decoding time (100% = JM18.0 decoding ti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oding time increase is mostly due to A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551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84A-666D-443C-AD10-2C8E1F060E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bjective and subjective evaluation of HM5.0</a:t>
            </a:r>
            <a:r>
              <a:rPr b="0" lang="en-SG" sz="1800" spc="-1" strike="noStrike">
                <a:solidFill>
                  <a:srgbClr val="000000"/>
                </a:solidFill>
                <a:latin typeface="Arial"/>
              </a:rPr>
              <a:t> was cond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valuate the performance of HM5.0 compared to J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find a minimum tool 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Arial"/>
              </a:rPr>
              <a:t>The following steps were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600" spc="-1" strike="noStrike">
                <a:solidFill>
                  <a:srgbClr val="000000"/>
                </a:solidFill>
                <a:latin typeface="Arial"/>
              </a:rPr>
              <a:t>Objective evaluation of tools combi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was conducted for the common conditions in JCTVC-G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ombinations of LC + tools enabled in HE but not in LC were also simul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vs. Encoding / Decoding time were plot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 evaluation </a:t>
            </a:r>
            <a:r>
              <a:rPr b="0" lang="en-SG" sz="1600" spc="-1" strike="noStrike">
                <a:solidFill>
                  <a:srgbClr val="000000"/>
                </a:solidFill>
                <a:latin typeface="Arial"/>
              </a:rPr>
              <a:t>of tools combi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isual quality of the decoded sequences in the simulation were checked to see if the BD-rate improvements were observ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stering of tool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lection of minimum tool set for comparison to J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the objective and subjective evaluation of tools combinations, a clustering of the tools were m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minimum tool set of LC tools + RDOQ and SAO was selected as a good trade-off between coding performance and complex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 comparison between HM and J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l subjective testing (preliminary scree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l subjective tes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86E-19F9-4C03-8E18-D0DE48C2F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85D-DE72-4ADE-9FB3-37EF4974BB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A21-86BC-4E75-A818-0A96B0DDD1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1A3-BE86-47DC-B497-50192DF30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3DD-230D-4CD7-9603-B00116ECFB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785-580E-4DA1-9804-00EAE8236F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FBD-C052-420E-88E3-4D1C0DD9F6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A8C-9C2D-4CFF-98D9-40F2D7E516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64152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F92-E85F-410C-8433-5D11449D92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subjectiv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7DB-8A67-4144-8601-4F87718243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Objective Measure – Comm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5.0 coding structure and corresponding JM18.0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uma BD-rate gains of HM5.0 HE &amp; LC compared to the JM18.0 for the following coding condition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05040" y="1096920"/>
          <a:ext cx="4465440" cy="1444680"/>
        </p:xfrm>
        <a:graphic>
          <a:graphicData uri="http://schemas.openxmlformats.org/drawingml/2006/table">
            <a:tbl>
              <a:tblPr/>
              <a:tblGrid>
                <a:gridCol w="1984320"/>
                <a:gridCol w="2481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M coding 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JM configu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ndom Access (R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lpha anchor (IbBbBbBb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ow Delay B (L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eta* anchor (IPP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ow Delay P (L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eta* anchor (IPP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ll Intra (A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lpha anchor with all I only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435640" y="1143720"/>
            <a:ext cx="3457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pha and Beta anchors are the JM references used in the HVC call for propo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ta* anchor, represent the Beta anchor with the exception that there is no longer temporal nesting and all frames are reference 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71640" y="3716280"/>
          <a:ext cx="6923160" cy="927000"/>
        </p:xfrm>
        <a:graphic>
          <a:graphicData uri="http://schemas.openxmlformats.org/drawingml/2006/table">
            <a:tbl>
              <a:tblPr/>
              <a:tblGrid>
                <a:gridCol w="2054160"/>
                <a:gridCol w="1344600"/>
                <a:gridCol w="1174680"/>
                <a:gridCol w="1175040"/>
                <a:gridCol w="117468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andom Acc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ow Delay 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ow Delay 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ll Int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igh efficiency (H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35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41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37.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22.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ow delay (L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28.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34.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26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6.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0F1-FD78-49CA-AB1A-981D36095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bjective Measure - Summary of combination of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arious tools are added to the LC common conditions, the effects on BD-Rate (+ve is gains) are as follow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bjective gains are mostly contributed by RDOQ, ALF and to a lesser extent SA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access (cf. alpha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OQ (3.5%), ALF (2.6%) and SAO (0.8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B (cf. beta)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OQ (2.3%), ALF (2.0%) and SAO (1.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P (cf. beta)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F (6.4%), SAO (5.4%) and RDOQ (1.4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 only (cf AI alpha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OQ (4.2%) and ALF (1.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gether ALF and SAO account for most of the difference in decoding time between HE and L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 increases encoding time, but contribute marginally to the coding g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acces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 Time: +8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gains: 0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B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 Time: +1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gains: 0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P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 Time: +10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gains: 0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QT has negligible impact on encoding and decoding time, but contribute coding gains as fo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acces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gains: 0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B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gains: 0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ay P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gains: 0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021360"/>
            <a:ext cx="66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the BD-rate reported here are BD-rate LC+X – BD-rate LC with JM as the reference and X is one of {RDOQ, SAO, ALF, AMP or NSQT}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EC5-2D64-418B-BD01-63E50DC0B7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bjective Measure - RA encoding with LC +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encoding time (100% = JM18.0 encoding ti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gains come from RDOQ (3.5%), ALF (2.6%) and SAO (0.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1397160"/>
            <a:ext cx="7201080" cy="54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AB1-3FC3-4117-98C8-32CABFAFA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bjective Measure - RA decoding with LC +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tools are added to LC to see what their effects on BD-Rate (+ve is gains) and decoding time (100% = JM18.0 decoding ti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oding time increase is mostly due to ALF and S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7236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35280" y="2349360"/>
            <a:ext cx="2305080" cy="136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3860640"/>
            <a:ext cx="2305080" cy="1224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3500280"/>
            <a:ext cx="2305080" cy="201636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1AF-31F2-4D20-A17B-534B7E0C3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Subjective evaluation </a:t>
            </a:r>
            <a:r>
              <a:rPr b="0" lang="en-SG" sz="2800" spc="-1" strike="noStrike">
                <a:solidFill>
                  <a:srgbClr val="000000"/>
                </a:solidFill>
                <a:latin typeface="Arial"/>
              </a:rPr>
              <a:t>of tools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servations on the subjective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in observations found in this comparison ar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RDOQ can sometimes cause some noisiness in the subjective quality of the vid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SAO results in the visible improvement for some sequences especially BasketballDrill and Kimono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125360"/>
          <a:ext cx="8748720" cy="3105360"/>
        </p:xfrm>
        <a:graphic>
          <a:graphicData uri="http://schemas.openxmlformats.org/drawingml/2006/table">
            <a:tbl>
              <a:tblPr/>
              <a:tblGrid>
                <a:gridCol w="1444680"/>
                <a:gridCol w="3632040"/>
                <a:gridCol w="3672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oo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Observations - Random Acc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Observations – Low Delay 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me colour bleeding, aliasing, wobbling were observ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ome colour bleeding, aliasing, blockiness were observ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+RDO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imilar quality to LC. But artifact seems more pronounced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milar problems but seems to be worse than LC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+A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imilar quality to L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ome colour bleedings were slightly reduced but impact seems smal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milar quality to L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+SA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quality as HE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ame quality as HE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+ALF+SA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quality as H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ame quality as 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+RDOQ+A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imilar quality to LC + RDO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milar quality to LC or LC + RDOQ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C+RDOQ+SA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quality as H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ame quality as 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476-037A-44F8-B096-E3A172CB48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lusterin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620640"/>
          <a:ext cx="8229600" cy="5446800"/>
        </p:xfrm>
        <a:graphic>
          <a:graphicData uri="http://schemas.openxmlformats.org/drawingml/2006/table">
            <a:tbl>
              <a:tblPr/>
              <a:tblGrid>
                <a:gridCol w="1512720"/>
                <a:gridCol w="1135080"/>
                <a:gridCol w="1446480"/>
                <a:gridCol w="1244520"/>
                <a:gridCol w="1566720"/>
                <a:gridCol w="132408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ool clus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uster 0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DO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uster 1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MChro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uster 2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M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SQ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uster 3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uster 4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L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mpact on decoding ti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egligi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egligi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ow to medi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Hig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Objective Ga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BD-rate relative to BD-rate L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% to 4.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ostly chroma only 1.9% to 5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mall (less than 1.0% BD-rat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% to 5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7% to 6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ubjective improvem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an sometime cause some noisiness in the subjective qua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sible on some sequence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Drill and Kimono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ot visi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C75-205B-4AA8-BB35-71F4679DF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Subjective comparison between HM and 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 verify if the HM5.0 has achieved the 50% bitrate savings target compared to JM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decs are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M 18.2*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igh profile (modified JM18.2 described in JCTVC-H36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2) HM5.0 high efficiency (HM5.0 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3) HM5.0 low complexity with RDOQ and SAO (HM5.0 LC+RDOQ+S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andom access coding structure was used for all codecs as this was found to be the most efficient coding structu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bitrates (QP sel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 18.2*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streams are coded at QP = 27, 30, 33,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5.0 HE and HM5.0 LC+RDOQ+SAO bitstreams are coded at not more than half the bitrate of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 18.2*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streams. (QP = 31, 34, 37, 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 test sequenc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and Class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5524920"/>
            <a:ext cx="677412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152280" bIns="3816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authors wishes to than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University of Science and Technology of China and Microsoft Corp for providing the JM18.2*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E19-8307-42A4-98BA-948E024A7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3:25:21Z</dcterms:created>
  <dc:creator>tktan</dc:creator>
  <dc:description/>
  <dc:language>en-US</dc:language>
  <cp:lastModifiedBy>tktan</cp:lastModifiedBy>
  <dcterms:modified xsi:type="dcterms:W3CDTF">2012-02-04T21:50:13Z</dcterms:modified>
  <cp:revision>24</cp:revision>
  <dc:subject/>
  <dc:title>Random access encoding with LC + Tools</dc:title>
</cp:coreProperties>
</file>