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435-ECD7-4513-A81E-F58CA2E4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60A-5230-47B3-B70B-836E305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5DE-6A2F-4273-8F74-268E7B36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34D-29D3-480E-9869-77D59B97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750-6907-4005-B398-BDB5E9F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7B6-8966-4E4E-9C52-0A3FB2F8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BF76-7402-4FCD-8D5A-39FDC0F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1692-282A-415E-B34A-BFD134E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015C-077A-42D5-A9CF-53632B54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0D0-3F1C-4DEA-9287-5E305E4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BAC-7636-4D3C-9141-777E519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B0A9-2771-4D1C-98F4-AACC9E15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A3AB-EE69-4FE9-AD56-4A13CF4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3534-C218-488E-8A60-754DB2E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EB13-C335-4C67-A342-41089C9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6FA-4B37-46C9-AFFF-BB78803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82E7-8BC9-4179-830A-1FFC8515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648-A663-4387-9C9B-0432651C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BBFB-C46C-4C36-9A0E-7FE46371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0F14-FB2A-47E6-A033-A4E9803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59B5-271A-4FF1-99D8-5919F9B1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3DB-3727-41C3-8B44-36060DE5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E50C-2F35-443E-9E57-29E17498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98A0-5CA0-4BF9-BB1E-FFF2AC3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A7AF-BACF-41E0-A362-FD85281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C25B-DF33-475C-A780-EF866B2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F62E-814C-41E1-BBB9-5C9A90D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0147-3865-45AC-852D-38F1739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BA99-04B5-44B5-A256-47BDB17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5B6F-F4C6-43F0-BA2E-641D0EF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08DA-BE10-48F2-B904-3C5DC75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6E9-59FF-468C-B65F-791A4A6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30E-020F-4F95-9EB9-BC5D3C5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27D-93C2-40A5-8F9A-7C80E34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457-12D0-4349-839C-1ECBBE4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845-C3FE-4A67-AC15-37C0958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6AF-E897-4B4C-B993-1DE8B43E1156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CD4-2F69-45CF-9D71-A65F3B75B658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FAD-1C11-4D22-9985-6A675B2D55C9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49F5-54D8-4EA9-9707-867478BA3C4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CEA3-CC67-4BAF-91FE-12BE993C578E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C4D-5D62-4B55-B30A-6418B1370AC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On CABAC context for 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artition mod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H0099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8th Meeting: San José, CA, USA, 1–10 February,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yuki Yamamo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 for partition mode information (part_m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repancy in current WD/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 WD text to align with H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me context depends on previous bin value in the same synt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context of binIdx 2 and 3 of part_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in-syntax dependency, simpler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gnificant change in 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ross check by Qualcomm [H068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related contribution .. Qualcomm [H0545], Huawei/USTC [H032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solutio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044-35E1-4B1D-903B-9D16354890BC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narization of part_mo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849-705A-4D42-BAF1-90A5857D709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943280" y="1089000"/>
            <a:ext cx="5149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repancy of context for part_mo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スライド番号プレースホルダ 3"/>
          <p:cNvSpPr/>
          <p:nvPr/>
        </p:nvSpPr>
        <p:spPr>
          <a:xfrm>
            <a:off x="8204040" y="608328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989-B0E2-499A-A1A1-C4BABDAFB8DC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55640" y="1233360"/>
          <a:ext cx="7072200" cy="1419480"/>
        </p:xfrm>
        <a:graphic>
          <a:graphicData uri="http://schemas.openxmlformats.org/drawingml/2006/table">
            <a:tbl>
              <a:tblPr/>
              <a:tblGrid>
                <a:gridCol w="2160720"/>
                <a:gridCol w="655560"/>
                <a:gridCol w="877680"/>
                <a:gridCol w="540000"/>
                <a:gridCol w="539640"/>
                <a:gridCol w="879480"/>
                <a:gridCol w="878040"/>
                <a:gridCol w="541080"/>
              </a:tblGrid>
              <a:tr h="163080">
                <a:tc rowSpan="2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yntax elem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Table, 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Offse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gt;=4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 rowSpan="3">
                  <a:txBody>
                    <a:bodyPr lIns="77040" rIns="77040" tIns="10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7040" rIns="77040" tIns="1044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 rowSpan="2">
                  <a:txBody>
                    <a:bodyPr lIns="77040" rIns="77040" tIns="10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</a:t>
                      </a:r>
                      <a:br>
                        <a:rPr sz="10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cLog2CUSize = = Log2MinCUSize &amp;&amp; 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cLog2CUSize &gt; 3 | | inter_4x4_enabled_flag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7040" rIns="77040" tIns="1044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5640" y="3465360"/>
          <a:ext cx="7074000" cy="1765440"/>
        </p:xfrm>
        <a:graphic>
          <a:graphicData uri="http://schemas.openxmlformats.org/drawingml/2006/table">
            <a:tbl>
              <a:tblPr/>
              <a:tblGrid>
                <a:gridCol w="2160720"/>
                <a:gridCol w="657000"/>
                <a:gridCol w="878040"/>
                <a:gridCol w="539640"/>
                <a:gridCol w="539640"/>
                <a:gridCol w="879480"/>
                <a:gridCol w="879480"/>
                <a:gridCol w="540000"/>
              </a:tblGrid>
              <a:tr h="169200">
                <a:tc rowSpan="2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yntax elem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Table, 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Offse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gt;=4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">
                <a:tc rowSpan="3">
                  <a:txBody>
                    <a:bodyPr lIns="77040" rIns="77040" tIns="10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7040" rIns="77040" tIns="1044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91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(bin1 is 1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 (bin1 is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91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 (bin1 is 1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(bin1 is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91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(bin1 is 1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 (bin1 is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91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 (bin1 is 1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(bin1 is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">
                <a:tc rowSpan="2">
                  <a:txBody>
                    <a:bodyPr lIns="77040" rIns="77040" tIns="10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</a:t>
                      </a:r>
                      <a:br>
                        <a:rPr sz="10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cLog2CUSize = = Log2MinCUSize &amp;&amp; 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cLog2CUSize &gt; 3 | | inter_4x4_enabled_flag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7040" rIns="77040" tIns="1044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just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040" rIns="77040" tIns="10440" bIns="0" anchor="ctr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77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テキスト ボックス 6"/>
          <p:cNvSpPr/>
          <p:nvPr/>
        </p:nvSpPr>
        <p:spPr>
          <a:xfrm>
            <a:off x="611280" y="836640"/>
            <a:ext cx="12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D (G1203 d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7"/>
          <p:cNvSpPr/>
          <p:nvPr/>
        </p:nvSpPr>
        <p:spPr>
          <a:xfrm>
            <a:off x="611280" y="3106800"/>
            <a:ext cx="12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M-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8"/>
          <p:cNvSpPr/>
          <p:nvPr/>
        </p:nvSpPr>
        <p:spPr>
          <a:xfrm>
            <a:off x="2879640" y="5554800"/>
            <a:ext cx="5724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of binIdx 2 and 3 depends on bin value of binId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ssible solu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785520"/>
            <a:ext cx="8229600" cy="195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356400" indent="-2386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5960" indent="-259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 WD text to be aligned with 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5960" indent="-259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6400" indent="-2386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5960" indent="-259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context for binIdx 2 and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2FB-6D53-41CF-A544-3C8CD5711E2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34920" y="2997360"/>
          <a:ext cx="7191360" cy="1695240"/>
        </p:xfrm>
        <a:graphic>
          <a:graphicData uri="http://schemas.openxmlformats.org/drawingml/2006/table">
            <a:tbl>
              <a:tblPr/>
              <a:tblGrid>
                <a:gridCol w="2160720"/>
                <a:gridCol w="679320"/>
                <a:gridCol w="911520"/>
                <a:gridCol w="539640"/>
                <a:gridCol w="539640"/>
                <a:gridCol w="911160"/>
                <a:gridCol w="909720"/>
                <a:gridCol w="539640"/>
              </a:tblGrid>
              <a:tr h="163440">
                <a:tc rowSpan="2"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yntax elem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Table, 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xIdxOffse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gt;=4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rowSpan="3">
                  <a:txBody>
                    <a:bodyPr lIns="79920" rIns="7992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rowSpan="2">
                  <a:txBody>
                    <a:bodyPr lIns="79920" rIns="7992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_mode</a:t>
                      </a:r>
                      <a:br>
                        <a:rPr sz="10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cLog2CUSize = = Log2MinCUSize &amp;&amp; 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cLog2CUSize &gt; 3 | | inter_4x4_enabled_flag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able 9‑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just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920" rIns="79920" tIns="10800" bIns="0" anchor="t">
                      <a:noAutofit/>
                    </a:bodyPr>
                    <a:p>
                      <a:pPr algn="ctr">
                        <a:lnSpc>
                          <a:spcPts val="1712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920" marR="79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ding efficiency of solution 2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31B6-7BCE-4DE2-A5C2-C3427254C22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09080" cy="2589120"/>
          </a:xfrm>
          <a:prstGeom prst="rect">
            <a:avLst/>
          </a:prstGeom>
          <a:ln w="0">
            <a:noFill/>
          </a:ln>
        </p:spPr>
      </p:pic>
      <p:sp>
        <p:nvSpPr>
          <p:cNvPr id="190" name="テキスト ボックス 5"/>
          <p:cNvSpPr/>
          <p:nvPr/>
        </p:nvSpPr>
        <p:spPr>
          <a:xfrm>
            <a:off x="4967280" y="3933720"/>
            <a:ext cx="3421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Changes only affect when AMP is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 for partition mode information (part_m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repancy in current WD/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 WD text to align with H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me context depends on previous bin value in the same synt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context of binIdx 2 and 3 of part_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in-syntax dependency, simpler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gnificant change in 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ross check by Qualcomm [H068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related contribution .. Qualcomm [H0545], Huawei/USTC [H032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solutio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AC0-99E1-4613-B986-4E78A3761EB9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7342</cp:lastModifiedBy>
  <dcterms:modified xsi:type="dcterms:W3CDTF">2012-02-02T04:29:29Z</dcterms:modified>
  <cp:revision>2549</cp:revision>
  <dc:subject/>
  <dc:title>.</dc:title>
</cp:coreProperties>
</file>