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311-7315-458F-A0DF-F7872C58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810-F663-4D54-9361-F7EDE32F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F91-3414-460E-BDB2-D0207433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552-48F2-4F05-86E5-C51AB0AE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C47-957D-453F-BE49-CF733D7C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B231-0F36-4C8A-A77A-ADCEEB9C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D3C1-C820-498C-8700-7BBDAEDE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D6DC-BB6A-4650-A4B4-1D1855E3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C739-F9BE-40DC-AC8A-979A4ABF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67EE-AA1B-4EAE-B839-9806F406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28E-74A9-46C2-B6CF-D7BA1CC2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550C-537B-41BA-88BD-B6A407F2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ECBB-0CAD-42FE-B99F-232EB80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A092-AEAF-4214-BE0C-D41AAAED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1339-1A9A-4DAA-A8F8-F1AD954E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4E69-BF15-4640-A9C2-1EF59DA6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8BBD-28CC-4151-A465-E20A9FF8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097E-24BF-447F-9F1A-5C6685A2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BB7C-FDE7-4130-ABAC-CD050709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BAA0-083A-46DE-845A-5E20A336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4BB7-824C-41F0-B5B4-BE297883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00D-8217-4957-BD2A-5488B311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4B31-5B9F-4AEB-9CD1-6A5DED77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D07C-1557-4D70-BD56-5AB09DF9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FE19-1ADB-42FC-A38D-9323134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668F-85C4-4EBF-B6A8-3299F843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219F-CC9E-4727-8F98-B5CADD08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5D1F-B8E0-4DE4-8989-93B6BBDF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BF50-3997-41A5-AFBF-1E6BF532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133D-181A-4987-9B79-5647537D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2778-ACC0-4F95-B1C2-107DC13C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71F-8AB4-4D5B-80A9-47F6B6C4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36A-EB5A-4DC5-85DF-55F2A614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49B-67C7-4094-BDE4-37F74DA2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701-9C25-47E4-B958-9638EF4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823-7651-416B-A94C-3965F6E9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90CF-6055-4F5C-86D0-60C844283E78}" type="datetime">
              <a:rPr b="0" lang="ja-JP" sz="1000" spc="-1" strike="noStrike">
                <a:solidFill>
                  <a:srgbClr val="000000"/>
                </a:solidFill>
                <a:latin typeface="Calibri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2222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8AE7-3C80-47D1-8A37-968D7061DBEC}" type="slidenum">
              <a:rPr b="0" lang="ja-JP" sz="1400" spc="-1" strike="noStrike">
                <a:solidFill>
                  <a:srgbClr val="22222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1E4C-0A43-4C0B-B6D7-CE4089396383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979D-9CA5-4685-991C-30DA080AABC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CF6A-934C-4134-90B4-EEC485E8CDAE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F122-8429-42C0-8E17-663DF0570DA7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8077320" cy="12081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bjective quality assessment of ALF on still imag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JCTVC-H0097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320" y="6428880"/>
            <a:ext cx="4360680" cy="428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CT-VC </a:t>
            </a:r>
            <a:r>
              <a:rPr b="0" lang="en-CA" sz="1200" spc="-1" strike="noStrike">
                <a:solidFill>
                  <a:srgbClr val="ffffff"/>
                </a:solidFill>
                <a:latin typeface="Calibri"/>
              </a:rPr>
              <a:t>8th Meeting: San José, CA, USA, 1–10 February, 2012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58560" y="3357720"/>
            <a:ext cx="7561080" cy="13665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ukinobu Yasug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mohiro Ika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f subjective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F on(HM-5.0) vs. ALF o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invest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ison using modified enco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oder was modified to use blocksize of less than 32 for enabling A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M-5.0 vs. modified enco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some cases, improvement was obsere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F has a possibility of further improvement in subjective quality by encoder optimiz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2F4-4F1E-4631-A408-BFB73DD935F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角丸四角形 4"/>
          <p:cNvSpPr/>
          <p:nvPr/>
        </p:nvSpPr>
        <p:spPr>
          <a:xfrm>
            <a:off x="900000" y="1628640"/>
            <a:ext cx="7559640" cy="5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ment of subjective quality was ob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EB1F-5B35-4CC1-A143-9F0822FED038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f subjective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F on(HM-5.0) vs. ALF o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invest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ison using modified enco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oder was modified to use blocksize of less than 32 for enabling A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M-5.0 vs. modified enco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some cases, improvement was obsere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F has a possibility of further improvement in subjective quality by encoder optimiz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2878-8762-4730-9D03-06DD357D221A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角丸四角形 4"/>
          <p:cNvSpPr/>
          <p:nvPr/>
        </p:nvSpPr>
        <p:spPr>
          <a:xfrm>
            <a:off x="900000" y="1736640"/>
            <a:ext cx="755964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ment of subjective quality was ob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parison: ALF on vs. off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ive quality was checked frame by frame between ALF on and off ima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improved points were obsereved in subjective qu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7388-DC3F-46AD-AFAE-3E63D5EC8F64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amples (ALF on vs. off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785880"/>
            <a:ext cx="8229600" cy="482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000"/>
          </a:bodyPr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asketballDrill/LB_HE/QP37/frame 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green lines and floor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200" indent="-1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725C-4246-4E83-9D2E-8B712382445B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W:\JCTVC-Hxxx-ALFinfo\BBDrill_Q37_HM5_LD_f45_crop.png"/>
          <p:cNvPicPr/>
          <p:nvPr/>
        </p:nvPicPr>
        <p:blipFill>
          <a:blip r:embed="rId1"/>
          <a:stretch/>
        </p:blipFill>
        <p:spPr>
          <a:xfrm>
            <a:off x="6012000" y="1989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W:\JCTVC-Hxxx-ALFinfo\BBDrill_Q37_ALF0_LD_f45_crop.png"/>
          <p:cNvPicPr/>
          <p:nvPr/>
        </p:nvPicPr>
        <p:blipFill>
          <a:blip r:embed="rId2"/>
          <a:stretch/>
        </p:blipFill>
        <p:spPr>
          <a:xfrm>
            <a:off x="3492360" y="1989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W:\JCTVC-Hxxx-ALFinfo\BBDrill_orig_f45_crop.png"/>
          <p:cNvPicPr/>
          <p:nvPr/>
        </p:nvPicPr>
        <p:blipFill>
          <a:blip r:embed="rId3"/>
          <a:stretch/>
        </p:blipFill>
        <p:spPr>
          <a:xfrm>
            <a:off x="971640" y="1989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83" name="テキスト ボックス 14"/>
          <p:cNvSpPr/>
          <p:nvPr/>
        </p:nvSpPr>
        <p:spPr>
          <a:xfrm>
            <a:off x="1872360" y="4329000"/>
            <a:ext cx="5986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テキスト ボックス 15"/>
          <p:cNvSpPr/>
          <p:nvPr/>
        </p:nvSpPr>
        <p:spPr>
          <a:xfrm>
            <a:off x="4365720" y="4329000"/>
            <a:ext cx="566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テキスト ボックス 16"/>
          <p:cNvSpPr/>
          <p:nvPr/>
        </p:nvSpPr>
        <p:spPr>
          <a:xfrm>
            <a:off x="6628680" y="4329000"/>
            <a:ext cx="1209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n (HM-5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amples (ALF on vs. off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785880"/>
            <a:ext cx="8229600" cy="482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000"/>
          </a:bodyPr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eopleOnStreet/RA_HE/QP37/frame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edge of shad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43E9-A24B-4C2E-9A40-92055E01C148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14"/>
          <p:cNvSpPr/>
          <p:nvPr/>
        </p:nvSpPr>
        <p:spPr>
          <a:xfrm>
            <a:off x="1872360" y="4329000"/>
            <a:ext cx="5986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15"/>
          <p:cNvSpPr/>
          <p:nvPr/>
        </p:nvSpPr>
        <p:spPr>
          <a:xfrm>
            <a:off x="4365720" y="4329000"/>
            <a:ext cx="566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テキスト ボックス 16"/>
          <p:cNvSpPr/>
          <p:nvPr/>
        </p:nvSpPr>
        <p:spPr>
          <a:xfrm>
            <a:off x="6628680" y="4329000"/>
            <a:ext cx="1209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n (HM-5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W:\JCTVC-Hxxx-ALFinfo\PoS_original_f15_crop.png"/>
          <p:cNvPicPr/>
          <p:nvPr/>
        </p:nvPicPr>
        <p:blipFill>
          <a:blip r:embed="rId1"/>
          <a:stretch/>
        </p:blipFill>
        <p:spPr>
          <a:xfrm>
            <a:off x="971640" y="1989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W:\JCTVC-Hxxx-ALFinfo\PoS_Q37_ALF0_RA_f15_crop.png"/>
          <p:cNvPicPr/>
          <p:nvPr/>
        </p:nvPicPr>
        <p:blipFill>
          <a:blip r:embed="rId2"/>
          <a:stretch/>
        </p:blipFill>
        <p:spPr>
          <a:xfrm>
            <a:off x="3492360" y="1989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W:\JCTVC-Hxxx-ALFinfo\PoS_Q37_HM5_RA_f15_crop.png"/>
          <p:cNvPicPr/>
          <p:nvPr/>
        </p:nvPicPr>
        <p:blipFill>
          <a:blip r:embed="rId3"/>
          <a:stretch/>
        </p:blipFill>
        <p:spPr>
          <a:xfrm>
            <a:off x="6012000" y="198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amples (ALF on vs. off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785880"/>
            <a:ext cx="8229600" cy="482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000"/>
          </a:bodyPr>
          <a:p>
            <a:pPr marL="25200" indent="-1656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RaceHorses/RA_HE/QP32/frame 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3560" indent="-180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edges of le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140B-04D4-43ED-9E43-F6FED16B563D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テキスト ボックス 14"/>
          <p:cNvSpPr/>
          <p:nvPr/>
        </p:nvSpPr>
        <p:spPr>
          <a:xfrm>
            <a:off x="1872360" y="4329000"/>
            <a:ext cx="5986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5"/>
          <p:cNvSpPr/>
          <p:nvPr/>
        </p:nvSpPr>
        <p:spPr>
          <a:xfrm>
            <a:off x="4365720" y="4329000"/>
            <a:ext cx="566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6"/>
          <p:cNvSpPr/>
          <p:nvPr/>
        </p:nvSpPr>
        <p:spPr>
          <a:xfrm>
            <a:off x="6628680" y="4329000"/>
            <a:ext cx="1209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n (HM-5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W:\JCTVC-Hxxx-ALFinfo\RH_orig_f95_crop.png"/>
          <p:cNvPicPr/>
          <p:nvPr/>
        </p:nvPicPr>
        <p:blipFill>
          <a:blip r:embed="rId1"/>
          <a:stretch/>
        </p:blipFill>
        <p:spPr>
          <a:xfrm>
            <a:off x="971640" y="1989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W:\JCTVC-Hxxx-ALFinfo\RH_Q32_RA_ALF0_f95_crop.png"/>
          <p:cNvPicPr/>
          <p:nvPr/>
        </p:nvPicPr>
        <p:blipFill>
          <a:blip r:embed="rId2"/>
          <a:stretch/>
        </p:blipFill>
        <p:spPr>
          <a:xfrm>
            <a:off x="3492360" y="1989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W:\JCTVC-Hxxx-ALFinfo\RH_Q32_RA_HM5_f95_crop.png"/>
          <p:cNvPicPr/>
          <p:nvPr/>
        </p:nvPicPr>
        <p:blipFill>
          <a:blip r:embed="rId3"/>
          <a:stretch/>
        </p:blipFill>
        <p:spPr>
          <a:xfrm>
            <a:off x="6012000" y="198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urther investig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ssess the possibility of further improvement of A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coder was modified to use blocksize of less than 32 for enabling AL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improved points were also obsereved in subjective qualit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ssibility of further improvement in subjective quality by encoder optimiz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E8D4-DA21-4438-8CDD-64B73280E53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amples of encoder modific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785880"/>
            <a:ext cx="8229600" cy="482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000"/>
          </a:bodyPr>
          <a:p>
            <a:pPr marL="28800" indent="-19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asketballDrill/RA_HE/QP32/frame 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" indent="-19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" indent="-19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" indent="-19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" indent="-19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" indent="-19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" indent="-19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" indent="-19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" indent="-19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" indent="-190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680" indent="-208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detail of clot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7125-511D-4553-A5CE-D54E44F17250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テキスト ボックス 14"/>
          <p:cNvSpPr/>
          <p:nvPr/>
        </p:nvSpPr>
        <p:spPr>
          <a:xfrm>
            <a:off x="1872360" y="3608280"/>
            <a:ext cx="5986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テキスト ボックス 15"/>
          <p:cNvSpPr/>
          <p:nvPr/>
        </p:nvSpPr>
        <p:spPr>
          <a:xfrm>
            <a:off x="4365720" y="3608280"/>
            <a:ext cx="566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テキスト ボックス 16"/>
          <p:cNvSpPr/>
          <p:nvPr/>
        </p:nvSpPr>
        <p:spPr>
          <a:xfrm>
            <a:off x="6628680" y="3608280"/>
            <a:ext cx="1209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n (HM-5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W:\JCTVC-Hxxx-ALFinfo\BBDrill_orig_f95_crop.png"/>
          <p:cNvPicPr/>
          <p:nvPr/>
        </p:nvPicPr>
        <p:blipFill>
          <a:blip r:embed="rId1"/>
          <a:stretch/>
        </p:blipFill>
        <p:spPr>
          <a:xfrm>
            <a:off x="971640" y="1268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W:\JCTVC-Hxxx-ALFinfo\BBDrill_Q32_RA_ALF0_f95_crop.png"/>
          <p:cNvPicPr/>
          <p:nvPr/>
        </p:nvPicPr>
        <p:blipFill>
          <a:blip r:embed="rId2"/>
          <a:stretch/>
        </p:blipFill>
        <p:spPr>
          <a:xfrm>
            <a:off x="3492360" y="1268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W:\JCTVC-Hxxx-ALFinfo\BBDrill_Q32_RA_HM5_f95_crop.png"/>
          <p:cNvPicPr/>
          <p:nvPr/>
        </p:nvPicPr>
        <p:blipFill>
          <a:blip r:embed="rId3"/>
          <a:stretch/>
        </p:blipFill>
        <p:spPr>
          <a:xfrm>
            <a:off x="6012000" y="1268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W:\JCTVC-Hxxx-ALFinfo\BBDrill_Q32_RA_ENCB32_f95_crop.png"/>
          <p:cNvPicPr/>
          <p:nvPr/>
        </p:nvPicPr>
        <p:blipFill>
          <a:blip r:embed="rId4"/>
          <a:stretch/>
        </p:blipFill>
        <p:spPr>
          <a:xfrm>
            <a:off x="6012000" y="39686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17" name="テキスト ボックス 17"/>
          <p:cNvSpPr/>
          <p:nvPr/>
        </p:nvSpPr>
        <p:spPr>
          <a:xfrm>
            <a:off x="6230520" y="6308640"/>
            <a:ext cx="18831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n (modified en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amples of encoder modific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785880"/>
            <a:ext cx="8229600" cy="482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"/>
          </a:bodyPr>
          <a:p>
            <a:pPr marL="32400" indent="-216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QMall/RA_HE/QP37/frame 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" indent="-216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" indent="-216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" indent="-216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" indent="-216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" indent="-216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" indent="-216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" indent="-216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" indent="-216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800" indent="-234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flection on wind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6BEF-0402-405F-96A9-B97B7DC7325F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14"/>
          <p:cNvSpPr/>
          <p:nvPr/>
        </p:nvSpPr>
        <p:spPr>
          <a:xfrm>
            <a:off x="1872360" y="3608280"/>
            <a:ext cx="5986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15"/>
          <p:cNvSpPr/>
          <p:nvPr/>
        </p:nvSpPr>
        <p:spPr>
          <a:xfrm>
            <a:off x="4365720" y="3608280"/>
            <a:ext cx="566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16"/>
          <p:cNvSpPr/>
          <p:nvPr/>
        </p:nvSpPr>
        <p:spPr>
          <a:xfrm>
            <a:off x="6628680" y="3608280"/>
            <a:ext cx="1209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n (HM-5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17"/>
          <p:cNvSpPr/>
          <p:nvPr/>
        </p:nvSpPr>
        <p:spPr>
          <a:xfrm>
            <a:off x="6230520" y="6308640"/>
            <a:ext cx="18831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on (modified en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W:\JCTVC-Hxxx-ALFinfo\BQM_orig_f80_crop.png"/>
          <p:cNvPicPr/>
          <p:nvPr/>
        </p:nvPicPr>
        <p:blipFill>
          <a:blip r:embed="rId1"/>
          <a:stretch/>
        </p:blipFill>
        <p:spPr>
          <a:xfrm>
            <a:off x="971640" y="1268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W:\JCTVC-Hxxx-ALFinfo\BQM_Q37_LB_ALF0_f80_crop.png"/>
          <p:cNvPicPr/>
          <p:nvPr/>
        </p:nvPicPr>
        <p:blipFill>
          <a:blip r:embed="rId2"/>
          <a:stretch/>
        </p:blipFill>
        <p:spPr>
          <a:xfrm>
            <a:off x="3492360" y="1268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W:\JCTVC-Hxxx-ALFinfo\BQM_Q37_LB_HM5_f80_crop.png"/>
          <p:cNvPicPr/>
          <p:nvPr/>
        </p:nvPicPr>
        <p:blipFill>
          <a:blip r:embed="rId3"/>
          <a:stretch/>
        </p:blipFill>
        <p:spPr>
          <a:xfrm>
            <a:off x="6012000" y="1268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W:\JCTVC-Hxxx-ALFinfo\BQM_Q37_LB_ENCB32_f80_crop.png"/>
          <p:cNvPicPr/>
          <p:nvPr/>
        </p:nvPicPr>
        <p:blipFill>
          <a:blip r:embed="rId4"/>
          <a:stretch/>
        </p:blipFill>
        <p:spPr>
          <a:xfrm>
            <a:off x="6012000" y="402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5:19:20Z</dcterms:created>
  <dc:creator>.</dc:creator>
  <dc:description/>
  <dc:language>en-US</dc:language>
  <cp:lastModifiedBy>yasugi</cp:lastModifiedBy>
  <dcterms:modified xsi:type="dcterms:W3CDTF">2012-01-30T07:27:59Z</dcterms:modified>
  <cp:revision>2528</cp:revision>
  <dc:subject/>
  <dc:title>.</dc:title>
</cp:coreProperties>
</file>