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5AD-777F-4B6A-9F2A-0408EC9F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E7A-178A-49F0-8B9B-75649E13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233-704E-4F0A-95E9-BC032C0E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7AB-37E4-445D-B16E-03D24CD8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EF4-ED32-4A5A-A9C3-CFB4DFD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87EE-D728-45A6-939C-047972A4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9254-DD1C-46C4-AD5E-6971977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655B-6E01-4E8C-BCBC-604BA4D4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1E5B-28D0-42F7-8924-C6033EFA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C88D-DBB9-4C68-860E-10CC409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D31-83EC-4781-B486-1397A27B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6586-DAD3-46BF-9BEC-3256EC00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682C-A5B7-48B5-9BE9-5492A6B4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4EFD-5130-4790-8EB2-53B9343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F00C-7F01-4998-98E5-88154D5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04A6-BD84-4719-926D-EBE4E4A7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6C8D-D9FD-4066-9A9F-9F576A42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45B-307B-4EBE-B87E-D83B5B0E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C6DB-0316-4672-A4EF-D739540D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F431-B5E2-448D-87AB-470F750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FF15-4487-47AA-9B45-CD8175D2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4F0-A0BC-4A25-A3BF-065F9650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D01D-6961-4C0B-8AFE-BCC08D50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C9EE-0A09-414E-9216-04A1FC5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2C75-27AF-41B0-819F-525C15A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2322-4938-4F8C-B1EB-4D3DD13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F5F8-0153-428C-B39B-A831C2B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297C-8DD1-4667-8F4B-3007FD0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E2F1-B018-43FD-B05F-0C2471E7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3228-4F07-4672-BFA2-2246607D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BF5A-DCE0-42A9-8F9C-F9146A9A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E3C-F8E4-4C73-9305-EA77BB0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8DB-2C38-451A-85B6-57FA4E18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116-2072-48CC-A857-9714247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C99-E39A-4332-A809-78E9891A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39F-B2D1-4D48-A40D-8A06EE1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3A6-6216-475D-AFE7-405991B18CA2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C291-1B57-4F22-A260-CD260607D9D8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テキスト ボックス 10"/>
          <p:cNvSpPr/>
          <p:nvPr/>
        </p:nvSpPr>
        <p:spPr>
          <a:xfrm>
            <a:off x="8028000" y="39600"/>
            <a:ext cx="1116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CTVC-H00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1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2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10"/>
          <p:cNvSpPr/>
          <p:nvPr/>
        </p:nvSpPr>
        <p:spPr>
          <a:xfrm>
            <a:off x="8028000" y="39600"/>
            <a:ext cx="1116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CTVC-H00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B08-49C6-4BB7-AB20-7C0212D1F50C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2C14-BF1B-408B-BCF3-7D534BA53C87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D9B2-D909-4BEA-B0D5-09A02E33B8D7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52AE-8969-4407-AE08-D2291D274D6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HG7: Controllable memory bandwidth reduction with bi-pred to uni-pred convers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H0096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6428880"/>
            <a:ext cx="436068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</a:t>
            </a:r>
            <a:r>
              <a:rPr b="0" lang="en-CA" sz="1200" spc="-1" strike="noStrike">
                <a:solidFill>
                  <a:srgbClr val="ffffff"/>
                </a:solidFill>
                <a:latin typeface="Calibri"/>
              </a:rPr>
              <a:t>8th Meeting: San José, CA, USA, 1–10 February, 2012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x8 bi-prediction restriction (proposed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8613-5F98-4511-9A9E-B3FF2104BB4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65200" y="836640"/>
          <a:ext cx="5627880" cy="5197320"/>
        </p:xfrm>
        <a:graphic>
          <a:graphicData uri="http://schemas.openxmlformats.org/drawingml/2006/table">
            <a:tbl>
              <a:tblPr/>
              <a:tblGrid>
                <a:gridCol w="812880"/>
                <a:gridCol w="538200"/>
                <a:gridCol w="527040"/>
                <a:gridCol w="539640"/>
                <a:gridCol w="541440"/>
                <a:gridCol w="525600"/>
                <a:gridCol w="541080"/>
                <a:gridCol w="536760"/>
                <a:gridCol w="531720"/>
                <a:gridCol w="533520"/>
              </a:tblGrid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x8 bi-prediction restriction (encoder only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E0B-3294-40AE-A59E-1EEDCBB1B28A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463760" y="824040"/>
          <a:ext cx="5629320" cy="5197320"/>
        </p:xfrm>
        <a:graphic>
          <a:graphicData uri="http://schemas.openxmlformats.org/drawingml/2006/table">
            <a:tbl>
              <a:tblPr/>
              <a:tblGrid>
                <a:gridCol w="825480"/>
                <a:gridCol w="538200"/>
                <a:gridCol w="525240"/>
                <a:gridCol w="538200"/>
                <a:gridCol w="538200"/>
                <a:gridCol w="523800"/>
                <a:gridCol w="538200"/>
                <a:gridCol w="538200"/>
                <a:gridCol w="525600"/>
                <a:gridCol w="538200"/>
              </a:tblGrid>
              <a:tr h="335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able memory bandwidth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 size and Bi-pred PU size is restricted based on SCU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 inter_4x4_enable_flag with inter_predction_restriction_fl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Bi-pred to uni-pred conversion in merge m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 bi-prediction to uni-prediction when the derived merge mode is bi-prediction and the bi-prediction is restri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recommend the proposed modification to adopt in HM /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19E-B781-44A2-8D56-05B8FBDE438D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11280" y="3824280"/>
          <a:ext cx="8064360" cy="1612800"/>
        </p:xfrm>
        <a:graphic>
          <a:graphicData uri="http://schemas.openxmlformats.org/drawingml/2006/table">
            <a:tbl>
              <a:tblPr/>
              <a:tblGrid>
                <a:gridCol w="1657080"/>
                <a:gridCol w="646200"/>
                <a:gridCol w="1152720"/>
                <a:gridCol w="1152360"/>
                <a:gridCol w="1152720"/>
                <a:gridCol w="1152360"/>
                <a:gridCol w="1150920"/>
              </a:tblGrid>
              <a:tr h="16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4x8, 8x4 bi-pr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and 4x4 PU restri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8x8 SCU si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s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3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er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4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8x8 bi-pr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restriction and less than 8x8 PU restri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16x16 SCU emul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s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8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7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er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7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4.6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テキスト ボックス 6"/>
          <p:cNvSpPr/>
          <p:nvPr/>
        </p:nvSpPr>
        <p:spPr>
          <a:xfrm>
            <a:off x="3708360" y="6345360"/>
            <a:ext cx="4572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 you to TI for cross-check (JCTVC-H04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able memory bandwidth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M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_4x4_enable_flag is nothing if SCU size = 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-prediction cannot be restricted explicit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lace inter_4x4_enable_flag with inter_predction_restriction_fl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sable 4x4 PU and 4x8/8x4 bi-pred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CUSize = 8,   inter_prediction_restriction_flag =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able 4x4, 8x4, 4x8 PU                                (SCUSize = 16, inter_prediction_restriction_flag = 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sable 4x4, 8x4, 4x8 PU and 8x8 bi-pre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SCUSize = 16, inter_prediction_restriction_flag =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-pred to uni-pred conversion in merge m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 bi-prediction to uni-prediction when the derived merge mode is bi-prediction and the bi-prediction is restri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A487-9FA0-40C3-8DC5-AE93EBA62B70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9640" y="5013360"/>
          <a:ext cx="8064720" cy="1611360"/>
        </p:xfrm>
        <a:graphic>
          <a:graphicData uri="http://schemas.openxmlformats.org/drawingml/2006/table">
            <a:tbl>
              <a:tblPr/>
              <a:tblGrid>
                <a:gridCol w="1656000"/>
                <a:gridCol w="647640"/>
                <a:gridCol w="1150920"/>
                <a:gridCol w="1152360"/>
                <a:gridCol w="1152720"/>
                <a:gridCol w="1152360"/>
                <a:gridCol w="1152720"/>
              </a:tblGrid>
              <a:tr h="16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4x8, 8x4 bi-pr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and 4x4 PU restri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8x8 SCU si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s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3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er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4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8x8 bi-pre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restriction and less than 8x8 PU restri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16x16 SCU emul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s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8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7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er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7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5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4.6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_4x4_enable_flag is nothing if SCU size is not 8x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’d like to change Inter_4x4_enable_flag to more productive 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al encoder restricts bi-prediction to reduce bandwidth reduction and other complex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HD, 4x8 and 8x4 bi-pred restriction is required. 8x8 bi-pred restriction is also us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ides, practical encoders migh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ways not use 4x8, 8x4 bi-pr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small sequences to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M’s merge mode has a problem if bi-pred is restri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2AF-625E-465D-8991-9783A98C0E1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4"/>
          <p:cNvSpPr/>
          <p:nvPr/>
        </p:nvSpPr>
        <p:spPr>
          <a:xfrm>
            <a:off x="826920" y="4797360"/>
            <a:ext cx="7669440" cy="62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derived merge mode candidate is bi-pred, the candidate cannot be selected in bi-pred restriction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rollable PU size and Bi-pred restri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387-F105-4F8A-A397-EE6BA64F300D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グループ化 88"/>
          <p:cNvGrpSpPr/>
          <p:nvPr/>
        </p:nvGrpSpPr>
        <p:grpSpPr>
          <a:xfrm>
            <a:off x="287280" y="692280"/>
            <a:ext cx="8388360" cy="5797440"/>
            <a:chOff x="287280" y="692280"/>
            <a:chExt cx="8388360" cy="5797440"/>
          </a:xfrm>
        </p:grpSpPr>
        <p:sp>
          <p:nvSpPr>
            <p:cNvPr id="183" name="正方形/長方形 89"/>
            <p:cNvSpPr/>
            <p:nvPr/>
          </p:nvSpPr>
          <p:spPr>
            <a:xfrm>
              <a:off x="2879280" y="112428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グループ化 5"/>
            <p:cNvGrpSpPr/>
            <p:nvPr/>
          </p:nvGrpSpPr>
          <p:grpSpPr>
            <a:xfrm>
              <a:off x="4894920" y="1124280"/>
              <a:ext cx="720360" cy="720720"/>
              <a:chOff x="4894920" y="1124280"/>
              <a:chExt cx="720360" cy="720720"/>
            </a:xfrm>
          </p:grpSpPr>
          <p:sp>
            <p:nvSpPr>
              <p:cNvPr id="185" name="正方形/長方形 6"/>
              <p:cNvSpPr/>
              <p:nvPr/>
            </p:nvSpPr>
            <p:spPr>
              <a:xfrm>
                <a:off x="4895640" y="1124280"/>
                <a:ext cx="719640" cy="72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線コネクタ 7"/>
              <p:cNvSpPr/>
              <p:nvPr/>
            </p:nvSpPr>
            <p:spPr>
              <a:xfrm>
                <a:off x="5254560" y="1125000"/>
                <a:ext cx="144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線コネクタ 8"/>
              <p:cNvSpPr/>
              <p:nvPr/>
            </p:nvSpPr>
            <p:spPr>
              <a:xfrm flipV="1">
                <a:off x="4894920" y="1484280"/>
                <a:ext cx="71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直線コネクタ 91"/>
            <p:cNvSpPr/>
            <p:nvPr/>
          </p:nvSpPr>
          <p:spPr>
            <a:xfrm flipV="1">
              <a:off x="2878560" y="1484280"/>
              <a:ext cx="71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正方形/長方形 92"/>
            <p:cNvSpPr/>
            <p:nvPr/>
          </p:nvSpPr>
          <p:spPr>
            <a:xfrm>
              <a:off x="3923280" y="112428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線コネクタ 93"/>
            <p:cNvSpPr/>
            <p:nvPr/>
          </p:nvSpPr>
          <p:spPr>
            <a:xfrm>
              <a:off x="4282560" y="1125000"/>
              <a:ext cx="144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正方形/長方形 94"/>
            <p:cNvSpPr/>
            <p:nvPr/>
          </p:nvSpPr>
          <p:spPr>
            <a:xfrm>
              <a:off x="1871280" y="112428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テキスト ボックス 95"/>
            <p:cNvSpPr/>
            <p:nvPr/>
          </p:nvSpPr>
          <p:spPr>
            <a:xfrm>
              <a:off x="575280" y="1376280"/>
              <a:ext cx="1188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-pred / bip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テキスト ボックス 96"/>
            <p:cNvSpPr/>
            <p:nvPr/>
          </p:nvSpPr>
          <p:spPr>
            <a:xfrm>
              <a:off x="287280" y="692280"/>
              <a:ext cx="720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M5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テキスト ボックス 97"/>
            <p:cNvSpPr/>
            <p:nvPr/>
          </p:nvSpPr>
          <p:spPr>
            <a:xfrm>
              <a:off x="6011640" y="1412280"/>
              <a:ext cx="2088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f inter_4x4_enable_flag =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テキスト ボックス 98"/>
            <p:cNvSpPr/>
            <p:nvPr/>
          </p:nvSpPr>
          <p:spPr>
            <a:xfrm>
              <a:off x="323280" y="2168640"/>
              <a:ext cx="720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テキスト ボックス 99"/>
            <p:cNvSpPr/>
            <p:nvPr/>
          </p:nvSpPr>
          <p:spPr>
            <a:xfrm>
              <a:off x="575280" y="2816640"/>
              <a:ext cx="1188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-p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正方形/長方形 100"/>
            <p:cNvSpPr/>
            <p:nvPr/>
          </p:nvSpPr>
          <p:spPr>
            <a:xfrm>
              <a:off x="2843280" y="260064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グループ化 101"/>
            <p:cNvGrpSpPr/>
            <p:nvPr/>
          </p:nvGrpSpPr>
          <p:grpSpPr>
            <a:xfrm>
              <a:off x="4858920" y="2600640"/>
              <a:ext cx="720360" cy="720720"/>
              <a:chOff x="4858920" y="2600640"/>
              <a:chExt cx="720360" cy="720720"/>
            </a:xfrm>
          </p:grpSpPr>
          <p:sp>
            <p:nvSpPr>
              <p:cNvPr id="199" name="正方形/長方形 165"/>
              <p:cNvSpPr/>
              <p:nvPr/>
            </p:nvSpPr>
            <p:spPr>
              <a:xfrm>
                <a:off x="4859640" y="2600640"/>
                <a:ext cx="719640" cy="72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線コネクタ 166"/>
              <p:cNvSpPr/>
              <p:nvPr/>
            </p:nvSpPr>
            <p:spPr>
              <a:xfrm>
                <a:off x="5218560" y="2601360"/>
                <a:ext cx="144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線コネクタ 167"/>
              <p:cNvSpPr/>
              <p:nvPr/>
            </p:nvSpPr>
            <p:spPr>
              <a:xfrm flipV="1">
                <a:off x="4858920" y="2960640"/>
                <a:ext cx="71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直線コネクタ 102"/>
            <p:cNvSpPr/>
            <p:nvPr/>
          </p:nvSpPr>
          <p:spPr>
            <a:xfrm flipV="1">
              <a:off x="2842560" y="2960640"/>
              <a:ext cx="71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正方形/長方形 103"/>
            <p:cNvSpPr/>
            <p:nvPr/>
          </p:nvSpPr>
          <p:spPr>
            <a:xfrm>
              <a:off x="3887280" y="260064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線コネクタ 104"/>
            <p:cNvSpPr/>
            <p:nvPr/>
          </p:nvSpPr>
          <p:spPr>
            <a:xfrm>
              <a:off x="4246560" y="2601360"/>
              <a:ext cx="144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正方形/長方形 105"/>
            <p:cNvSpPr/>
            <p:nvPr/>
          </p:nvSpPr>
          <p:spPr>
            <a:xfrm>
              <a:off x="1835280" y="260064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テキスト ボックス 106"/>
            <p:cNvSpPr/>
            <p:nvPr/>
          </p:nvSpPr>
          <p:spPr>
            <a:xfrm>
              <a:off x="5975640" y="2888640"/>
              <a:ext cx="2664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f inter_prediction_restriction_flag =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正方形/長方形 107"/>
            <p:cNvSpPr/>
            <p:nvPr/>
          </p:nvSpPr>
          <p:spPr>
            <a:xfrm>
              <a:off x="2843280" y="342900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線コネクタ 108"/>
            <p:cNvSpPr/>
            <p:nvPr/>
          </p:nvSpPr>
          <p:spPr>
            <a:xfrm flipV="1">
              <a:off x="2842560" y="3789000"/>
              <a:ext cx="71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正方形/長方形 109"/>
            <p:cNvSpPr/>
            <p:nvPr/>
          </p:nvSpPr>
          <p:spPr>
            <a:xfrm>
              <a:off x="3887280" y="342900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線コネクタ 110"/>
            <p:cNvSpPr/>
            <p:nvPr/>
          </p:nvSpPr>
          <p:spPr>
            <a:xfrm>
              <a:off x="4246560" y="3429720"/>
              <a:ext cx="144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正方形/長方形 111"/>
            <p:cNvSpPr/>
            <p:nvPr/>
          </p:nvSpPr>
          <p:spPr>
            <a:xfrm>
              <a:off x="1835280" y="342900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グループ化 112"/>
            <p:cNvGrpSpPr/>
            <p:nvPr/>
          </p:nvGrpSpPr>
          <p:grpSpPr>
            <a:xfrm>
              <a:off x="4787640" y="2528640"/>
              <a:ext cx="900000" cy="900000"/>
              <a:chOff x="4787640" y="2528640"/>
              <a:chExt cx="900000" cy="900000"/>
            </a:xfrm>
          </p:grpSpPr>
          <p:sp>
            <p:nvSpPr>
              <p:cNvPr id="213" name="直線コネクタ 34"/>
              <p:cNvSpPr/>
              <p:nvPr/>
            </p:nvSpPr>
            <p:spPr>
              <a:xfrm flipV="1">
                <a:off x="4787640" y="252864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線コネクタ 35"/>
              <p:cNvSpPr/>
              <p:nvPr/>
            </p:nvSpPr>
            <p:spPr>
              <a:xfrm>
                <a:off x="4787640" y="252864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グループ化 36"/>
            <p:cNvGrpSpPr/>
            <p:nvPr/>
          </p:nvGrpSpPr>
          <p:grpSpPr>
            <a:xfrm>
              <a:off x="4823640" y="1052280"/>
              <a:ext cx="900000" cy="900000"/>
              <a:chOff x="4823640" y="1052280"/>
              <a:chExt cx="900000" cy="900000"/>
            </a:xfrm>
          </p:grpSpPr>
          <p:sp>
            <p:nvSpPr>
              <p:cNvPr id="216" name="直線コネクタ 37"/>
              <p:cNvSpPr/>
              <p:nvPr/>
            </p:nvSpPr>
            <p:spPr>
              <a:xfrm flipV="1">
                <a:off x="4823640" y="105228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線コネクタ 162"/>
              <p:cNvSpPr/>
              <p:nvPr/>
            </p:nvSpPr>
            <p:spPr>
              <a:xfrm>
                <a:off x="4823640" y="105228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グループ化 39"/>
            <p:cNvGrpSpPr/>
            <p:nvPr/>
          </p:nvGrpSpPr>
          <p:grpSpPr>
            <a:xfrm>
              <a:off x="2771280" y="3357000"/>
              <a:ext cx="900000" cy="900000"/>
              <a:chOff x="2771280" y="3357000"/>
              <a:chExt cx="900000" cy="900000"/>
            </a:xfrm>
          </p:grpSpPr>
          <p:sp>
            <p:nvSpPr>
              <p:cNvPr id="219" name="直線コネクタ 159"/>
              <p:cNvSpPr/>
              <p:nvPr/>
            </p:nvSpPr>
            <p:spPr>
              <a:xfrm flipV="1">
                <a:off x="2771280" y="335700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線コネクタ 160"/>
              <p:cNvSpPr/>
              <p:nvPr/>
            </p:nvSpPr>
            <p:spPr>
              <a:xfrm>
                <a:off x="2771280" y="335700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グループ化 42"/>
            <p:cNvGrpSpPr/>
            <p:nvPr/>
          </p:nvGrpSpPr>
          <p:grpSpPr>
            <a:xfrm>
              <a:off x="3815280" y="3357000"/>
              <a:ext cx="900000" cy="900000"/>
              <a:chOff x="3815280" y="3357000"/>
              <a:chExt cx="900000" cy="900000"/>
            </a:xfrm>
          </p:grpSpPr>
          <p:sp>
            <p:nvSpPr>
              <p:cNvPr id="222" name="直線コネクタ 157"/>
              <p:cNvSpPr/>
              <p:nvPr/>
            </p:nvSpPr>
            <p:spPr>
              <a:xfrm flipV="1">
                <a:off x="3815280" y="335700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線コネクタ 158"/>
              <p:cNvSpPr/>
              <p:nvPr/>
            </p:nvSpPr>
            <p:spPr>
              <a:xfrm>
                <a:off x="3815280" y="335700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テキスト ボックス 116"/>
            <p:cNvSpPr/>
            <p:nvPr/>
          </p:nvSpPr>
          <p:spPr>
            <a:xfrm>
              <a:off x="575280" y="3681000"/>
              <a:ext cx="1188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-p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正方形/長方形 117"/>
            <p:cNvSpPr/>
            <p:nvPr/>
          </p:nvSpPr>
          <p:spPr>
            <a:xfrm>
              <a:off x="431280" y="2420640"/>
              <a:ext cx="8244360" cy="19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テキスト ボックス 118"/>
            <p:cNvSpPr/>
            <p:nvPr/>
          </p:nvSpPr>
          <p:spPr>
            <a:xfrm>
              <a:off x="7379640" y="2276640"/>
              <a:ext cx="900000" cy="2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U = 8x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テキスト ボックス 119"/>
            <p:cNvSpPr/>
            <p:nvPr/>
          </p:nvSpPr>
          <p:spPr>
            <a:xfrm>
              <a:off x="575280" y="4977360"/>
              <a:ext cx="1188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-p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正方形/長方形 120"/>
            <p:cNvSpPr/>
            <p:nvPr/>
          </p:nvSpPr>
          <p:spPr>
            <a:xfrm>
              <a:off x="2843280" y="476136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グループ化 50"/>
            <p:cNvGrpSpPr/>
            <p:nvPr/>
          </p:nvGrpSpPr>
          <p:grpSpPr>
            <a:xfrm>
              <a:off x="4858920" y="4761360"/>
              <a:ext cx="720360" cy="720720"/>
              <a:chOff x="4858920" y="4761360"/>
              <a:chExt cx="720360" cy="720720"/>
            </a:xfrm>
          </p:grpSpPr>
          <p:sp>
            <p:nvSpPr>
              <p:cNvPr id="230" name="正方形/長方形 51"/>
              <p:cNvSpPr/>
              <p:nvPr/>
            </p:nvSpPr>
            <p:spPr>
              <a:xfrm>
                <a:off x="4859640" y="4761360"/>
                <a:ext cx="719640" cy="72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線コネクタ 155"/>
              <p:cNvSpPr/>
              <p:nvPr/>
            </p:nvSpPr>
            <p:spPr>
              <a:xfrm>
                <a:off x="5218560" y="4762080"/>
                <a:ext cx="144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線コネクタ 156"/>
              <p:cNvSpPr/>
              <p:nvPr/>
            </p:nvSpPr>
            <p:spPr>
              <a:xfrm flipV="1">
                <a:off x="4858920" y="5121360"/>
                <a:ext cx="71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直線コネクタ 122"/>
            <p:cNvSpPr/>
            <p:nvPr/>
          </p:nvSpPr>
          <p:spPr>
            <a:xfrm flipV="1">
              <a:off x="2842560" y="5121360"/>
              <a:ext cx="71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正方形/長方形 123"/>
            <p:cNvSpPr/>
            <p:nvPr/>
          </p:nvSpPr>
          <p:spPr>
            <a:xfrm>
              <a:off x="3887280" y="476136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線コネクタ 124"/>
            <p:cNvSpPr/>
            <p:nvPr/>
          </p:nvSpPr>
          <p:spPr>
            <a:xfrm>
              <a:off x="4246560" y="4762080"/>
              <a:ext cx="144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正方形/長方形 125"/>
            <p:cNvSpPr/>
            <p:nvPr/>
          </p:nvSpPr>
          <p:spPr>
            <a:xfrm>
              <a:off x="1835280" y="476136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テキスト ボックス 126"/>
            <p:cNvSpPr/>
            <p:nvPr/>
          </p:nvSpPr>
          <p:spPr>
            <a:xfrm>
              <a:off x="5975640" y="5049360"/>
              <a:ext cx="2664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f inter_prediction_restriction_flag =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正方形/長方形 127"/>
            <p:cNvSpPr/>
            <p:nvPr/>
          </p:nvSpPr>
          <p:spPr>
            <a:xfrm>
              <a:off x="2843280" y="558972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線コネクタ 128"/>
            <p:cNvSpPr/>
            <p:nvPr/>
          </p:nvSpPr>
          <p:spPr>
            <a:xfrm flipV="1">
              <a:off x="2842560" y="5949720"/>
              <a:ext cx="71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正方形/長方形 129"/>
            <p:cNvSpPr/>
            <p:nvPr/>
          </p:nvSpPr>
          <p:spPr>
            <a:xfrm>
              <a:off x="3887280" y="558972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線コネクタ 130"/>
            <p:cNvSpPr/>
            <p:nvPr/>
          </p:nvSpPr>
          <p:spPr>
            <a:xfrm>
              <a:off x="4246560" y="5590440"/>
              <a:ext cx="144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正方形/長方形 131"/>
            <p:cNvSpPr/>
            <p:nvPr/>
          </p:nvSpPr>
          <p:spPr>
            <a:xfrm>
              <a:off x="1835280" y="5589720"/>
              <a:ext cx="719640" cy="72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グループ化 64"/>
            <p:cNvGrpSpPr/>
            <p:nvPr/>
          </p:nvGrpSpPr>
          <p:grpSpPr>
            <a:xfrm>
              <a:off x="4787640" y="5517720"/>
              <a:ext cx="900000" cy="900000"/>
              <a:chOff x="4787640" y="5517720"/>
              <a:chExt cx="900000" cy="900000"/>
            </a:xfrm>
          </p:grpSpPr>
          <p:sp>
            <p:nvSpPr>
              <p:cNvPr id="244" name="直線コネクタ 152"/>
              <p:cNvSpPr/>
              <p:nvPr/>
            </p:nvSpPr>
            <p:spPr>
              <a:xfrm flipV="1">
                <a:off x="4787640" y="551772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線コネクタ 153"/>
              <p:cNvSpPr/>
              <p:nvPr/>
            </p:nvSpPr>
            <p:spPr>
              <a:xfrm>
                <a:off x="4787640" y="5517720"/>
                <a:ext cx="90000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テキスト ボックス 133"/>
            <p:cNvSpPr/>
            <p:nvPr/>
          </p:nvSpPr>
          <p:spPr>
            <a:xfrm>
              <a:off x="575280" y="5841720"/>
              <a:ext cx="1188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-p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正方形/長方形 134"/>
            <p:cNvSpPr/>
            <p:nvPr/>
          </p:nvSpPr>
          <p:spPr>
            <a:xfrm>
              <a:off x="431280" y="4581360"/>
              <a:ext cx="8244360" cy="190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テキスト ボックス 135"/>
            <p:cNvSpPr/>
            <p:nvPr/>
          </p:nvSpPr>
          <p:spPr>
            <a:xfrm>
              <a:off x="7379640" y="4437360"/>
              <a:ext cx="1152000" cy="2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U = 16x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グループ化 70"/>
            <p:cNvGrpSpPr/>
            <p:nvPr/>
          </p:nvGrpSpPr>
          <p:grpSpPr>
            <a:xfrm>
              <a:off x="4858920" y="5589000"/>
              <a:ext cx="720360" cy="720720"/>
              <a:chOff x="4858920" y="5589000"/>
              <a:chExt cx="720360" cy="720720"/>
            </a:xfrm>
          </p:grpSpPr>
          <p:sp>
            <p:nvSpPr>
              <p:cNvPr id="250" name="正方形/長方形 149"/>
              <p:cNvSpPr/>
              <p:nvPr/>
            </p:nvSpPr>
            <p:spPr>
              <a:xfrm>
                <a:off x="4859640" y="5589000"/>
                <a:ext cx="719640" cy="72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線コネクタ 150"/>
              <p:cNvSpPr/>
              <p:nvPr/>
            </p:nvSpPr>
            <p:spPr>
              <a:xfrm>
                <a:off x="5218560" y="5589720"/>
                <a:ext cx="144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線コネクタ 151"/>
              <p:cNvSpPr/>
              <p:nvPr/>
            </p:nvSpPr>
            <p:spPr>
              <a:xfrm flipV="1">
                <a:off x="4858920" y="5949000"/>
                <a:ext cx="71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テキスト ボックス 137"/>
            <p:cNvSpPr/>
            <p:nvPr/>
          </p:nvSpPr>
          <p:spPr>
            <a:xfrm>
              <a:off x="1979280" y="238464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x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テキスト ボックス 138"/>
            <p:cNvSpPr/>
            <p:nvPr/>
          </p:nvSpPr>
          <p:spPr>
            <a:xfrm>
              <a:off x="3023280" y="238464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x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テキスト ボックス 139"/>
            <p:cNvSpPr/>
            <p:nvPr/>
          </p:nvSpPr>
          <p:spPr>
            <a:xfrm>
              <a:off x="4067280" y="238464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x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テキスト ボックス 140"/>
            <p:cNvSpPr/>
            <p:nvPr/>
          </p:nvSpPr>
          <p:spPr>
            <a:xfrm>
              <a:off x="5075640" y="238464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x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テキスト ボックス 141"/>
            <p:cNvSpPr/>
            <p:nvPr/>
          </p:nvSpPr>
          <p:spPr>
            <a:xfrm>
              <a:off x="2015280" y="4545360"/>
              <a:ext cx="504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x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テキスト ボックス 142"/>
            <p:cNvSpPr/>
            <p:nvPr/>
          </p:nvSpPr>
          <p:spPr>
            <a:xfrm>
              <a:off x="3059280" y="4545360"/>
              <a:ext cx="504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x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テキスト ボックス 143"/>
            <p:cNvSpPr/>
            <p:nvPr/>
          </p:nvSpPr>
          <p:spPr>
            <a:xfrm>
              <a:off x="4103280" y="4545360"/>
              <a:ext cx="612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x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テキスト ボックス 144"/>
            <p:cNvSpPr/>
            <p:nvPr/>
          </p:nvSpPr>
          <p:spPr>
            <a:xfrm>
              <a:off x="5111640" y="454536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x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テキスト ボックス 145"/>
            <p:cNvSpPr/>
            <p:nvPr/>
          </p:nvSpPr>
          <p:spPr>
            <a:xfrm>
              <a:off x="1979280" y="79488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x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テキスト ボックス 146"/>
            <p:cNvSpPr/>
            <p:nvPr/>
          </p:nvSpPr>
          <p:spPr>
            <a:xfrm>
              <a:off x="3023280" y="79488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x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テキスト ボックス 147"/>
            <p:cNvSpPr/>
            <p:nvPr/>
          </p:nvSpPr>
          <p:spPr>
            <a:xfrm>
              <a:off x="4067280" y="79488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x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テキスト ボックス 148"/>
            <p:cNvSpPr/>
            <p:nvPr/>
          </p:nvSpPr>
          <p:spPr>
            <a:xfrm>
              <a:off x="5075640" y="794880"/>
              <a:ext cx="3960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x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_prediction_restriction_fla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 both PU size and bi-pred PU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5000" indent="-2462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end on SCU size (MinCUS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5000" indent="-2462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5000" indent="-2462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5000" indent="-2462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5000" indent="-2462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5000" indent="-2462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pred is restricted when the NoBipredFlag is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_pred_fla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present in the syntax if NoBipredFlag is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lag is renamed from inter_4x4_enable_flag is S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400" indent="-226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E930-9795-4ED7-A31A-85A4EEEC2BF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4"/>
          <p:cNvSpPr/>
          <p:nvPr/>
        </p:nvSpPr>
        <p:spPr>
          <a:xfrm>
            <a:off x="1332000" y="3645000"/>
            <a:ext cx="64800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predFlag = inter_prediction_restriction_flag is true &amp;&amp; ((log2MinCUSize == 3 &amp;&amp; log2CUSize == 3 &amp;&amp; PartMode != PART_2Nx2N) || (log2MinCUSize &gt; 3 &amp;&amp; log2CUSize == log2MinCUSize &amp;&amp; PartMode == PART_NxN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表 5" descr=""/>
          <p:cNvPicPr/>
          <p:nvPr/>
        </p:nvPicPr>
        <p:blipFill>
          <a:blip r:embed="rId1"/>
          <a:stretch/>
        </p:blipFill>
        <p:spPr>
          <a:xfrm>
            <a:off x="139680" y="1663560"/>
            <a:ext cx="87915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-pred to uni-pred conversion in merge mod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-pred to uni-pred conv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version is used after each merge mode candidate de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797D-ACEF-463C-8DA9-AAB7E1AAA86E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4"/>
          <p:cNvSpPr/>
          <p:nvPr/>
        </p:nvSpPr>
        <p:spPr>
          <a:xfrm>
            <a:off x="1476360" y="1628640"/>
            <a:ext cx="633564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oth predFlagL0[ xN, yN ] and predFlagL1[ xN, yN ] is 1, predFlagL0[ xN, yN ] is set to 0 and refIdxL0 is set to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正方形/長方形 5"/>
          <p:cNvSpPr/>
          <p:nvPr/>
        </p:nvSpPr>
        <p:spPr>
          <a:xfrm>
            <a:off x="900000" y="3753000"/>
            <a:ext cx="2808360" cy="15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FlagL0[ xN, yN ]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IdxL0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FlagL1[ xN, yN ]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IdxL0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右矢印 6"/>
          <p:cNvSpPr/>
          <p:nvPr/>
        </p:nvSpPr>
        <p:spPr>
          <a:xfrm>
            <a:off x="4284720" y="4257720"/>
            <a:ext cx="792000" cy="576360"/>
          </a:xfrm>
          <a:prstGeom prst="rightArrow">
            <a:avLst>
              <a:gd name="adj1" fmla="val 50000"/>
              <a:gd name="adj2" fmla="val 49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正方形/長方形 7"/>
          <p:cNvSpPr/>
          <p:nvPr/>
        </p:nvSpPr>
        <p:spPr>
          <a:xfrm>
            <a:off x="5256360" y="3753000"/>
            <a:ext cx="2808000" cy="15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FlagL0[ xN, yN ]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IdxL0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FlagL1[ xN, yN ]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IdxL0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mmary of simulation resul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68360" y="1160640"/>
          <a:ext cx="8028000" cy="311148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145880"/>
                <a:gridCol w="1148040"/>
                <a:gridCol w="1147680"/>
                <a:gridCol w="1146240"/>
                <a:gridCol w="1147680"/>
              </a:tblGrid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4x8, 8x4 bi-pr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and 4x4 PU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8x8 SCU siz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er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8x8 bi-pr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restriction and less than 8x8 PU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16x16 SCU emul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er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.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4.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BAF1-E97A-4C16-8EFC-AE995515D37D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03280" y="4761000"/>
          <a:ext cx="7921440" cy="1933560"/>
        </p:xfrm>
        <a:graphic>
          <a:graphicData uri="http://schemas.openxmlformats.org/drawingml/2006/table">
            <a:tbl>
              <a:tblPr/>
              <a:tblGrid>
                <a:gridCol w="1131840"/>
                <a:gridCol w="1130400"/>
                <a:gridCol w="1131840"/>
                <a:gridCol w="1131840"/>
                <a:gridCol w="1131840"/>
                <a:gridCol w="1131840"/>
                <a:gridCol w="1131840"/>
              </a:tblGrid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8x8 bi-pr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restriction and less than 8x8 PU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16x16 SCU emul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1 %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0%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 %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er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8 %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9%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 %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1"/>
          <p:cNvSpPr/>
          <p:nvPr/>
        </p:nvSpPr>
        <p:spPr>
          <a:xfrm>
            <a:off x="2845800" y="75780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 Summary of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2040840" y="43326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 Summary of the results of Class A /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x8 and 8x4 bi-prediction restriction (proposed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476360" y="836640"/>
          <a:ext cx="5626080" cy="5197320"/>
        </p:xfrm>
        <a:graphic>
          <a:graphicData uri="http://schemas.openxmlformats.org/drawingml/2006/table">
            <a:tbl>
              <a:tblPr/>
              <a:tblGrid>
                <a:gridCol w="812880"/>
                <a:gridCol w="539640"/>
                <a:gridCol w="527040"/>
                <a:gridCol w="538200"/>
                <a:gridCol w="539640"/>
                <a:gridCol w="527040"/>
                <a:gridCol w="538200"/>
                <a:gridCol w="536760"/>
                <a:gridCol w="531720"/>
                <a:gridCol w="534960"/>
              </a:tblGrid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492-9613-4BE7-8D1B-31D1CE98A6C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x8 and 8x4 bi-prediction restriction (encoder only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AD26-338B-47B8-9907-71AA9934202E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65200" y="836640"/>
          <a:ext cx="5627880" cy="5197320"/>
        </p:xfrm>
        <a:graphic>
          <a:graphicData uri="http://schemas.openxmlformats.org/drawingml/2006/table">
            <a:tbl>
              <a:tblPr/>
              <a:tblGrid>
                <a:gridCol w="825480"/>
                <a:gridCol w="533520"/>
                <a:gridCol w="533520"/>
                <a:gridCol w="533160"/>
                <a:gridCol w="509760"/>
                <a:gridCol w="511200"/>
                <a:gridCol w="581040"/>
                <a:gridCol w="533160"/>
                <a:gridCol w="533520"/>
                <a:gridCol w="533520"/>
              </a:tblGrid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4087_1130</cp:lastModifiedBy>
  <dcterms:modified xsi:type="dcterms:W3CDTF">2012-02-02T01:34:20Z</dcterms:modified>
  <cp:revision>2530</cp:revision>
  <dc:subject/>
  <dc:title>.</dc:title>
</cp:coreProperties>
</file>