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wmf" ContentType="image/x-wmf"/>
  <Override PartName="/ppt/media/image3.png" ContentType="image/png"/>
  <Override PartName="/ppt/media/image2.png" ContentType="image/png"/>
  <Override PartName="/ppt/media/image22.gif" ContentType="image/gif"/>
  <Override PartName="/ppt/media/image25.jpeg" ContentType="image/jpeg"/>
  <Override PartName="/ppt/media/image29.png" ContentType="image/png"/>
  <Override PartName="/ppt/media/image17.png" ContentType="image/pn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20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C1FC-F625-4780-A71F-87E8DDD7F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82E4-30D5-4CDC-8F95-14DA5BB98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2F81-029B-45D0-9F9C-E52E4EC22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07C9-1620-4D55-87B6-398053CD6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AD3A-296B-4A54-84D6-8E12183D6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E468-8DC2-4B34-A3D1-40D1419B9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59AA-85DD-4036-9DE0-142BBD5E9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FE0E-7953-4077-AF77-969FB5ADA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0E2D-F53F-49D6-B37C-07890703D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42B3-9454-4BAA-AFB0-0FBE1AC91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C169-BE61-435A-B548-8A9D78002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5134-733A-46F5-A214-FC036F7A2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4AA7-D1CC-4134-9875-A64877E16411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772400" y="25560"/>
            <a:ext cx="1268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VLSI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华文行楷"/>
              <a:ea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4.png"/><Relationship Id="rId9" Type="http://schemas.openxmlformats.org/officeDocument/2006/relationships/image" Target="../media/image19.png"/><Relationship Id="rId10" Type="http://schemas.openxmlformats.org/officeDocument/2006/relationships/image" Target="../media/image14.png"/><Relationship Id="rId11" Type="http://schemas.openxmlformats.org/officeDocument/2006/relationships/image" Target="../media/image19.png"/><Relationship Id="rId12" Type="http://schemas.openxmlformats.org/officeDocument/2006/relationships/image" Target="../media/image14.png"/><Relationship Id="rId13" Type="http://schemas.openxmlformats.org/officeDocument/2006/relationships/image" Target="../media/image11.jpeg"/><Relationship Id="rId14" Type="http://schemas.openxmlformats.org/officeDocument/2006/relationships/image" Target="../media/image20.jpeg"/><Relationship Id="rId15" Type="http://schemas.openxmlformats.org/officeDocument/2006/relationships/image" Target="../media/image14.png"/><Relationship Id="rId16" Type="http://schemas.openxmlformats.org/officeDocument/2006/relationships/image" Target="../media/image19.png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image" Target="../media/image21.gif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125360"/>
            <a:ext cx="91440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xed Chroma Sampling-rate coding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3854160"/>
            <a:ext cx="525636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Calibri"/>
              </a:rPr>
              <a:t>JCTVC-H0065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Calibri"/>
              </a:rPr>
              <a:t>Feb. 1 – 10, 2011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Calibri"/>
              </a:rPr>
              <a:t>Tao Lin, Shuhui Wa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023920"/>
            <a:ext cx="8459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- combining the merits of 4:4:4 and 4:2: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- increasing past/current 4:2:0 investment valu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7118-91AE-4DBD-8A47-9E0CFF13B3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MSC Cod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920" y="728640"/>
            <a:ext cx="900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ving four coding tool (component) chai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50920" y="1376280"/>
            <a:ext cx="8737560" cy="5184720"/>
            <a:chOff x="250920" y="1376280"/>
            <a:chExt cx="8737560" cy="5184720"/>
          </a:xfrm>
        </p:grpSpPr>
        <p:sp>
          <p:nvSpPr>
            <p:cNvPr id="211" name=""/>
            <p:cNvSpPr/>
            <p:nvPr/>
          </p:nvSpPr>
          <p:spPr>
            <a:xfrm>
              <a:off x="1576440" y="6300720"/>
              <a:ext cx="100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a) Encod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0920" y="3784680"/>
              <a:ext cx="423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put CU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87400" y="1376280"/>
              <a:ext cx="2651040" cy="106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Discontinuous-tone content oriented luma encoding tool chain #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97200" y="1805040"/>
              <a:ext cx="265320" cy="170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" tIns="0" bIns="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-D Based Select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37000" y="1805040"/>
              <a:ext cx="849240" cy="53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Encoding t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ool #N</a:t>
              </a:r>
              <a:r>
                <a:rPr b="0" lang="zh-CN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25680" y="2071800"/>
              <a:ext cx="2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46160" y="1805040"/>
              <a:ext cx="849240" cy="53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coding tool #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4640" y="207180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47960" y="2019240"/>
              <a:ext cx="10620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06720" y="2019240"/>
              <a:ext cx="10620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65480" y="2019240"/>
              <a:ext cx="10620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86240" y="2071800"/>
              <a:ext cx="2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7400" y="2554200"/>
              <a:ext cx="2651040" cy="106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Continuous-tone content oriented luma encoding tool chain #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37000" y="2981160"/>
              <a:ext cx="849240" cy="53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Encoding t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ool #N</a:t>
              </a:r>
              <a:r>
                <a:rPr b="0" lang="zh-CN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25680" y="3249720"/>
              <a:ext cx="2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46160" y="2981160"/>
              <a:ext cx="849240" cy="53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coding tool #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40" y="324972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47960" y="3195720"/>
              <a:ext cx="1062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06720" y="3195720"/>
              <a:ext cx="1062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65480" y="3195720"/>
              <a:ext cx="1062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86240" y="3249720"/>
              <a:ext cx="2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5880" y="1857240"/>
              <a:ext cx="3715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lum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4640" y="2071440"/>
              <a:ext cx="0" cy="37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62520" y="255420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87400" y="3944880"/>
              <a:ext cx="2651040" cy="106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Discontinuous-tone content oriented chroma encoding tool chain #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97200" y="4373640"/>
              <a:ext cx="265320" cy="170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" tIns="0" bIns="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-D Based Select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37000" y="4373640"/>
              <a:ext cx="849240" cy="53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Encoding t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ool #N</a:t>
              </a:r>
              <a:r>
                <a:rPr b="0" lang="zh-CN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25680" y="4640400"/>
              <a:ext cx="2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46160" y="4373640"/>
              <a:ext cx="849240" cy="53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coding tool #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4640" y="464040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7960" y="4587840"/>
              <a:ext cx="10620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06720" y="4587840"/>
              <a:ext cx="10620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65480" y="4587840"/>
              <a:ext cx="10620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86240" y="4640400"/>
              <a:ext cx="2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7400" y="5122800"/>
              <a:ext cx="2651040" cy="106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Continuous-tone content oriented chroma encoding tool chain #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37000" y="5551560"/>
              <a:ext cx="849240" cy="53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Encoding t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ool #N</a:t>
              </a:r>
              <a:r>
                <a:rPr b="0" lang="zh-CN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5680" y="5818320"/>
              <a:ext cx="2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46160" y="5551560"/>
              <a:ext cx="849240" cy="53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coding tool #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640" y="581832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47960" y="5764320"/>
              <a:ext cx="1062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06720" y="5764320"/>
              <a:ext cx="1062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65480" y="5764320"/>
              <a:ext cx="1062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6240" y="5818320"/>
              <a:ext cx="2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4000" y="5818320"/>
              <a:ext cx="563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chrom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2520" y="512280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3120" y="378468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068720" y="2553840"/>
              <a:ext cx="0" cy="256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68720" y="3784680"/>
              <a:ext cx="2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8720" y="3838680"/>
              <a:ext cx="79056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MCS Bitstrea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24520" y="6300720"/>
              <a:ext cx="10047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) Decod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52000" y="3321000"/>
              <a:ext cx="6364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Constru-cted CU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54800" y="1376280"/>
              <a:ext cx="2651040" cy="106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Discontinuous-tone content oriented luma decoding tool chain #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83280" y="1628640"/>
              <a:ext cx="264960" cy="18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" tIns="0" bIns="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U Coding Type Pars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04040" y="1805040"/>
              <a:ext cx="849240" cy="53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Decoding t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ool #N</a:t>
              </a:r>
              <a:r>
                <a:rPr b="0" lang="zh-CN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91280" y="2071800"/>
              <a:ext cx="2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13560" y="1805040"/>
              <a:ext cx="847440" cy="53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coding tool #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48240" y="207180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15000" y="2019240"/>
              <a:ext cx="10656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73760" y="2019240"/>
              <a:ext cx="10656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32520" y="2019240"/>
              <a:ext cx="10656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53280" y="2071800"/>
              <a:ext cx="2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54800" y="2554200"/>
              <a:ext cx="2651040" cy="106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Continuous-tone content oriented luma decoding tool chain #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04040" y="2981160"/>
              <a:ext cx="849240" cy="53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Decoding t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ool #N</a:t>
              </a:r>
              <a:r>
                <a:rPr b="0" lang="zh-CN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3249720"/>
              <a:ext cx="2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13560" y="2981160"/>
              <a:ext cx="847440" cy="53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coding tool #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48240" y="324972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15000" y="3195720"/>
              <a:ext cx="10656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73760" y="3195720"/>
              <a:ext cx="10656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32520" y="3195720"/>
              <a:ext cx="10656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53280" y="3249720"/>
              <a:ext cx="2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11760" y="2340000"/>
              <a:ext cx="371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lum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024520" y="2553840"/>
              <a:ext cx="0" cy="256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54800" y="3944880"/>
              <a:ext cx="2651040" cy="106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Discontinuous-tone content oriented chroma decoding tool chain #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83280" y="4221000"/>
              <a:ext cx="264960" cy="185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" tIns="0" bIns="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U Coding Type Pars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04040" y="4373640"/>
              <a:ext cx="849240" cy="53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Decoding t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ool #N</a:t>
              </a:r>
              <a:r>
                <a:rPr b="0" lang="zh-CN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91280" y="4640400"/>
              <a:ext cx="2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13560" y="4373640"/>
              <a:ext cx="847440" cy="53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coding tool #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48240" y="464040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15000" y="4587840"/>
              <a:ext cx="10656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73760" y="4587840"/>
              <a:ext cx="10656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32520" y="4587840"/>
              <a:ext cx="10656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53280" y="4640400"/>
              <a:ext cx="2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54800" y="5122800"/>
              <a:ext cx="2651040" cy="106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Continuous-tone content oriented chroma decoding tool chain #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04040" y="5551560"/>
              <a:ext cx="849240" cy="53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Decoding t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ool #N</a:t>
              </a:r>
              <a:r>
                <a:rPr b="0" lang="zh-CN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91280" y="5818320"/>
              <a:ext cx="2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13560" y="5551560"/>
              <a:ext cx="847440" cy="53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coding tool #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48240" y="581832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15000" y="5764320"/>
              <a:ext cx="10656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73760" y="5764320"/>
              <a:ext cx="10656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32520" y="5764320"/>
              <a:ext cx="10656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53280" y="5818320"/>
              <a:ext cx="2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72000" y="5176800"/>
              <a:ext cx="6112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chrom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59200" y="378468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8364600" y="2071440"/>
              <a:ext cx="0" cy="37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64600" y="3784680"/>
              <a:ext cx="2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84720" y="3357720"/>
              <a:ext cx="7588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MCS Bitstrea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24520" y="255420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24520" y="5122800"/>
              <a:ext cx="1587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5FBB-294F-4AFB-8B22-98D2AF16A5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MSC Cod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2920" y="728640"/>
            <a:ext cx="882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coding tools may be shared or merged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0" y="1557360"/>
            <a:ext cx="9144000" cy="3600360"/>
            <a:chOff x="0" y="1557360"/>
            <a:chExt cx="9144000" cy="3600360"/>
          </a:xfrm>
        </p:grpSpPr>
        <p:sp>
          <p:nvSpPr>
            <p:cNvPr id="312" name=""/>
            <p:cNvSpPr/>
            <p:nvPr/>
          </p:nvSpPr>
          <p:spPr>
            <a:xfrm>
              <a:off x="539640" y="2976840"/>
              <a:ext cx="2854440" cy="11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CCO luma and chroma-subsampled hybrid encoding tool chai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95480" y="3449880"/>
              <a:ext cx="382320" cy="60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33600" y="3449880"/>
              <a:ext cx="3826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38520" y="3449880"/>
              <a:ext cx="60156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tropy Enco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00400" y="3449880"/>
              <a:ext cx="38232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ca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71720" y="3449880"/>
              <a:ext cx="2728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Qu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4360" y="4869000"/>
              <a:ext cx="103680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(a) Encod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2976840"/>
              <a:ext cx="4381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Input CU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9640" y="1557360"/>
              <a:ext cx="2854440" cy="11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36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DCO luma and full-chroma dictionary-entropy encoding tool chai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59320" y="2032200"/>
              <a:ext cx="272880" cy="18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" tIns="0" bIns="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R-D Based Select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63840" y="2032200"/>
              <a:ext cx="876240" cy="59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Entropy encod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25720" y="23274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0800" y="2028960"/>
              <a:ext cx="1204920" cy="590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String search &amp; match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8120" y="2327400"/>
              <a:ext cx="3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40080" y="232740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77800" y="3745080"/>
              <a:ext cx="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120" y="374508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40080" y="374508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38120" y="2327400"/>
              <a:ext cx="0" cy="14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000" y="2976840"/>
              <a:ext cx="38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32200" y="297684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32200" y="2976840"/>
              <a:ext cx="712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MCS Bitstrea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13360" y="4869000"/>
              <a:ext cx="10382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(b) Decod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86640" y="2562480"/>
              <a:ext cx="6573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Constru-cted CU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84680" y="1557360"/>
              <a:ext cx="2803680" cy="11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36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DCO luma and full-chroma dictionary-entropy decoding tool chai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02360" y="2032200"/>
              <a:ext cx="272880" cy="18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" tIns="0" bIns="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CU Coding Type Pars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49920" y="2032200"/>
              <a:ext cx="874800" cy="59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Entropy decod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75240" y="232740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67760" y="232740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84680" y="2976840"/>
              <a:ext cx="2803680" cy="11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CCO luma and chroma-subsampled hybrid decoding tool chai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75240" y="374508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8486640" y="2327400"/>
              <a:ext cx="0" cy="14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86640" y="297684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89560" y="2562480"/>
              <a:ext cx="712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MCS Bitstrea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37120" y="29768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16280" y="374508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44600" y="3745080"/>
              <a:ext cx="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82720" y="3745080"/>
              <a:ext cx="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6800" y="3449880"/>
              <a:ext cx="272880" cy="591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V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39680" y="3745080"/>
              <a:ext cx="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98560" y="3757680"/>
              <a:ext cx="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47960" y="2739960"/>
              <a:ext cx="54612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shar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174840" y="256212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230640" y="2917440"/>
              <a:ext cx="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2158200" y="3155040"/>
              <a:ext cx="119160" cy="224460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58320 h 2244600"/>
                <a:gd name="textAreaBottom" fmla="*/ 2186280 h 224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95480" y="4337280"/>
              <a:ext cx="24080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The existing hevc/avc/mpeg1/2/4 4:2:0 hybrid coders are used as i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0" y="4159440"/>
              <a:ext cx="1039680" cy="532800"/>
              <a:chOff x="0" y="4159440"/>
              <a:chExt cx="1039680" cy="532800"/>
            </a:xfrm>
          </p:grpSpPr>
          <p:sp>
            <p:nvSpPr>
              <p:cNvPr id="359" name=""/>
              <p:cNvSpPr/>
              <p:nvPr/>
            </p:nvSpPr>
            <p:spPr>
              <a:xfrm>
                <a:off x="109440" y="4159440"/>
                <a:ext cx="109440" cy="29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8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218480"/>
                <a:ext cx="103968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imes New Roman"/>
                  </a:rPr>
                  <a:t>= the only new additions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7062840" y="2030400"/>
              <a:ext cx="1204920" cy="592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String constructio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4720" y="23259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56400" y="3449880"/>
              <a:ext cx="382680" cy="60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18280" y="3449880"/>
              <a:ext cx="3826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Inv.Tra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94480" y="3449880"/>
              <a:ext cx="60156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tropy Deco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51480" y="3449880"/>
              <a:ext cx="3826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Inv.Sca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89600" y="3449880"/>
              <a:ext cx="27324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DeQu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62840" y="374508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67760" y="374508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34160" y="374508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96040" y="374508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39080" y="374508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4520" y="3449880"/>
              <a:ext cx="273240" cy="591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V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00960" y="374508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126280" y="3757320"/>
              <a:ext cx="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6200000">
              <a:off x="6703200" y="3155040"/>
              <a:ext cx="119160" cy="224460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58320 h 2244600"/>
                <a:gd name="textAreaBottom" fmla="*/ 2186280 h 224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08720" y="4337280"/>
              <a:ext cx="2539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The existing hevc/h264/mpeg1/2/4 4:2:0 hybrid coders are used as i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8048520" y="4218120"/>
              <a:ext cx="1041480" cy="533160"/>
              <a:chOff x="8048520" y="4218120"/>
              <a:chExt cx="1041480" cy="533160"/>
            </a:xfrm>
          </p:grpSpPr>
          <p:sp>
            <p:nvSpPr>
              <p:cNvPr id="379" name=""/>
              <p:cNvSpPr/>
              <p:nvPr/>
            </p:nvSpPr>
            <p:spPr>
              <a:xfrm>
                <a:off x="8157960" y="4218120"/>
                <a:ext cx="109440" cy="296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8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48520" y="4277160"/>
                <a:ext cx="104148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imes New Roman"/>
                  </a:rPr>
                  <a:t>= the only new additions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5803920" y="2739960"/>
              <a:ext cx="54756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shar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078600" y="256212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022800" y="2917440"/>
              <a:ext cx="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030D-EA14-43FC-812F-D462613982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MSC Cod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2920" y="728640"/>
            <a:ext cx="882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coding tools may be shared or merged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1557360"/>
            <a:ext cx="9144000" cy="3600360"/>
            <a:chOff x="0" y="1557360"/>
            <a:chExt cx="9144000" cy="3600360"/>
          </a:xfrm>
        </p:grpSpPr>
        <p:sp>
          <p:nvSpPr>
            <p:cNvPr id="387" name=""/>
            <p:cNvSpPr/>
            <p:nvPr/>
          </p:nvSpPr>
          <p:spPr>
            <a:xfrm>
              <a:off x="539640" y="2976840"/>
              <a:ext cx="2854440" cy="11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CCO luma and chroma-subsampled hybrid encoding tool chai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95480" y="3449880"/>
              <a:ext cx="382320" cy="60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33600" y="3449880"/>
              <a:ext cx="3826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8520" y="3449880"/>
              <a:ext cx="60156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tropy Enco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00400" y="3449880"/>
              <a:ext cx="38232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ca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71720" y="3449880"/>
              <a:ext cx="2728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Qu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14360" y="4869000"/>
              <a:ext cx="103680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(a) Encod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976840"/>
              <a:ext cx="4381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Input CU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9640" y="1557360"/>
              <a:ext cx="2854440" cy="11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36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DCO luma and full-chroma dictionary-entropy encoding tool chai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59320" y="2032200"/>
              <a:ext cx="272880" cy="18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" tIns="0" bIns="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R-D Based Select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63840" y="2032200"/>
              <a:ext cx="876240" cy="59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Entropy encod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25720" y="23274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20800" y="2028960"/>
              <a:ext cx="1204920" cy="590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4:4:4 Direct Predict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8120" y="2327400"/>
              <a:ext cx="3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40080" y="232740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77800" y="3745080"/>
              <a:ext cx="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120" y="374508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40080" y="374508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38120" y="2327400"/>
              <a:ext cx="0" cy="14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000" y="2976840"/>
              <a:ext cx="38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32200" y="297684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32200" y="2976840"/>
              <a:ext cx="712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MCS Bitstrea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13360" y="4869000"/>
              <a:ext cx="10382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(b) Decod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486640" y="2562480"/>
              <a:ext cx="6573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Constru-cted CU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84680" y="1557360"/>
              <a:ext cx="2803680" cy="11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36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DCO luma and full-chroma dictionary-entropy decoding tool chai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02360" y="2032200"/>
              <a:ext cx="272880" cy="18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" tIns="0" bIns="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CU Coding Type Pars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49920" y="2032200"/>
              <a:ext cx="874800" cy="59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Entropy decod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75240" y="232740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67760" y="232740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84680" y="2976840"/>
              <a:ext cx="2803680" cy="11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CCO luma and chroma-subsampled hybrid decoding tool chai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75240" y="374508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8486640" y="2327400"/>
              <a:ext cx="0" cy="141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486640" y="297684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89560" y="2562480"/>
              <a:ext cx="712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MCS Bitstrea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37120" y="29768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16280" y="374508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44600" y="3745080"/>
              <a:ext cx="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82720" y="3745080"/>
              <a:ext cx="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6800" y="3449880"/>
              <a:ext cx="272880" cy="591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V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39680" y="3745080"/>
              <a:ext cx="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98560" y="3757680"/>
              <a:ext cx="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47960" y="2739960"/>
              <a:ext cx="54612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shar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174840" y="256212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230640" y="2917440"/>
              <a:ext cx="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2158200" y="3155040"/>
              <a:ext cx="119160" cy="224460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58320 h 2244600"/>
                <a:gd name="textAreaBottom" fmla="*/ 2186280 h 224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95480" y="4337280"/>
              <a:ext cx="24080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The existing hevc/avc/mpeg1/2/4 4:2:0 hybrid coders are used as i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0" y="4159440"/>
              <a:ext cx="1039680" cy="532800"/>
              <a:chOff x="0" y="4159440"/>
              <a:chExt cx="1039680" cy="532800"/>
            </a:xfrm>
          </p:grpSpPr>
          <p:sp>
            <p:nvSpPr>
              <p:cNvPr id="434" name=""/>
              <p:cNvSpPr/>
              <p:nvPr/>
            </p:nvSpPr>
            <p:spPr>
              <a:xfrm>
                <a:off x="109440" y="4159440"/>
                <a:ext cx="109440" cy="29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8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4218480"/>
                <a:ext cx="103968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imes New Roman"/>
                  </a:rPr>
                  <a:t>= the only new additions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7062840" y="2030400"/>
              <a:ext cx="1204920" cy="592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4:4:4 Direct Predict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4720" y="23259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56400" y="3449880"/>
              <a:ext cx="382680" cy="60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18280" y="3449880"/>
              <a:ext cx="3826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Inv.Tra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94480" y="3449880"/>
              <a:ext cx="60156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tropy Decod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51480" y="3449880"/>
              <a:ext cx="38268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Inv.Sca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89600" y="3449880"/>
              <a:ext cx="273240" cy="5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DeQu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62840" y="374508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67760" y="374508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34160" y="374508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96040" y="374508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39080" y="374508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94520" y="3449880"/>
              <a:ext cx="273240" cy="591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V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00960" y="374508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8126280" y="3757320"/>
              <a:ext cx="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6703200" y="3155040"/>
              <a:ext cx="119160" cy="224460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58320 h 2244600"/>
                <a:gd name="textAreaBottom" fmla="*/ 2186280 h 224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08720" y="4337280"/>
              <a:ext cx="2539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Times New Roman"/>
                </a:rPr>
                <a:t>The existing hevc/h264/mpeg1/2/4 4:2:0 hybrid coders are used as i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8048520" y="4218120"/>
              <a:ext cx="1041480" cy="533160"/>
              <a:chOff x="8048520" y="4218120"/>
              <a:chExt cx="1041480" cy="533160"/>
            </a:xfrm>
          </p:grpSpPr>
          <p:sp>
            <p:nvSpPr>
              <p:cNvPr id="454" name=""/>
              <p:cNvSpPr/>
              <p:nvPr/>
            </p:nvSpPr>
            <p:spPr>
              <a:xfrm>
                <a:off x="8157960" y="4218120"/>
                <a:ext cx="109440" cy="296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8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048520" y="4277160"/>
                <a:ext cx="104148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imes New Roman"/>
                  </a:rPr>
                  <a:t>= the only new additions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803920" y="2739960"/>
              <a:ext cx="54756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shar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6078600" y="256212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6022800" y="2917440"/>
              <a:ext cx="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C021-4CD4-4D50-AA16-ED5AC869F8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8280360" y="3465360"/>
            <a:ext cx="3826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8920" y="3465360"/>
            <a:ext cx="382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MSC Cod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2920" y="728640"/>
            <a:ext cx="882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coding tools may be shared or merged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9640" y="2976480"/>
            <a:ext cx="2854440" cy="118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CCO luma and chroma-subsampled hybrid en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5640" y="3465360"/>
            <a:ext cx="720720" cy="28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Pred-UV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33600" y="3449520"/>
            <a:ext cx="38268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38520" y="3449520"/>
            <a:ext cx="60156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opy Encod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00400" y="3449520"/>
            <a:ext cx="38232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71720" y="3449520"/>
            <a:ext cx="27288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Q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314360" y="4869000"/>
            <a:ext cx="10368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(a) Encod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2976480"/>
            <a:ext cx="438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put C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9640" y="1557360"/>
            <a:ext cx="2854440" cy="118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DCO luma and full-chroma dictionary-entropy en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59320" y="2031840"/>
            <a:ext cx="27288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88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R-D Based Selecto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63840" y="2031840"/>
            <a:ext cx="87624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opy encod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25720" y="232740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0800" y="2028960"/>
            <a:ext cx="1204920" cy="590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tring search &amp; match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8120" y="232740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40080" y="232740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77800" y="374508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8120" y="374508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40080" y="37450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38120" y="2327400"/>
            <a:ext cx="0" cy="14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000" y="297648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32200" y="29764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32200" y="2976480"/>
            <a:ext cx="712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MCS Bitstream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13360" y="4869000"/>
            <a:ext cx="103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(b) Decod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486640" y="2562120"/>
            <a:ext cx="657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Constru-cted C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84680" y="1557360"/>
            <a:ext cx="2803680" cy="118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DCO luma and full-chroma dictionary-entropy de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02360" y="2031840"/>
            <a:ext cx="27288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88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U Coding Type Pars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49920" y="2031840"/>
            <a:ext cx="87480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opy decod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75240" y="232740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267760" y="2327400"/>
            <a:ext cx="21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84680" y="2976480"/>
            <a:ext cx="2803680" cy="118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CCO luma and chroma-subsampled hybrid de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75240" y="37450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8486640" y="2327400"/>
            <a:ext cx="0" cy="14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486640" y="29764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89560" y="2562120"/>
            <a:ext cx="712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MCS Bitstream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37120" y="297648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1628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44600" y="374508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82720" y="374508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079640" y="38973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55640" y="3753000"/>
            <a:ext cx="32400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V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40000" y="3500280"/>
            <a:ext cx="0" cy="23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47960" y="2739960"/>
            <a:ext cx="5461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ha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174840" y="25617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230640" y="291780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2158200" y="3155040"/>
            <a:ext cx="118800" cy="2244600"/>
          </a:xfrm>
          <a:custGeom>
            <a:avLst/>
            <a:gdLst>
              <a:gd name="textAreaLeft" fmla="*/ 75960 w 118800"/>
              <a:gd name="textAreaRight" fmla="*/ 119160 w 118800"/>
              <a:gd name="textAreaTop" fmla="*/ 58320 h 2244600"/>
              <a:gd name="textAreaBottom" fmla="*/ 2186280 h 22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95480" y="4336920"/>
            <a:ext cx="240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The existing hevc/avc/mpeg1/2/4 4:2:0 hybrid coders are used as 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0" y="4159080"/>
            <a:ext cx="1039680" cy="533160"/>
            <a:chOff x="0" y="4159080"/>
            <a:chExt cx="1039680" cy="533160"/>
          </a:xfrm>
        </p:grpSpPr>
        <p:sp>
          <p:nvSpPr>
            <p:cNvPr id="510" name=""/>
            <p:cNvSpPr/>
            <p:nvPr/>
          </p:nvSpPr>
          <p:spPr>
            <a:xfrm>
              <a:off x="109440" y="4159080"/>
              <a:ext cx="109440" cy="29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4218120"/>
              <a:ext cx="103968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= the only new addition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7062840" y="2030400"/>
            <a:ext cx="1204920" cy="592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tring construc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4720" y="232560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18280" y="3449520"/>
            <a:ext cx="38268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nv.Tr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694480" y="3449520"/>
            <a:ext cx="60156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opy Decod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51480" y="3449520"/>
            <a:ext cx="38268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nv.Sc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89600" y="3449520"/>
            <a:ext cx="273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DeQ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6284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67760" y="3745080"/>
            <a:ext cx="21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73416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9604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50096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6703200" y="3155040"/>
            <a:ext cx="118800" cy="2244600"/>
          </a:xfrm>
          <a:custGeom>
            <a:avLst/>
            <a:gdLst>
              <a:gd name="textAreaLeft" fmla="*/ 75960 w 118800"/>
              <a:gd name="textAreaRight" fmla="*/ 119160 w 118800"/>
              <a:gd name="textAreaTop" fmla="*/ 58320 h 2244600"/>
              <a:gd name="textAreaBottom" fmla="*/ 2186280 h 22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508720" y="4336920"/>
            <a:ext cx="2539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The existing hevc/h264/mpeg1/2/4 4:2:0 hybrid coders are used as 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8048520" y="4218120"/>
            <a:ext cx="1041480" cy="532800"/>
            <a:chOff x="8048520" y="4218120"/>
            <a:chExt cx="1041480" cy="532800"/>
          </a:xfrm>
        </p:grpSpPr>
        <p:sp>
          <p:nvSpPr>
            <p:cNvPr id="526" name=""/>
            <p:cNvSpPr/>
            <p:nvPr/>
          </p:nvSpPr>
          <p:spPr>
            <a:xfrm>
              <a:off x="8157960" y="4218120"/>
              <a:ext cx="109440" cy="295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048520" y="4277160"/>
              <a:ext cx="104148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= the only new addition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5803920" y="2739960"/>
            <a:ext cx="547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ha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078600" y="25617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6022800" y="291780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8920" y="3789360"/>
            <a:ext cx="382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r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116000" y="3753000"/>
            <a:ext cx="360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P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08000" y="3789360"/>
            <a:ext cx="0" cy="23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280360" y="3789360"/>
            <a:ext cx="3826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r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7559640" y="3429000"/>
            <a:ext cx="720720" cy="576360"/>
            <a:chOff x="7559640" y="3429000"/>
            <a:chExt cx="720720" cy="576360"/>
          </a:xfrm>
        </p:grpSpPr>
        <p:sp>
          <p:nvSpPr>
            <p:cNvPr id="536" name=""/>
            <p:cNvSpPr/>
            <p:nvPr/>
          </p:nvSpPr>
          <p:spPr>
            <a:xfrm>
              <a:off x="7559640" y="3429000"/>
              <a:ext cx="720720" cy="28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UV -Pr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20000" y="386100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47280" y="3465720"/>
              <a:ext cx="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59640" y="3716640"/>
              <a:ext cx="36036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Pr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7954920" y="3716640"/>
              <a:ext cx="324000" cy="288720"/>
              <a:chOff x="7954920" y="3716640"/>
              <a:chExt cx="324000" cy="288720"/>
            </a:xfrm>
          </p:grpSpPr>
          <p:sp>
            <p:nvSpPr>
              <p:cNvPr id="541" name=""/>
              <p:cNvSpPr/>
              <p:nvPr/>
            </p:nvSpPr>
            <p:spPr>
              <a:xfrm>
                <a:off x="7954920" y="3716640"/>
                <a:ext cx="324000" cy="288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800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V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207640" y="3753000"/>
                <a:ext cx="0" cy="23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482D-564C-4064-8B33-916F4D6C14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MSC Cod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2920" y="728640"/>
            <a:ext cx="882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coding tools may be shared or merged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9640" y="2976480"/>
            <a:ext cx="2854440" cy="118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CCO luma and chroma-subsampled hybrid en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5640" y="3465360"/>
            <a:ext cx="382680" cy="608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P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33600" y="3449520"/>
            <a:ext cx="38268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38520" y="3449520"/>
            <a:ext cx="60156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opy Encod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00400" y="3449520"/>
            <a:ext cx="38232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71720" y="3449520"/>
            <a:ext cx="27288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Q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14360" y="4869000"/>
            <a:ext cx="10368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(a) Encod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976480"/>
            <a:ext cx="438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put C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9640" y="1557360"/>
            <a:ext cx="2854440" cy="118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DCO luma and full-chroma dictionary-entropy en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59320" y="2031840"/>
            <a:ext cx="27288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88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R-D Based Selecto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463840" y="2031840"/>
            <a:ext cx="87624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opy encod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25720" y="232740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20800" y="2028960"/>
            <a:ext cx="1204920" cy="590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tring search &amp; match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8120" y="232740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40080" y="232740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77800" y="374508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8120" y="374508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40080" y="37450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8120" y="2327400"/>
            <a:ext cx="0" cy="14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000" y="297648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32200" y="29764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32200" y="2976480"/>
            <a:ext cx="712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MCS Bitstream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13360" y="4869000"/>
            <a:ext cx="103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(b) Decod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486640" y="2562120"/>
            <a:ext cx="657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Constru-cted C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84680" y="1557360"/>
            <a:ext cx="2803680" cy="118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DCO luma and full-chroma dictionary-entropy de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02360" y="2031840"/>
            <a:ext cx="27288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88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U Coding Type Pars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749920" y="2031840"/>
            <a:ext cx="87480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opy decod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75240" y="232740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67760" y="2327400"/>
            <a:ext cx="21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84680" y="2976480"/>
            <a:ext cx="2803680" cy="118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CCO luma and chroma-subsampled hybrid de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75240" y="37450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8486640" y="2327400"/>
            <a:ext cx="0" cy="14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486640" y="29764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89560" y="2562120"/>
            <a:ext cx="712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MCS Bitstream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37120" y="297648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1628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44600" y="374508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82720" y="374508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16000" y="375300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187280" y="3465360"/>
            <a:ext cx="272880" cy="592200"/>
            <a:chOff x="1187280" y="3465360"/>
            <a:chExt cx="272880" cy="592200"/>
          </a:xfrm>
        </p:grpSpPr>
        <p:sp>
          <p:nvSpPr>
            <p:cNvPr id="585" name=""/>
            <p:cNvSpPr/>
            <p:nvPr/>
          </p:nvSpPr>
          <p:spPr>
            <a:xfrm>
              <a:off x="1187280" y="3465360"/>
              <a:ext cx="272880" cy="592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V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19040" y="3773520"/>
              <a:ext cx="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847960" y="2739960"/>
            <a:ext cx="5461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ha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174840" y="25617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230640" y="291780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16200000">
            <a:off x="2388240" y="3377160"/>
            <a:ext cx="110880" cy="1792440"/>
          </a:xfrm>
          <a:custGeom>
            <a:avLst/>
            <a:gdLst>
              <a:gd name="textAreaLeft" fmla="*/ 70920 w 110880"/>
              <a:gd name="textAreaRight" fmla="*/ 111240 w 110880"/>
              <a:gd name="textAreaTop" fmla="*/ 46440 h 1792440"/>
              <a:gd name="textAreaBottom" fmla="*/ 1746000 h 17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32000" y="4329000"/>
            <a:ext cx="240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The existing hevc/avc/mpeg1/2/4 4:2:0 hybrid coders are used as 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0" y="4159080"/>
            <a:ext cx="1039680" cy="533160"/>
            <a:chOff x="0" y="4159080"/>
            <a:chExt cx="1039680" cy="533160"/>
          </a:xfrm>
        </p:grpSpPr>
        <p:sp>
          <p:nvSpPr>
            <p:cNvPr id="593" name=""/>
            <p:cNvSpPr/>
            <p:nvPr/>
          </p:nvSpPr>
          <p:spPr>
            <a:xfrm>
              <a:off x="109440" y="4159080"/>
              <a:ext cx="109440" cy="29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4218120"/>
              <a:ext cx="103968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= the only new addition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7062840" y="2030400"/>
            <a:ext cx="1204920" cy="592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tring construc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24720" y="232560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885080" y="3429000"/>
            <a:ext cx="382680" cy="608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P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18280" y="3449520"/>
            <a:ext cx="38268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nv.Tr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694480" y="3449520"/>
            <a:ext cx="60156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opy Decod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51480" y="3449520"/>
            <a:ext cx="38268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nv.Sc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9600" y="3449520"/>
            <a:ext cx="273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DeQ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6284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267760" y="3745080"/>
            <a:ext cx="21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73416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29604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812000" y="375300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50096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7559640" y="3429000"/>
            <a:ext cx="273240" cy="592200"/>
            <a:chOff x="7559640" y="3429000"/>
            <a:chExt cx="273240" cy="592200"/>
          </a:xfrm>
        </p:grpSpPr>
        <p:sp>
          <p:nvSpPr>
            <p:cNvPr id="609" name=""/>
            <p:cNvSpPr/>
            <p:nvPr/>
          </p:nvSpPr>
          <p:spPr>
            <a:xfrm>
              <a:off x="7559640" y="3429000"/>
              <a:ext cx="273240" cy="592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V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691400" y="3736800"/>
              <a:ext cx="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 rot="16200000">
            <a:off x="6508800" y="3349440"/>
            <a:ext cx="110880" cy="1847880"/>
          </a:xfrm>
          <a:custGeom>
            <a:avLst/>
            <a:gdLst>
              <a:gd name="textAreaLeft" fmla="*/ 70920 w 110880"/>
              <a:gd name="textAreaRight" fmla="*/ 111240 w 110880"/>
              <a:gd name="textAreaTop" fmla="*/ 47880 h 1847880"/>
              <a:gd name="textAreaBottom" fmla="*/ 1800000 h 18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6360" y="4329000"/>
            <a:ext cx="2539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The existing hevc/h264/mpeg1/2/4 4:2:0 hybrid coders are used as 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8048520" y="4218120"/>
            <a:ext cx="1041480" cy="532800"/>
            <a:chOff x="8048520" y="4218120"/>
            <a:chExt cx="1041480" cy="532800"/>
          </a:xfrm>
        </p:grpSpPr>
        <p:sp>
          <p:nvSpPr>
            <p:cNvPr id="614" name=""/>
            <p:cNvSpPr/>
            <p:nvPr/>
          </p:nvSpPr>
          <p:spPr>
            <a:xfrm>
              <a:off x="8157960" y="4218120"/>
              <a:ext cx="109440" cy="295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48520" y="4277160"/>
              <a:ext cx="104148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= the only new addition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5803920" y="2739960"/>
            <a:ext cx="547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ha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6078600" y="25617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022800" y="291780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6638-ADF5-435A-AFAD-45AC94CE2F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MSC Cod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2920" y="728640"/>
            <a:ext cx="882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coding tools may be shared or merged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9640" y="2976480"/>
            <a:ext cx="2854440" cy="118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CCO luma and chroma-subsampled hybrid en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47640" y="3465360"/>
            <a:ext cx="382680" cy="608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P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16000" y="3465360"/>
            <a:ext cx="382680" cy="592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738520" y="3449520"/>
            <a:ext cx="60156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opy Encod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300400" y="3449520"/>
            <a:ext cx="38232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71720" y="3449520"/>
            <a:ext cx="27288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Q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14360" y="4869000"/>
            <a:ext cx="10368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(a) Encod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2976480"/>
            <a:ext cx="438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put C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39640" y="1557360"/>
            <a:ext cx="2854440" cy="118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DCO luma and full-chroma dictionary-entropy en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59320" y="2031840"/>
            <a:ext cx="27288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88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R-D Based Selecto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63840" y="2031840"/>
            <a:ext cx="87624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opy encod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25720" y="232740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20800" y="2028960"/>
            <a:ext cx="1204920" cy="590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tring search &amp; match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8120" y="232740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40080" y="232740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77800" y="374508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8120" y="3745080"/>
            <a:ext cx="2095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40080" y="37450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38120" y="2327400"/>
            <a:ext cx="0" cy="14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000" y="297648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32200" y="29764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2200" y="2976480"/>
            <a:ext cx="712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MCS Bitstream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13360" y="4869000"/>
            <a:ext cx="103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(b) Decod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86640" y="2562120"/>
            <a:ext cx="657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Constru-cted C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584680" y="1557360"/>
            <a:ext cx="2803680" cy="118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DCO luma and full-chroma dictionary-entropy de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02360" y="2031840"/>
            <a:ext cx="27288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88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U Coding Type Pars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49920" y="2031840"/>
            <a:ext cx="87480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opy decodin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75240" y="232740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267760" y="2327400"/>
            <a:ext cx="21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584680" y="2976480"/>
            <a:ext cx="2803680" cy="118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CCO luma and chroma-subsampled hybrid decoding tool chai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75240" y="37450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8486640" y="2327400"/>
            <a:ext cx="0" cy="14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486640" y="297648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560" y="2562120"/>
            <a:ext cx="712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MCS Bitstream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37120" y="297648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1628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44600" y="374508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82720" y="374508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42920" y="375300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47640" y="3465360"/>
            <a:ext cx="344520" cy="592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3/4 coe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92360" y="386064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47960" y="2739960"/>
            <a:ext cx="5461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ha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174840" y="25617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230640" y="291780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388240" y="3377160"/>
            <a:ext cx="110880" cy="1792440"/>
          </a:xfrm>
          <a:custGeom>
            <a:avLst/>
            <a:gdLst>
              <a:gd name="textAreaLeft" fmla="*/ 70920 w 110880"/>
              <a:gd name="textAreaRight" fmla="*/ 111240 w 110880"/>
              <a:gd name="textAreaTop" fmla="*/ 46440 h 1792440"/>
              <a:gd name="textAreaBottom" fmla="*/ 1746000 h 17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32000" y="4329000"/>
            <a:ext cx="240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The existing hevc/avc/mpeg1/2/4 4:2:0 hybrid coders are used as 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0" y="4159080"/>
            <a:ext cx="1039680" cy="533160"/>
            <a:chOff x="0" y="4159080"/>
            <a:chExt cx="1039680" cy="533160"/>
          </a:xfrm>
        </p:grpSpPr>
        <p:sp>
          <p:nvSpPr>
            <p:cNvPr id="668" name=""/>
            <p:cNvSpPr/>
            <p:nvPr/>
          </p:nvSpPr>
          <p:spPr>
            <a:xfrm>
              <a:off x="109440" y="4159080"/>
              <a:ext cx="109440" cy="29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0" y="4218120"/>
              <a:ext cx="103968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= the only new addition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7062840" y="2030400"/>
            <a:ext cx="1204920" cy="592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tring construc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624720" y="232560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24720" y="3429000"/>
            <a:ext cx="382680" cy="592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nv.Tr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694480" y="3449520"/>
            <a:ext cx="60156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opy Decod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51480" y="3449520"/>
            <a:ext cx="38268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Inv.Sca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89600" y="3449520"/>
            <a:ext cx="273240" cy="5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DeQu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6284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8317080" y="3745080"/>
            <a:ext cx="16956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3416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96040" y="374508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920000" y="3753000"/>
            <a:ext cx="5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451640" y="3753000"/>
            <a:ext cx="5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7272360" y="3789000"/>
            <a:ext cx="0" cy="23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16200000">
            <a:off x="6508800" y="3349440"/>
            <a:ext cx="110880" cy="1847880"/>
          </a:xfrm>
          <a:custGeom>
            <a:avLst/>
            <a:gdLst>
              <a:gd name="textAreaLeft" fmla="*/ 70920 w 110880"/>
              <a:gd name="textAreaRight" fmla="*/ 111240 w 110880"/>
              <a:gd name="textAreaTop" fmla="*/ 47880 h 1847880"/>
              <a:gd name="textAreaBottom" fmla="*/ 1800000 h 18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256360" y="4329000"/>
            <a:ext cx="2539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The existing hevc/h264/mpeg1/2/4 4:2:0 hybrid coders are used as 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8048520" y="4218120"/>
            <a:ext cx="1041480" cy="532800"/>
            <a:chOff x="8048520" y="4218120"/>
            <a:chExt cx="1041480" cy="532800"/>
          </a:xfrm>
        </p:grpSpPr>
        <p:sp>
          <p:nvSpPr>
            <p:cNvPr id="686" name=""/>
            <p:cNvSpPr/>
            <p:nvPr/>
          </p:nvSpPr>
          <p:spPr>
            <a:xfrm>
              <a:off x="8157960" y="4218120"/>
              <a:ext cx="109440" cy="295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048520" y="4277160"/>
              <a:ext cx="104148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= the only new addition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5803920" y="2739960"/>
            <a:ext cx="5475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sha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6078600" y="25617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6022800" y="2917800"/>
            <a:ext cx="0" cy="59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956720" y="3429000"/>
            <a:ext cx="382320" cy="608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Pre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28000" y="3429000"/>
            <a:ext cx="344520" cy="592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3/4 coe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EDCA-6898-46EB-A334-F4004F0BCE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11280" y="115920"/>
            <a:ext cx="582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bout Discontinuous-tone Cont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1640" y="657360"/>
            <a:ext cx="83883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1800" indent="-361800"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ll Discontinuous-tone Contents Are Created Equ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61800" indent="-361800"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ontinuous-tone Content Oriented (DCO) coders are usually much simpler than Hybrid Co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61800" indent="-361800"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Not One Size Fits A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893880" indent="-35244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combo of different simple DCO coders fits bet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849320" y="3141720"/>
            <a:ext cx="5065920" cy="3240000"/>
            <a:chOff x="1849320" y="3141720"/>
            <a:chExt cx="5065920" cy="3240000"/>
          </a:xfrm>
        </p:grpSpPr>
        <p:sp>
          <p:nvSpPr>
            <p:cNvPr id="696" name=""/>
            <p:cNvSpPr/>
            <p:nvPr/>
          </p:nvSpPr>
          <p:spPr>
            <a:xfrm>
              <a:off x="2087640" y="3141720"/>
              <a:ext cx="4681440" cy="32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36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DCO luma and full-chroma coding tool chain comb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8720" y="3573360"/>
              <a:ext cx="273240" cy="248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" tIns="0" bIns="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R-D Based Select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696000" y="490536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299200" y="5673600"/>
              <a:ext cx="87624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Entropy encod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119560" y="59259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38480" y="5673600"/>
              <a:ext cx="1087560" cy="50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String search &amp; match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75440" y="596916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68600" y="5670720"/>
              <a:ext cx="432000" cy="49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RL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325680" y="592308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38480" y="5673600"/>
              <a:ext cx="1087200" cy="50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A 4-mode intra predicto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849320" y="5923080"/>
              <a:ext cx="3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00600" y="5923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27640" y="3573360"/>
              <a:ext cx="87624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Entropy encod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48360" y="382572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67280" y="3573360"/>
              <a:ext cx="1087200" cy="50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String search &amp; match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03880" y="386856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97400" y="3570120"/>
              <a:ext cx="43164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RL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71640" y="3825720"/>
              <a:ext cx="16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29040" y="38228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27640" y="4257720"/>
              <a:ext cx="876240" cy="49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Entropy encod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48360" y="451008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067280" y="4257720"/>
              <a:ext cx="1087200" cy="50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String search &amp; match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203880" y="455292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60720" y="4254480"/>
              <a:ext cx="868320" cy="49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Hextil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58c"/>
                  </a:solidFill>
                  <a:latin typeface="Times New Roman"/>
                </a:rPr>
                <a:t>(2D RLE)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871640" y="451008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929040" y="45068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34120" y="4902120"/>
              <a:ext cx="876240" cy="49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Entropy encod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54480" y="515448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073400" y="4902120"/>
              <a:ext cx="1087560" cy="50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String search &amp; matchi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210360" y="519732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878120" y="5154480"/>
              <a:ext cx="21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95640" y="4941720"/>
              <a:ext cx="71892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Coder 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32000" y="4292640"/>
              <a:ext cx="6397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Coder 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32000" y="3608280"/>
              <a:ext cx="6397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Coder 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32000" y="5445000"/>
              <a:ext cx="6397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imes New Roman"/>
                </a:rPr>
                <a:t>Coder 4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4565-CC68-42C0-9660-3115B7E4DA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1511280" y="115920"/>
            <a:ext cx="582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Experimental Resul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31640" y="657360"/>
            <a:ext cx="838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1800" indent="-361800"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ontinuous-tone Content: Not All The Sa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61800" indent="-361800"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One Size Fits All: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few simple DCO coders fit bet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1800360" y="1700280"/>
            <a:ext cx="5368680" cy="16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4" name=""/>
          <p:cNvGraphicFramePr/>
          <p:nvPr/>
        </p:nvGraphicFramePr>
        <p:xfrm>
          <a:off x="1835280" y="3645000"/>
          <a:ext cx="5292720" cy="1822320"/>
        </p:xfrm>
        <a:graphic>
          <a:graphicData uri="http://schemas.openxmlformats.org/drawingml/2006/table">
            <a:tbl>
              <a:tblPr/>
              <a:tblGrid>
                <a:gridCol w="406440"/>
                <a:gridCol w="407880"/>
                <a:gridCol w="406440"/>
                <a:gridCol w="407880"/>
                <a:gridCol w="406440"/>
                <a:gridCol w="407880"/>
                <a:gridCol w="406440"/>
                <a:gridCol w="407880"/>
                <a:gridCol w="406440"/>
                <a:gridCol w="408240"/>
                <a:gridCol w="406080"/>
                <a:gridCol w="408240"/>
                <a:gridCol w="406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604440" y="5479200"/>
            <a:ext cx="83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ahoma"/>
              </a:rPr>
              <a:t>Optimal Coders Selected for 13x4 Macroblocks in Above Test Imag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31640" y="6165720"/>
            <a:ext cx="871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1800" indent="-361800"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xperiment Results on MCS coding: See JCTVC-H007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9B75-C707-418F-ACC9-1669C18F6D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6225-DFC1-4611-9D73-C0004D3252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92360" y="68400"/>
            <a:ext cx="5327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ast Growing Interest in SC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39" name=""/>
          <p:cNvCxnSpPr/>
          <p:nvPr/>
        </p:nvCxnSpPr>
        <p:spPr>
          <a:xfrm>
            <a:off x="2617920" y="5129280"/>
            <a:ext cx="3124800" cy="762480"/>
          </a:xfrm>
          <a:prstGeom prst="curvedConnector5">
            <a:avLst>
              <a:gd name="adj1" fmla="val 49994"/>
              <a:gd name="adj2" fmla="val 49976"/>
              <a:gd name="adj3" fmla="val 49994"/>
            </a:avLst>
          </a:prstGeom>
          <a:ln w="9360">
            <a:solidFill>
              <a:srgbClr val="00cc00"/>
            </a:solidFill>
            <a:miter/>
          </a:ln>
        </p:spPr>
      </p:cxnSp>
      <p:cxnSp>
        <p:nvCxnSpPr>
          <p:cNvPr id="140" name=""/>
          <p:cNvCxnSpPr/>
          <p:nvPr/>
        </p:nvCxnSpPr>
        <p:spPr>
          <a:xfrm>
            <a:off x="2465280" y="5357880"/>
            <a:ext cx="2286720" cy="838800"/>
          </a:xfrm>
          <a:prstGeom prst="curvedConnector5">
            <a:avLst>
              <a:gd name="adj1" fmla="val 49992"/>
              <a:gd name="adj2" fmla="val 49978"/>
              <a:gd name="adj3" fmla="val 49992"/>
            </a:avLst>
          </a:prstGeom>
          <a:ln w="9360">
            <a:solidFill>
              <a:srgbClr val="00cc00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>
            <a:off x="2862000" y="4188960"/>
            <a:ext cx="5112360" cy="505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00"/>
            </a:solidFill>
            <a:miter/>
          </a:ln>
        </p:spPr>
      </p:cxnSp>
      <p:cxnSp>
        <p:nvCxnSpPr>
          <p:cNvPr id="142" name=""/>
          <p:cNvCxnSpPr>
            <a:stCxn id="143" idx="0"/>
          </p:cNvCxnSpPr>
          <p:nvPr/>
        </p:nvCxnSpPr>
        <p:spPr>
          <a:xfrm>
            <a:off x="3529080" y="5002200"/>
            <a:ext cx="2591280" cy="634320"/>
          </a:xfrm>
          <a:prstGeom prst="curvedConnector5">
            <a:avLst>
              <a:gd name="adj1" fmla="val 50048"/>
              <a:gd name="adj2" fmla="val 49971"/>
              <a:gd name="adj3" fmla="val 50048"/>
            </a:avLst>
          </a:prstGeom>
          <a:ln w="9360">
            <a:solidFill>
              <a:srgbClr val="00cc00"/>
            </a:solidFill>
            <a:miter/>
          </a:ln>
        </p:spPr>
      </p:cxnSp>
      <p:cxnSp>
        <p:nvCxnSpPr>
          <p:cNvPr id="144" name=""/>
          <p:cNvCxnSpPr/>
          <p:nvPr/>
        </p:nvCxnSpPr>
        <p:spPr>
          <a:xfrm>
            <a:off x="3438000" y="4621320"/>
            <a:ext cx="3817080" cy="57528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cc00"/>
            </a:solidFill>
            <a:miter/>
          </a:ln>
        </p:spPr>
      </p:cxnSp>
      <p:cxnSp>
        <p:nvCxnSpPr>
          <p:cNvPr id="145" name=""/>
          <p:cNvCxnSpPr/>
          <p:nvPr/>
        </p:nvCxnSpPr>
        <p:spPr>
          <a:xfrm>
            <a:off x="2160360" y="5586480"/>
            <a:ext cx="1600920" cy="838800"/>
          </a:xfrm>
          <a:prstGeom prst="curvedConnector5">
            <a:avLst>
              <a:gd name="adj1" fmla="val 50000"/>
              <a:gd name="adj2" fmla="val 49978"/>
              <a:gd name="adj3" fmla="val 50000"/>
            </a:avLst>
          </a:prstGeom>
          <a:ln w="9360">
            <a:solidFill>
              <a:srgbClr val="00cc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79280" y="4189320"/>
            <a:ext cx="3353040" cy="1625760"/>
          </a:xfrm>
          <a:prstGeom prst="cloudCallout">
            <a:avLst>
              <a:gd name="adj1" fmla="val -15291"/>
              <a:gd name="adj2" fmla="val 58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360" y="4392720"/>
            <a:ext cx="730440" cy="1066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47640" y="4465800"/>
            <a:ext cx="730440" cy="1066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50920" y="5827680"/>
            <a:ext cx="684360" cy="6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012000" y="5697360"/>
            <a:ext cx="285480" cy="46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264360" y="5408640"/>
            <a:ext cx="628560" cy="42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 rot="20541000">
            <a:off x="6984720" y="4940280"/>
            <a:ext cx="714240" cy="1333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68360" y="4363920"/>
            <a:ext cx="1151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 and cloudlet comput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8720" y="5769000"/>
            <a:ext cx="2557440" cy="8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obile devices are connected to Cloudlet by FTTx + wireles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7596360" y="4724280"/>
            <a:ext cx="990360" cy="743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11280" y="584280"/>
            <a:ext cx="7885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21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ne major application of SCC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loudlet-Fiber-Mobile Computing: the future of comput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ll mobile devices are connected to Cloud/Cloudlet by FTT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least bandwidth demanding Cloud-Mobile Architecture: 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ransferring Screen Content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nabled by 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CC technolog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~30Mbps even for 1920x1200 ~ 2048x1536 (iPad 3) scre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number of products available from quite a few compani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9881600">
            <a:off x="2202480" y="4965120"/>
            <a:ext cx="459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er To The Node/Curb/Premi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er To The Building/Home/Desktop plus Ethernet, Gigabit WIFI, 3G/4G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184720" y="56610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8172360" y="4255920"/>
            <a:ext cx="676440" cy="8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9923-FCBF-4CEA-A93E-3990DD9ECD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4255920"/>
            <a:ext cx="1306440" cy="952560"/>
            <a:chOff x="0" y="4255920"/>
            <a:chExt cx="1306440" cy="95256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425592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973080" y="4471560"/>
              <a:ext cx="33336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971640" y="3392640"/>
            <a:ext cx="637560" cy="647640"/>
            <a:chOff x="971640" y="3392640"/>
            <a:chExt cx="637560" cy="64764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971640" y="3392640"/>
              <a:ext cx="323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1276200" y="3545280"/>
              <a:ext cx="333000" cy="39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3527280" y="2960640"/>
            <a:ext cx="1619280" cy="161928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038560" y="4834080"/>
            <a:ext cx="792360" cy="513720"/>
            <a:chOff x="5038560" y="4834080"/>
            <a:chExt cx="792360" cy="513720"/>
          </a:xfrm>
        </p:grpSpPr>
        <p:sp>
          <p:nvSpPr>
            <p:cNvPr id="167" name=""/>
            <p:cNvSpPr/>
            <p:nvPr/>
          </p:nvSpPr>
          <p:spPr>
            <a:xfrm>
              <a:off x="5038560" y="4834080"/>
              <a:ext cx="792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Tahoma"/>
                </a:rPr>
                <a:t>HDTV up 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6"/>
            <a:stretch/>
          </p:blipFill>
          <p:spPr>
            <a:xfrm>
              <a:off x="5290920" y="5013000"/>
              <a:ext cx="346320" cy="33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3672000" y="555300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3132000" y="4819680"/>
            <a:ext cx="325440" cy="382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3286080" y="5106960"/>
            <a:ext cx="550800" cy="176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3201840" y="3860640"/>
            <a:ext cx="311400" cy="397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867280" y="3465360"/>
            <a:ext cx="327672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66ff"/>
              </a:buClr>
              <a:buSzPct val="90000"/>
              <a:buFont typeface="Wingdings" charset="2"/>
              <a:buChar char="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In office or home, big display preferr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66ff"/>
              </a:buClr>
              <a:buSzPct val="90000"/>
              <a:buFont typeface="Wingdings" charset="2"/>
              <a:buChar char="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In meeting room or conference, display any time, anywhere, for anybody to vie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3166920" y="4184640"/>
            <a:ext cx="551160" cy="17640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287280" y="5408640"/>
            <a:ext cx="1176480" cy="971640"/>
            <a:chOff x="287280" y="5408640"/>
            <a:chExt cx="1176480" cy="971640"/>
          </a:xfrm>
        </p:grpSpPr>
        <p:pic>
          <p:nvPicPr>
            <p:cNvPr id="176" name="" descr=""/>
            <p:cNvPicPr/>
            <p:nvPr/>
          </p:nvPicPr>
          <p:blipFill>
            <a:blip r:embed="rId12"/>
            <a:stretch/>
          </p:blipFill>
          <p:spPr>
            <a:xfrm>
              <a:off x="1152720" y="5408640"/>
              <a:ext cx="31104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3"/>
            <a:stretch/>
          </p:blipFill>
          <p:spPr>
            <a:xfrm>
              <a:off x="287280" y="5479920"/>
              <a:ext cx="900360" cy="90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" descr=""/>
          <p:cNvPicPr/>
          <p:nvPr/>
        </p:nvPicPr>
        <p:blipFill>
          <a:blip r:embed="rId14"/>
          <a:stretch/>
        </p:blipFill>
        <p:spPr>
          <a:xfrm>
            <a:off x="3887640" y="4689360"/>
            <a:ext cx="1079640" cy="825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5"/>
          <a:stretch/>
        </p:blipFill>
        <p:spPr>
          <a:xfrm>
            <a:off x="2941560" y="5770440"/>
            <a:ext cx="325440" cy="382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6"/>
          <a:stretch/>
        </p:blipFill>
        <p:spPr>
          <a:xfrm>
            <a:off x="3095640" y="6058080"/>
            <a:ext cx="550800" cy="176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75280" y="5913360"/>
            <a:ext cx="1079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ahoma"/>
              </a:rPr>
              <a:t>LCD up to 1920x120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7"/>
          <a:stretch/>
        </p:blipFill>
        <p:spPr>
          <a:xfrm>
            <a:off x="1403280" y="5985000"/>
            <a:ext cx="1513080" cy="239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8"/>
          <a:stretch/>
        </p:blipFill>
        <p:spPr>
          <a:xfrm>
            <a:off x="1655640" y="3645000"/>
            <a:ext cx="1476360" cy="231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9"/>
          <a:stretch/>
        </p:blipFill>
        <p:spPr>
          <a:xfrm>
            <a:off x="1582560" y="5229360"/>
            <a:ext cx="1405080" cy="220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0"/>
          <a:stretch/>
        </p:blipFill>
        <p:spPr>
          <a:xfrm>
            <a:off x="1440000" y="4400640"/>
            <a:ext cx="1584360" cy="250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92360" y="68400"/>
            <a:ext cx="5327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ast Growing Interest in SC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920" y="476280"/>
            <a:ext cx="842472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other major applications of SCC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2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ahoma"/>
                <a:ea typeface="宋体"/>
              </a:rPr>
              <a:t>Wireless Display</a:t>
            </a:r>
            <a:r>
              <a:rPr b="1" lang="zh-CN" sz="2000" spc="-1" strike="noStrike">
                <a:solidFill>
                  <a:srgbClr val="40458c"/>
                </a:solidFill>
                <a:latin typeface="Tahoma"/>
                <a:ea typeface="宋体"/>
              </a:rPr>
              <a:t>，</a:t>
            </a:r>
            <a:r>
              <a:rPr b="1" lang="zh-CN" sz="2000" spc="-1" strike="noStrike">
                <a:solidFill>
                  <a:srgbClr val="40458c"/>
                </a:solidFill>
                <a:latin typeface="Tahoma"/>
                <a:ea typeface="宋体"/>
              </a:rPr>
              <a:t>Wireless HDMI</a:t>
            </a:r>
            <a:r>
              <a:rPr b="1" lang="zh-CN" sz="2000" spc="-1" strike="noStrike">
                <a:solidFill>
                  <a:srgbClr val="40458c"/>
                </a:solidFill>
                <a:latin typeface="Tahoma"/>
                <a:ea typeface="宋体"/>
              </a:rPr>
              <a:t>，</a:t>
            </a:r>
            <a:r>
              <a:rPr b="1" lang="zh-CN" sz="2000" spc="-1" strike="noStrike">
                <a:solidFill>
                  <a:srgbClr val="40458c"/>
                </a:solidFill>
                <a:latin typeface="Tahoma"/>
                <a:ea typeface="宋体"/>
              </a:rPr>
              <a:t>Wireless HDTV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ransferring Screen Content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nabled by 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CC technolog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2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xternal/second display for mobile devices such iPad/iPho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20000"/>
              </a:lnSpc>
              <a:spcBef>
                <a:spcPts val="1500"/>
              </a:spcBef>
              <a:buClr>
                <a:srgbClr val="40458c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any companies show products in 2012 C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55BF-047F-4DC8-8FBC-50FE3859CA30}" type="slidenum">
              <a:t>3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92360" y="68400"/>
            <a:ext cx="5327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ast Growing Interest in SC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3280" y="620640"/>
            <a:ext cx="79563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301"/>
              </a:spcBef>
              <a:buClr>
                <a:srgbClr val="40458c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ireless Display, Wireless HDMI, Wireless HDTV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  <a:ea typeface="宋体"/>
              </a:rPr>
              <a:t>Many headlines from 2012 CES, here is a few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736640"/>
            <a:ext cx="3608280" cy="2438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2920" y="4400640"/>
            <a:ext cx="3637080" cy="2666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635280" y="1736640"/>
            <a:ext cx="5508720" cy="2519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140360" y="6253200"/>
            <a:ext cx="460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d many more . . . . . 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672000" y="3681360"/>
            <a:ext cx="5632200" cy="1249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3816360" y="4976640"/>
            <a:ext cx="547200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8DF5-7ECD-4E60-94BC-208E02C86678}" type="slidenum">
              <a:t>4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92360" y="68400"/>
            <a:ext cx="5327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ast Growing Interest in SC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657360"/>
            <a:ext cx="79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301"/>
              </a:spcBef>
              <a:buClr>
                <a:srgbClr val="40458c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ireless Display, Wireless HDMI, Wireless HDTV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8000" y="2023920"/>
            <a:ext cx="4998960" cy="3343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184720" y="1484280"/>
            <a:ext cx="395928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spcBef>
                <a:spcPts val="1749"/>
              </a:spcBef>
              <a:buClr>
                <a:srgbClr val="0066ff"/>
              </a:buClr>
              <a:buSzPct val="90000"/>
              <a:buFont typeface="Wingdings" charset="2"/>
              <a:buChar char="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sage scenari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14240" indent="-268200">
              <a:lnSpc>
                <a:spcPct val="120000"/>
              </a:lnSpc>
              <a:spcBef>
                <a:spcPts val="1749"/>
              </a:spcBef>
              <a:buClr>
                <a:srgbClr val="660066"/>
              </a:buClr>
              <a:buSzPct val="90000"/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Watch Mov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14240" indent="-268200">
              <a:lnSpc>
                <a:spcPct val="120000"/>
              </a:lnSpc>
              <a:spcBef>
                <a:spcPts val="1749"/>
              </a:spcBef>
              <a:buClr>
                <a:srgbClr val="660066"/>
              </a:buClr>
              <a:buSzPct val="90000"/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Browse Web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14240" indent="-268200">
              <a:lnSpc>
                <a:spcPct val="120000"/>
              </a:lnSpc>
              <a:spcBef>
                <a:spcPts val="1749"/>
              </a:spcBef>
              <a:buClr>
                <a:srgbClr val="660066"/>
              </a:buClr>
              <a:buSzPct val="90000"/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. . . . . 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749"/>
              </a:spcBef>
              <a:buClr>
                <a:srgbClr val="0066ff"/>
              </a:buClr>
              <a:buSzPct val="90000"/>
              <a:buFont typeface="Wingdings" charset="2"/>
              <a:buChar char="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444 content coding is indispensable or highly preferr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E8FD-61C3-40A8-AF79-6275001D47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Current SCC Major Proble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765000"/>
            <a:ext cx="813780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quality and bit-rate are unsatisfactor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content = two different types of cont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stly computer-generated discont. to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790640" indent="-441360">
              <a:lnSpc>
                <a:spcPct val="100000"/>
              </a:lnSpc>
              <a:spcBef>
                <a:spcPts val="11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ext, chart, graphics, ic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790640" indent="-441360">
              <a:lnSpc>
                <a:spcPct val="100000"/>
              </a:lnSpc>
              <a:spcBef>
                <a:spcPts val="11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ery sharp edges and thin lines, even one-pixel thin lin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tinuous tone (camera-captured or CG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790640" indent="-441360">
              <a:lnSpc>
                <a:spcPct val="100000"/>
              </a:lnSpc>
              <a:spcBef>
                <a:spcPts val="11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hotograph, movie/TV clips, natural pict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790640" indent="-441360">
              <a:lnSpc>
                <a:spcPct val="100000"/>
              </a:lnSpc>
              <a:spcBef>
                <a:spcPts val="11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omputer-generated complex texture-mapped discontinuous tone cont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790640" indent="-441360">
              <a:lnSpc>
                <a:spcPct val="100000"/>
              </a:lnSpc>
              <a:spcBef>
                <a:spcPts val="11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mooth edges and thick li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CCB6-1797-4872-A8B8-BEB18C38F6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Current SCC Major Proble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7280" y="765000"/>
            <a:ext cx="84250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types of content really need two different types of tools and chroma-sampling-rat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tinuous-tone cont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9280" indent="-36360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ahoma"/>
                <a:ea typeface="Times New Roman"/>
              </a:rPr>
              <a:t>Chroma subsampling is almost visually lossles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9280" indent="-36360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ahoma"/>
                <a:ea typeface="Times New Roman"/>
              </a:rPr>
              <a:t>Traditional hybrid coding is very effectiv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continuous-tone cont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9280" indent="-36360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ahoma"/>
                <a:ea typeface="宋体"/>
              </a:rPr>
              <a:t>Chroma subsampling is unaccepta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9280" indent="-363600">
              <a:lnSpc>
                <a:spcPct val="120000"/>
              </a:lnSpc>
              <a:spcBef>
                <a:spcPts val="10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ahoma"/>
                <a:ea typeface="Times New Roman"/>
              </a:rPr>
              <a:t>New coding tools proposed in the past few jctvc meeting are much bett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verall, full-chroma content coding is a mus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400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ut full-chroma coding is not a mus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5F41-AF7B-4DD1-B865-151B1562CF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5280" y="765000"/>
            <a:ext cx="835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Why not full-blown full-chroma cod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1449360"/>
            <a:ext cx="831672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verkill and way too expens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11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ahoma"/>
                <a:ea typeface="黑体"/>
              </a:rPr>
              <a:t>Quite some portions of SCC are continuous-tone content</a:t>
            </a:r>
            <a:r>
              <a:rPr b="1" lang="zh-CN" sz="2400" spc="-1" strike="noStrike">
                <a:solidFill>
                  <a:srgbClr val="005a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equire significant new investment/effor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11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ahoma"/>
                <a:ea typeface="黑体"/>
              </a:rPr>
              <a:t>Majority of video CODEC software, hardware, and human assets developed in the past 25 years are chroma subsampled ones (YUV420 or YUV42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520A-1A53-4BBD-9899-8F798CBA57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7636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 Half-444-half-420 Solu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657360"/>
            <a:ext cx="7885080" cy="62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ahoma"/>
              </a:rPr>
              <a:t>Mixed Chroma Sampling-rate (MCS) coding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eep the existing 4:2:0 coding tools AS 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9280" indent="-363600">
              <a:lnSpc>
                <a:spcPct val="11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ahoma"/>
                <a:ea typeface="黑体"/>
              </a:rPr>
              <a:t>Increasing the value of past/current 4:2:0 investment and effor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dd 4:4:4 tools mostly for discont. cont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9280" indent="-363600">
              <a:lnSpc>
                <a:spcPct val="11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ahoma"/>
                <a:ea typeface="黑体"/>
              </a:rPr>
              <a:t>A more efficient and effective wa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9280" indent="-363600">
              <a:lnSpc>
                <a:spcPct val="11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ahoma"/>
                <a:ea typeface="黑体"/>
              </a:rPr>
              <a:t>Much less sophisticated and computation-intensive than 4:2:0 hybrid cod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mbine and mix the two types of co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9280" indent="-363600">
              <a:lnSpc>
                <a:spcPct val="11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ahoma"/>
                <a:ea typeface="黑体"/>
              </a:rPr>
              <a:t>At macroblock or CU bounda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9280" indent="-363600">
              <a:lnSpc>
                <a:spcPct val="11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ahoma"/>
                <a:ea typeface="黑体"/>
              </a:rPr>
              <a:t>At coding chain component (tool) bounda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9280" indent="-363600">
              <a:lnSpc>
                <a:spcPct val="11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ahoma"/>
                <a:ea typeface="黑体"/>
              </a:rPr>
              <a:t>At other properly selected boundary . . . . . 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4F21-1859-4846-A6B4-74C09C11F2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n</cp:lastModifiedBy>
  <dcterms:modified xsi:type="dcterms:W3CDTF">2012-02-06T20:14:41Z</dcterms:modified>
  <cp:revision>1223</cp:revision>
  <dc:subject/>
  <dc:title>学习及工作简历</dc:title>
</cp:coreProperties>
</file>