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7D94-6F88-4DBD-A24E-4351B16A64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8FDF-6351-4CF4-A2DC-199331EC30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36080" cy="45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07280"/>
            <a:ext cx="9136080" cy="45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6480" y="64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6480" y="595008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640" y="2033640"/>
            <a:ext cx="747072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3300"/>
                </a:solidFill>
                <a:latin typeface="Garamond"/>
                <a:ea typeface="宋体"/>
              </a:rPr>
              <a:t>Context Simplification on coeff_abs_level_greater1_flag</a:t>
            </a:r>
            <a:endParaRPr b="1" lang="en-US" sz="36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1258920" y="3357720"/>
            <a:ext cx="6840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JCTVC-H00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Wenpeng Ding, Yunhui shi and Baocai Y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Beijing University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Summary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umber of Context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eff_abs_level_greater1_flag is reduc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 32 to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  <a:ea typeface="宋体"/>
              </a:rPr>
              <a:t>24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Rate increase 0.03 for Intra, -0.02 for Random access and -0.09 for Low dela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.(Normal QP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1 for Intra, 0.00 for Random access and -0.02 for Low delay(Low QP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runtime complexity as that of HM5.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Proposed scheme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we propose to select the context as follow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( ctxSet  *  3)  +   (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  <a:ea typeface="宋体"/>
              </a:rPr>
              <a:t>Min( 3, greater1Ctx 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宋体"/>
              </a:rPr>
              <a:t>+1)&gt;&gt;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Similar scheme as jctvc-g12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3500280"/>
          <a:ext cx="7056720" cy="19544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6120"/>
                <a:gridCol w="1176480"/>
                <a:gridCol w="1176480"/>
              </a:tblGrid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M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M5-G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Working draft modificat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Derivation process of ctxIdxInc for the syntax element coeff_abs_level_greater1_fla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( ctxSet  *  3)  +  (Min( 3, greater1Ctx )+1)&gt;&gt;1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Garamond"/>
                <a:ea typeface="宋体"/>
              </a:rPr>
              <a:t>Results</a:t>
            </a:r>
            <a:endParaRPr b="1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549360"/>
          <a:ext cx="8137440" cy="6059520"/>
        </p:xfrm>
        <a:graphic>
          <a:graphicData uri="http://schemas.openxmlformats.org/drawingml/2006/table">
            <a:tbl>
              <a:tblPr/>
              <a:tblGrid>
                <a:gridCol w="974520"/>
                <a:gridCol w="797040"/>
                <a:gridCol w="795240"/>
                <a:gridCol w="795600"/>
                <a:gridCol w="795240"/>
                <a:gridCol w="796680"/>
                <a:gridCol w="795600"/>
                <a:gridCol w="795240"/>
                <a:gridCol w="797040"/>
                <a:gridCol w="795240"/>
              </a:tblGrid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Garamond"/>
                <a:ea typeface="宋体"/>
              </a:rPr>
              <a:t>Results</a:t>
            </a:r>
            <a:endParaRPr b="1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32000" y="476280"/>
          <a:ext cx="6553080" cy="6060960"/>
        </p:xfrm>
        <a:graphic>
          <a:graphicData uri="http://schemas.openxmlformats.org/drawingml/2006/table">
            <a:tbl>
              <a:tblPr/>
              <a:tblGrid>
                <a:gridCol w="1900080"/>
                <a:gridCol w="1550880"/>
                <a:gridCol w="1551240"/>
                <a:gridCol w="1550880"/>
              </a:tblGrid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ross-checking Results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557000"/>
            <a:ext cx="842472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 Huawei for cross-checking our result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onclus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eff_abs_level_greater1_flag is redu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 32 to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coding performance compared with HM5.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runtime complexity as HM5.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commend to adop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3:12:01Z</dcterms:created>
  <dc:creator>FtpDown</dc:creator>
  <dc:description/>
  <dc:language>en-US</dc:language>
  <cp:lastModifiedBy>wpding</cp:lastModifiedBy>
  <dcterms:modified xsi:type="dcterms:W3CDTF">2012-02-02T17:29:42Z</dcterms:modified>
  <cp:revision>124</cp:revision>
  <dc:subject/>
  <dc:title>2004年职称聘任个人简介</dc:title>
</cp:coreProperties>
</file>