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59960" y="55224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96680" y="1847520"/>
            <a:ext cx="766116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96680" y="4156200"/>
            <a:ext cx="766116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9960" y="55224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96680" y="1847520"/>
            <a:ext cx="3738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22480" y="1847520"/>
            <a:ext cx="3738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96680" y="4156200"/>
            <a:ext cx="3738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22480" y="4156200"/>
            <a:ext cx="3738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59960" y="55224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96680" y="1847520"/>
            <a:ext cx="2466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87240" y="1847520"/>
            <a:ext cx="2466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77440" y="1847520"/>
            <a:ext cx="2466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96680" y="4156200"/>
            <a:ext cx="2466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87240" y="4156200"/>
            <a:ext cx="2466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77440" y="4156200"/>
            <a:ext cx="2466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59960" y="55224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96680" y="1847520"/>
            <a:ext cx="766116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59960" y="55224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96680" y="1847520"/>
            <a:ext cx="766116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9960" y="55224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96680" y="1847520"/>
            <a:ext cx="37386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22480" y="1847520"/>
            <a:ext cx="37386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9960" y="55224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59960" y="552240"/>
            <a:ext cx="7496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9960" y="55224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96680" y="1847520"/>
            <a:ext cx="3738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22480" y="1847520"/>
            <a:ext cx="37386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96680" y="4156200"/>
            <a:ext cx="3738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59960" y="55224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96680" y="1847520"/>
            <a:ext cx="766116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9960" y="55224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96680" y="1847520"/>
            <a:ext cx="37386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22480" y="1847520"/>
            <a:ext cx="3738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22480" y="4156200"/>
            <a:ext cx="3738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9960" y="55224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96680" y="1847520"/>
            <a:ext cx="3738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22480" y="1847520"/>
            <a:ext cx="3738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96680" y="4156200"/>
            <a:ext cx="766116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59960" y="55224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96680" y="1847520"/>
            <a:ext cx="766116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96680" y="4156200"/>
            <a:ext cx="766116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59960" y="55224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96680" y="1847520"/>
            <a:ext cx="3738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22480" y="1847520"/>
            <a:ext cx="3738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96680" y="4156200"/>
            <a:ext cx="3738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22480" y="4156200"/>
            <a:ext cx="3738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9960" y="55224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96680" y="1847520"/>
            <a:ext cx="2466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87240" y="1847520"/>
            <a:ext cx="2466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77440" y="1847520"/>
            <a:ext cx="2466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796680" y="4156200"/>
            <a:ext cx="2466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87240" y="4156200"/>
            <a:ext cx="2466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77440" y="4156200"/>
            <a:ext cx="2466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9960" y="55224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96680" y="1847520"/>
            <a:ext cx="766116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9960" y="55224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96680" y="1847520"/>
            <a:ext cx="37386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22480" y="1847520"/>
            <a:ext cx="37386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9960" y="55224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59960" y="552240"/>
            <a:ext cx="7496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9960" y="55224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96680" y="1847520"/>
            <a:ext cx="3738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2480" y="1847520"/>
            <a:ext cx="37386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96680" y="4156200"/>
            <a:ext cx="3738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9960" y="55224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96680" y="1847520"/>
            <a:ext cx="37386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2480" y="1847520"/>
            <a:ext cx="3738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22480" y="4156200"/>
            <a:ext cx="3738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59960" y="55224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96680" y="1847520"/>
            <a:ext cx="3738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2480" y="1847520"/>
            <a:ext cx="3738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96680" y="4156200"/>
            <a:ext cx="766116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9960" y="55224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96680" y="1847520"/>
            <a:ext cx="766116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3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93000"/>
              </a:lnSpc>
              <a:spcBef>
                <a:spcPts val="700"/>
              </a:spcBef>
              <a:buClr>
                <a:srgbClr val="cc33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lnSpc>
                <a:spcPct val="93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lnSpc>
                <a:spcPct val="93000"/>
              </a:lnSpc>
              <a:spcBef>
                <a:spcPts val="700"/>
              </a:spcBef>
              <a:buClr>
                <a:srgbClr val="cc33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lnSpc>
                <a:spcPct val="93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0"/>
            <a:ext cx="9136080" cy="450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6407280"/>
            <a:ext cx="9136080" cy="450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6480" y="6480"/>
            <a:ext cx="9129600" cy="907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Rectangle 5"/>
          <p:cNvSpPr/>
          <p:nvPr/>
        </p:nvSpPr>
        <p:spPr>
          <a:xfrm>
            <a:off x="6480" y="5950080"/>
            <a:ext cx="9129600" cy="907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9960" y="55224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96680" y="1847520"/>
            <a:ext cx="766116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3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93000"/>
              </a:lnSpc>
              <a:spcBef>
                <a:spcPts val="700"/>
              </a:spcBef>
              <a:buClr>
                <a:srgbClr val="cc33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lnSpc>
                <a:spcPct val="93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lnSpc>
                <a:spcPct val="93000"/>
              </a:lnSpc>
              <a:spcBef>
                <a:spcPts val="700"/>
              </a:spcBef>
              <a:buClr>
                <a:srgbClr val="cc33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lnSpc>
                <a:spcPct val="93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6640" y="2033640"/>
            <a:ext cx="7470720" cy="145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Garamond"/>
                <a:ea typeface="宋体"/>
              </a:rPr>
              <a:t>Non Transform Mode for Inter Coding</a:t>
            </a:r>
            <a:endParaRPr b="1" lang="en-US" sz="36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81" name="副标题 2"/>
          <p:cNvSpPr/>
          <p:nvPr/>
        </p:nvSpPr>
        <p:spPr>
          <a:xfrm>
            <a:off x="1258920" y="3357720"/>
            <a:ext cx="6840360" cy="22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Times New Roman"/>
              </a:rPr>
              <a:t>JCTVC-H00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Times New Roman"/>
              </a:rPr>
              <a:t>Weijia Zhu, Wenpeng Ding, Yunhui shi and Baocai Y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Times New Roman"/>
              </a:rPr>
              <a:t>Beijing University of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9960" y="55224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4d"/>
                </a:solidFill>
                <a:latin typeface="Garamond"/>
                <a:ea typeface="宋体"/>
              </a:rPr>
              <a:t>Conclusion</a:t>
            </a:r>
            <a:endParaRPr b="1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96680" y="1847520"/>
            <a:ext cx="766116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3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inor changes to the current HM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3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it saving:1.8% RA, 3.7%  for class F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3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ecoding complexity: Same as that ofHM5.0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3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Encoding complexity: 106% for RA,103% for LB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宋体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9960" y="55224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4d"/>
                </a:solidFill>
                <a:latin typeface="Garamond"/>
                <a:ea typeface="宋体"/>
              </a:rPr>
              <a:t>Summary</a:t>
            </a:r>
            <a:endParaRPr b="1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796680" y="1847520"/>
            <a:ext cx="766116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3000"/>
              </a:lnSpc>
              <a:spcBef>
                <a:spcPts val="64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TU level transform skip mode(32x32,16x16,8x8,4x4).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3000"/>
              </a:lnSpc>
              <a:spcBef>
                <a:spcPts val="64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Only full transform skip is allowed.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3000"/>
              </a:lnSpc>
              <a:spcBef>
                <a:spcPts val="64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Can be configured to enable only 4x4 transform skip mode. 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3000"/>
              </a:lnSpc>
              <a:spcBef>
                <a:spcPts val="64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3.7% bitrate-saving for class F on average.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3000"/>
              </a:lnSpc>
              <a:spcBef>
                <a:spcPts val="64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93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aramond"/>
                <a:ea typeface="宋体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59960" y="55224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4d"/>
                </a:solidFill>
                <a:latin typeface="Garamond"/>
                <a:ea typeface="宋体"/>
              </a:rPr>
              <a:t>Proposed Scheme</a:t>
            </a:r>
            <a:endParaRPr b="1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96680" y="1847520"/>
            <a:ext cx="766116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3000"/>
              </a:lnSpc>
              <a:spcBef>
                <a:spcPts val="64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Every TU, a flag is used to signal the transform skip mode.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lnSpc>
                <a:spcPct val="93000"/>
              </a:lnSpc>
              <a:spcBef>
                <a:spcPts val="64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A modified quantization process is used for transform skip mode.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lnSpc>
                <a:spcPct val="93000"/>
              </a:lnSpc>
              <a:spcBef>
                <a:spcPts val="64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We only enable the 4x4 transform skip to speed up the encoding process in our simulation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lnSpc>
                <a:spcPct val="93000"/>
              </a:lnSpc>
              <a:spcBef>
                <a:spcPts val="64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lnSpc>
                <a:spcPct val="93000"/>
              </a:lnSpc>
              <a:spcBef>
                <a:spcPts val="64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lnSpc>
                <a:spcPct val="93000"/>
              </a:lnSpc>
              <a:spcBef>
                <a:spcPts val="64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1" marL="720720" indent="-277200">
              <a:lnSpc>
                <a:spcPct val="93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aramond"/>
                <a:ea typeface="宋体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9960" y="55224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4d"/>
                </a:solidFill>
                <a:latin typeface="Garamond"/>
                <a:ea typeface="宋体"/>
              </a:rPr>
              <a:t>Proposed Scheme</a:t>
            </a:r>
            <a:endParaRPr b="1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796680" y="1847520"/>
            <a:ext cx="766116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3000"/>
              </a:lnSpc>
              <a:spcBef>
                <a:spcPts val="64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3000"/>
              </a:lnSpc>
              <a:spcBef>
                <a:spcPts val="64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93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aramond"/>
                <a:ea typeface="宋体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Object 3"/>
          <p:cNvGraphicFramePr/>
          <p:nvPr/>
        </p:nvGraphicFramePr>
        <p:xfrm>
          <a:off x="1187280" y="1628640"/>
          <a:ext cx="5905800" cy="465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28640"/>
                    <a:ext cx="5905800" cy="465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9960" y="55224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4d"/>
                </a:solidFill>
                <a:latin typeface="Garamond"/>
                <a:ea typeface="宋体"/>
              </a:rPr>
              <a:t>Dequantization</a:t>
            </a:r>
            <a:endParaRPr b="1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796680" y="1847520"/>
            <a:ext cx="766116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3000"/>
              </a:lnSpc>
              <a:spcBef>
                <a:spcPts val="64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The quantization parameter is derived as 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aramond"/>
                <a:ea typeface="宋体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  <a:ea typeface="宋体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  <a:ea typeface="宋体"/>
              </a:rPr>
              <a:t>uiQ'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宋体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  <a:ea typeface="宋体"/>
              </a:rPr>
              <a:t>uiQ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宋体"/>
              </a:rPr>
              <a:t>128^2) &gt;&gt;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  <a:ea typeface="宋体"/>
              </a:rPr>
              <a:t>bshift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宋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93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  <a:ea typeface="宋体"/>
              </a:rPr>
              <a:t>bshift = 19 + BitIncrement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93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  <a:ea typeface="宋体"/>
              </a:rPr>
              <a:t>The quantization process is the Same as  that in jctvc-g575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aramond"/>
                <a:ea typeface="宋体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59960" y="55224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4d"/>
                </a:solidFill>
                <a:latin typeface="Garamond"/>
                <a:ea typeface="宋体"/>
              </a:rPr>
              <a:t>Experiment condition</a:t>
            </a:r>
            <a:endParaRPr b="1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96680" y="1847520"/>
            <a:ext cx="766116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3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  <a:ea typeface="宋体"/>
              </a:rPr>
              <a:t>Implemented into HM5.0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3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  <a:ea typeface="宋体"/>
              </a:rPr>
              <a:t>Only 4x4 transform skip mode is allowed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3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7640" y="54900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4d"/>
                </a:solidFill>
                <a:latin typeface="Garamond"/>
                <a:ea typeface="宋体"/>
              </a:rPr>
              <a:t>Results</a:t>
            </a:r>
            <a:endParaRPr b="1" lang="en-US" sz="3200" spc="-1" strike="noStrike">
              <a:solidFill>
                <a:srgbClr val="cc3300"/>
              </a:solidFill>
              <a:latin typeface="Garamond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547640" y="620640"/>
          <a:ext cx="7345440" cy="5256360"/>
        </p:xfrm>
        <a:graphic>
          <a:graphicData uri="http://schemas.openxmlformats.org/drawingml/2006/table">
            <a:tbl>
              <a:tblPr/>
              <a:tblGrid>
                <a:gridCol w="879480"/>
                <a:gridCol w="719280"/>
                <a:gridCol w="717480"/>
                <a:gridCol w="719280"/>
                <a:gridCol w="717480"/>
                <a:gridCol w="719280"/>
                <a:gridCol w="717480"/>
                <a:gridCol w="718920"/>
                <a:gridCol w="717840"/>
                <a:gridCol w="718920"/>
              </a:tblGrid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Random Access H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Random Access L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Random Access HE-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654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Class A (8bi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Class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Class 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-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-0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Class 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-0.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-0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Class 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Over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-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-0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-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-0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Class 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-1.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-0.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-0.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-2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-1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-1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654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nc Time[%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4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ec Time[%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9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Low delay B H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Low delay B L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Low delay B HE-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Class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Class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Class 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-0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-0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-0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Class 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-0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.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.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-0.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.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.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Class 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-0.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Over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-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-0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-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-0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Class 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-3.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-1.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-2.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-3.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-2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-2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654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nc Time[%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4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ec Time[%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55280" y="54900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4d"/>
                </a:solidFill>
                <a:latin typeface="Garamond"/>
                <a:ea typeface="宋体"/>
              </a:rPr>
              <a:t>Changes to HM5.0</a:t>
            </a:r>
            <a:endParaRPr b="1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8360" y="1557000"/>
            <a:ext cx="8424720" cy="30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3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 transform skip flag is added for 4x4 TU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3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 contexts are added for transform skip flag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3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odified dequantization proces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3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3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5280" y="54900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4d"/>
                </a:solidFill>
                <a:latin typeface="Garamond"/>
                <a:ea typeface="宋体"/>
              </a:rPr>
              <a:t>Cross-checking Results</a:t>
            </a:r>
            <a:endParaRPr b="1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8360" y="1557000"/>
            <a:ext cx="8424720" cy="71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3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hanks Huawei for cross-checking our results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5T03:12:01Z</dcterms:created>
  <dc:creator>FtpDown</dc:creator>
  <dc:description/>
  <dc:language>en-US</dc:language>
  <cp:lastModifiedBy>wpding</cp:lastModifiedBy>
  <dcterms:modified xsi:type="dcterms:W3CDTF">2012-02-02T17:18:04Z</dcterms:modified>
  <cp:revision>132</cp:revision>
  <dc:subject/>
  <dc:title>2004年职称聘任个人简介</dc:title>
</cp:coreProperties>
</file>