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EEE-7BF9-43FA-B966-B6671FD0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EF0-5FC8-4240-8F0E-5FFD8D2B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8E5-290F-4807-8865-CB1B746F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924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680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168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924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680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8E5-6053-4B0B-9B9D-F2E98EAC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7CFC-8FE7-41FA-9628-95B4D2AB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33FB-346A-45BD-9327-0014A6EE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D501-AC9A-4745-A97B-FEE20648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E39E-6556-4057-A35F-F0BCA527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76A7-EA3E-41D5-9F09-2D4EA91B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6C73-53CE-4071-BF8E-B1E8F5D4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C0ED-CF9C-45B6-868C-34D5684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CCE-D615-45AE-B8FA-0C6162F9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63AB-FEF9-4F75-B40D-8B8C6B9D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C8FF-60E2-4E87-87C3-0687B6F3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D300-3AFD-409E-9BD6-63BCDAB1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094B-9C73-4942-BBA8-310B05E3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8924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7680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0168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8924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7680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6544-49D5-464D-B3D0-5E1C7048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E59-15AE-4431-B126-61DF7335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F92-9B31-40A0-8B74-BBB25F50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715-00FA-4219-88BC-8D38434A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92F-FF08-45F0-8B45-29F9A74F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5F5-0838-42F0-8267-31BEA405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625-10FE-430E-9F3A-B4AAB55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E0C-04AA-44F4-A595-3141FA9F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95880"/>
            <a:ext cx="8305920" cy="3049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400800"/>
            <a:ext cx="8763120" cy="3049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76320"/>
            <a:ext cx="8534520" cy="3045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F2CB-E43F-4ABB-B163-8362E600AA2D}" type="slidenum">
              <a:rPr b="0" lang="zh-CN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525780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57913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7242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1911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65760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1240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909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0"/>
              <a:ext cx="9144000" cy="2590920"/>
              <a:chOff x="0" y="0"/>
              <a:chExt cx="9144000" cy="2590920"/>
            </a:xfrm>
          </p:grpSpPr>
          <p:sp>
            <p:nvSpPr>
              <p:cNvPr id="57" name=""/>
              <p:cNvSpPr/>
              <p:nvPr/>
            </p:nvSpPr>
            <p:spPr>
              <a:xfrm>
                <a:off x="0" y="20574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52388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990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4572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FA81-E625-4FCB-B215-CEA92032848F}" type="slidenum">
              <a:rPr b="0" lang="zh-CN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4191120" y="0"/>
              <a:ext cx="4952880" cy="4572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90720" y="1523880"/>
              <a:ext cx="815328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720" y="990720"/>
              <a:ext cx="7010280" cy="533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5791320"/>
              <a:ext cx="7467480" cy="533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457200"/>
              <a:ext cx="601992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 Black"/>
                <a:ea typeface="黑体"/>
              </a:rPr>
              <a:t>nonCE10: new 8-bits core spatial transform with fast algorithm</a:t>
            </a:r>
            <a:r>
              <a:rPr b="1" lang="en-US" sz="4400" spc="-1" strike="noStrike">
                <a:solidFill>
                  <a:srgbClr val="990099"/>
                </a:solidFill>
                <a:latin typeface="Arial Black"/>
                <a:ea typeface="黑体"/>
              </a:rPr>
              <a:t> </a:t>
            </a:r>
            <a:endParaRPr b="1" lang="en-US" sz="4400" spc="-1" strike="noStrike">
              <a:solidFill>
                <a:srgbClr val="9900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58560" y="4149720"/>
            <a:ext cx="640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Hongbo Zhu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JCTVC-G977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500F-6A5D-4FD5-8269-AB871BB9DA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693720"/>
            <a:ext cx="9144000" cy="6191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-431640" y="-2080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The proposed F-Transform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004-79A4-43C8-858A-D06D48741BF6}" type="slidenum">
              <a:t>2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431640" y="-2080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The proposed I-Transform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50880"/>
            <a:ext cx="9163080" cy="634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AD5-9552-4BBE-87A8-AB838095ABD8}" type="slidenum">
              <a:t>3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6000" y="19836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The odd part of the 8x8 Transform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1728720"/>
                <a:ext cx="5833800" cy="35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62A-5027-4374-A959-3C0A33B0665E}" type="slidenum">
              <a:t>4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6000" y="19836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The odd part of the 16x16 Transform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187280" y="1407960"/>
                <a:ext cx="6624720" cy="465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BCE-1768-4796-87CB-10F93B57329B}" type="slidenum">
              <a:t>5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6000" y="19836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The odd part of the 32x32 Transform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0920" y="1365120"/>
                <a:ext cx="846144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C86-297F-42F5-894C-66EF6CD0F9DF}" type="slidenum">
              <a:t>6</a:t>
            </a:fld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187280" y="692280"/>
                <a:ext cx="6769440" cy="51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7</m:t>
                            </m:r>
                          </m:e>
                        </m:d>
                        <m:r>
                          <m:t xml:space="preserve">×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2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3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4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5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6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06C-DF1E-4422-AE84-7EA9C2AD5502}" type="slidenum">
              <a:t>7</a:t>
            </a:fld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665360"/>
            <a:ext cx="9144000" cy="442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C46-F450-4E78-9FAC-2E880FDC0215}" type="slidenum">
              <a:t>8</a:t>
            </a:fld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1680" y="152388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clude the algorithm in CE10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328-FC74-4907-B487-BDA695E6B06E}" type="slidenum">
              <a:t>9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b</cp:lastModifiedBy>
  <dcterms:modified xsi:type="dcterms:W3CDTF">2011-11-24T11:00:27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6</vt:r8>
  </property>
</Properties>
</file>