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15.wmf" ContentType="image/x-wmf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A728-E82E-4BB2-B631-EBE34B1E45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FC4-C276-41B1-8D4E-C90C3C1183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9429-DBF2-4A4C-B3E9-9B57DF911A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3BD3-BF2D-403B-9CC2-43EC870C2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7C7E-521B-4E48-8991-E2F6D44EE3D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4116A7-A6A8-4D28-A14A-4BFC7E8520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BAE49-2DAC-4384-82A0-59610CDE04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E2EF4D-2411-4F02-AEE8-C1932637973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0E562-1FAB-48FA-8BA2-0AAF1283BCB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96AF65-8588-4B5D-BD68-75F2CDF6527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06B72E-0BFD-4F9A-8C13-F8B6D9ACAAD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AD29F-2E3F-4B63-A816-60DB3E278D2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74E19C-55DF-4C6D-BD90-06D30C9B7CC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4333C-C683-4626-BFE9-D0876F65406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CF77-44AC-408B-A399-C96930B57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0AEF-F9AC-47E1-90C7-DC66EA242C3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45059-D4F8-4542-9722-B0F19E610B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B3C5-E59B-406A-9AF2-E47C2984A52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047F2-E32E-456F-8F99-CC2D70C8CBB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837E-5BF5-424E-96E7-CA4F6C495D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DEF36-6C39-48D2-B63F-B847A6441FC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46B8A-14A4-44CE-A97F-F1196DF9B9B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7B1C-1CCC-4C65-A0A8-BEC38B063C7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021E-2C69-4553-A2FF-0F40A1D829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6A78-3977-48D2-BDAC-F59E25ED370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0FADC-1FE8-4AD8-81F8-6A51DED4B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4096-5E8F-48E1-943F-ED860500834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7228-5817-4F88-A0DD-369925A0E76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7E1CF-D7B0-470C-9FDF-644E7C5484D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252CD-77C7-4858-B3BC-E1B81A18D26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F3C2D-FA83-4BC5-992F-9639DBA3B73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A20AA-E5AE-4D1D-8254-41F9903EAC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51F49-6CE6-4485-A28B-ED41A396A2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9B68D-1775-4A1F-BD74-E62A24E95AC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62EE1-6137-428D-9CE2-F7A96EC8261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C15CB-3AF7-4855-980A-1103B1577A4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0B443A-AF47-4E46-BBAB-E7565B0BA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18225-97D4-4542-9167-60B6A91A5CB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55E45-C3C6-44FE-A6F6-1970CAA16C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30A61-EB1E-4268-8B62-9470CC619F8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7EFE35-D8F3-4F02-8792-A11B7455A49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D6787D-383E-4FF1-B937-8EC42A0466F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33A49D-3E52-417B-A5C6-6CD7526BD70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AF428F-65A1-4FC4-9104-8DA954A13E4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99DDB0-D262-4E7E-AD9D-CCB048ED473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6E6B7B-E825-4A39-91D4-BCCD69EC489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D1D983-EC82-48B0-B0A3-CA34C76099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E0735-9987-4918-9BDD-A533AB0A6C5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9B1D5A-327C-4314-8C03-5DC27ADD81A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55493F-E1CD-47F4-B2CD-7E93F5CE7A2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FE3469-B9DB-44C2-B05A-C362A311AF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C13C4D-F416-4F9B-898E-13EE0DFE7A8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F647-AF54-44DA-90D6-869D4A12869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3E232-21EE-4D6D-B1D5-DCDA621380D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CAC34-1F34-4555-852C-DF494E2F73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F97B2-48FC-489B-8340-BF134FA23F8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33BF7-4389-4C90-8304-5F8D4CE17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52A50-0AA2-411A-90B4-71A9AFAE55C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9D46-C7E3-42D7-B7E2-98815275F4C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660C5-99B6-48BB-A3CA-8E675305BAB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D7CE6-F09F-49AD-816B-737682B318D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233E8-CE2D-489A-ABDF-2E1236D7B4A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27427-B7AF-4939-92C7-372D839F55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485C-F262-4FC9-9DCD-4F3C451301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9443-1F1A-45BB-A737-23A186F05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2F6C1-F832-43DD-B0AB-071D3B70FB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FDCC9-0389-44F9-A558-49C3027A3F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B56EB-3DE2-4510-9584-65071FC4AE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A4394-7302-428D-9C04-B50A5E9331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F2D2B-27A0-41D0-BB05-43868DC73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D637-9B39-4D2A-B055-F5FF047429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073B5-0327-40AD-98F0-08E6D2B188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36305-1258-499D-B2C9-18A8A4CF04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D3EB5-AE2D-4358-A32F-3EC517445E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973EA-F572-40FB-9F38-51872E0300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69DCB-16FC-4A95-B31C-662FBA6F90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B8F05-B8B1-4C8B-A7F5-9DDDEA2C62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064CE-2EF6-44B7-BB51-F19087393F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90C5-2168-42B8-AC3B-B452476876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EAAB-5C31-4585-90ED-118315360B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25A7-F154-43A7-BBC5-55FBEA0B6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1762-1BE1-45E0-B96F-35E3AFB28E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F012-A06A-4726-95D5-972670C746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3FDC-C4EF-4584-B4C5-7AFC0CF4B3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29A0-E69E-4892-BC90-4B2EBE5C95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03F4-1A0E-4B1D-B87D-63179F0B2D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5EF4-FBD0-4494-BCA1-C1844FA025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21EB-B6D2-42E5-9142-2B9AEB0A53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6B95-6D14-4421-9B37-C4E3468977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7685-1C60-40B0-BB70-E123D26891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D57E-E363-4FA9-A9B7-C91F8DB5066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74DCD-EF3F-4746-9811-53DC61ACA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A60F-E498-4E7D-9237-3BEA06E694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E0693-26E4-4F2C-B29A-F8BF117BFE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0B843-AE78-4236-A3D6-673FE3AA20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A10D0-B1D7-4EC1-998D-534D036769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2D538-8458-47AF-8DC8-B13A087F51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5F40A-04A9-42BA-ACAA-41034334861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864FB-5F8B-450C-A97E-28D7A8688DF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37B1B-E98F-4950-9AF3-3D0D903E3EE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10A4A-41E7-4AA8-A8A1-148EE5B156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D61FF-6BE0-4A14-9972-05AF9B40AF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3AF63-DEB0-4683-A030-B55704486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02E1-1A2B-4131-A2E9-19CB5B7FA9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B3EEF-1F5B-4D1B-94A2-E0B94F527AD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1D868-7F1A-42D2-9573-BCE434E78F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00A64-656F-4FDF-A4F0-0092A65487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D0D0D-59E8-44BC-93A8-4C0D1224522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C1BE5-F052-4054-AF91-AB739CD13F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1FC21-24C1-44F2-8C8D-111B95E98B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574FA-8763-42AF-AC89-D044C7C861F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86E17-698A-4019-B422-D69C393923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FD09A-6EE8-4545-9007-01A800416A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FCCED8-0702-4AE4-88AD-E6348B8DF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27B8-5DE5-48D8-B20C-1EDADDE45D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292F8-DB12-40FB-90E2-A7720C28364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EC2C3-2367-47A8-93BD-8BA0FCF12CE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A7F2E-F5E7-45AB-A4C4-48C9789F7FF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38B0-621E-47C7-8CC2-9BB6E76164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BE7A-59F4-4D7F-9157-581281DA2D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F3B8-D959-4A71-A56A-8B1A210F9F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B009-3408-44D3-A803-0BF17C79E89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5571-9032-4409-B1BD-E988351FA46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6A3D-6D6B-470C-A406-AECE395C6CF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96B13-1AE0-4245-BC83-9709A153A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1D6DC-F2DA-4D56-BB75-69BDF15043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FF86-E924-4367-8DCE-C080462170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2CBD-A4EC-4DD1-8953-2C2CF45E8FB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616C-8681-4CF7-A22F-9BD1B5CC528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01A55-5812-4B23-A890-FF4E1D60416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7361-E83E-4288-B84F-1B155BA4A8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20346-A2F2-4D64-B1C9-BD9E9432FE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B9F94-78A5-4060-BF6B-3AABF75EB2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94318-EE29-4199-9B1A-B0133B09CB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874EE-95CC-44C4-942A-99899A59CD1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A3494-D749-4F27-B8B1-44A0F36AE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91C2-B6A1-4654-9C9B-295B6AC430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7843B-1F75-401B-B9FB-4A540318307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40095-56D6-46D0-A888-7D08F4EDAD7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8531B-7789-4860-8489-ED52058DB6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9BD1E-C996-4ECC-8DE1-8F493DBCAA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538D3-9253-4957-82DD-85D65AAE42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34206-B24F-4BD4-A7AE-B9F0A62BB30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2D692-E25D-4185-9924-088C28E5D6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58415-37FE-4E05-AB90-754262FEFF1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7DD34D-5C37-45B9-A226-92FB95F404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BEEC11-0E8B-4717-94DE-0853D8B84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808B-E2DB-4F65-AE2B-2F77B83D2A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444A-2B4B-412F-A80B-95F0FE5143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1F06-FBA9-49C3-BD29-A9476D04CB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2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43DA-36E5-4FED-AAEF-8EE6D7E581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2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1B5A-B240-4AAD-A8C8-CC81E4F47E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4317-51CF-493A-991E-941A25C88B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EECB-890B-4394-9C35-5590F49F7B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5CEA-43FD-4C05-B022-E774FA9081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128B-7C84-4E17-A2C8-FFF4EF5394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B7BD-004E-4016-A483-B927449FF4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9D10-7006-4E1B-B5D6-B62B258C71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FE03-ACBF-4327-9EB4-0DB76573F7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E4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ine Granularity QP Offs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9600" y="3789000"/>
            <a:ext cx="86630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iang Li, Xun Guo and Shawmin Lei (MediaT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ianglin Wang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jan Joshi, Geert Van Der Auwera, Marta Karczewicz (Qualco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.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1-30, Nov.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Effici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M:JCTVC-G400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457200" y="1639800"/>
          <a:ext cx="4040280" cy="4560840"/>
        </p:xfrm>
        <a:graphic>
          <a:graphicData uri="http://schemas.openxmlformats.org/drawingml/2006/table">
            <a:tbl>
              <a:tblPr/>
              <a:tblGrid>
                <a:gridCol w="685800"/>
                <a:gridCol w="558720"/>
                <a:gridCol w="558720"/>
                <a:gridCol w="559080"/>
                <a:gridCol w="560160"/>
                <a:gridCol w="559080"/>
                <a:gridCol w="558720"/>
              </a:tblGrid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44720" y="999720"/>
            <a:ext cx="421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-QP:JCTVC-G979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645080" y="1639800"/>
          <a:ext cx="4041720" cy="4560840"/>
        </p:xfrm>
        <a:graphic>
          <a:graphicData uri="http://schemas.openxmlformats.org/drawingml/2006/table">
            <a:tbl>
              <a:tblPr/>
              <a:tblGrid>
                <a:gridCol w="685800"/>
                <a:gridCol w="558720"/>
                <a:gridCol w="560520"/>
                <a:gridCol w="558720"/>
                <a:gridCol w="558720"/>
                <a:gridCol w="560520"/>
                <a:gridCol w="558720"/>
              </a:tblGrid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4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5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1" name="Slide Number Placeholder 3"/>
          <p:cNvSpPr/>
          <p:nvPr/>
        </p:nvSpPr>
        <p:spPr>
          <a:xfrm>
            <a:off x="4338720" y="5697360"/>
            <a:ext cx="463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5EF3-CE9C-4577-B758-ED1BDF39EE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Effici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rosschecking report JCTVC-G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gain of the four int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r only work do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in low QP ca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6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FEB6-AD81-4768-AC33-CE4F62C646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42960" y="2143080"/>
          <a:ext cx="7858080" cy="3272040"/>
        </p:xfrm>
        <a:graphic>
          <a:graphicData uri="http://schemas.openxmlformats.org/drawingml/2006/table">
            <a:tbl>
              <a:tblPr/>
              <a:tblGrid>
                <a:gridCol w="2643120"/>
                <a:gridCol w="1785960"/>
                <a:gridCol w="1714680"/>
                <a:gridCol w="1714320"/>
              </a:tblGrid>
              <a:tr h="49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9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 RO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-QP encoder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-Q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 ro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-QP encoder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AX_CHROMA_QPIDX_OFFS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implementation is only a temporary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 syntax chroma_qp_index_offset proposed in JCTVC-G509 has been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ial syntax support would be available in HM-5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F158-B64D-4DBB-993B-BB38517B3A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-quantization in current HEVC/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de-quan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Y, U, V components are signaled in slice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6EC9-0F65-4DD8-97D7-1938EF1E1E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Object 1"/>
          <p:cNvGraphicFramePr/>
          <p:nvPr/>
        </p:nvGraphicFramePr>
        <p:xfrm>
          <a:off x="3489480" y="1893960"/>
          <a:ext cx="123012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9480" y="1893960"/>
                    <a:ext cx="12301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5"/>
          <p:cNvGraphicFramePr/>
          <p:nvPr/>
        </p:nvGraphicFramePr>
        <p:xfrm>
          <a:off x="1000080" y="5000760"/>
          <a:ext cx="18576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5000760"/>
                    <a:ext cx="1857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11"/>
          <p:cNvGraphicFramePr/>
          <p:nvPr/>
        </p:nvGraphicFramePr>
        <p:xfrm>
          <a:off x="3159000" y="3681360"/>
          <a:ext cx="198468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9000" y="3681360"/>
                    <a:ext cx="1984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Results – Test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D989-D7E5-4F0B-A267-941EA3243C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627120" y="1428840"/>
          <a:ext cx="8055000" cy="406872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19200"/>
                <a:gridCol w="620640"/>
                <a:gridCol w="619200"/>
                <a:gridCol w="619200"/>
                <a:gridCol w="620640"/>
                <a:gridCol w="619200"/>
              </a:tblGrid>
              <a:tr h="5731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O (JCTVC-G27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L (JCTVC-G38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-QP (JCTVC-G8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 – Test A (Low Q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357120" y="1714680"/>
          <a:ext cx="8396280" cy="3787560"/>
        </p:xfrm>
        <a:graphic>
          <a:graphicData uri="http://schemas.openxmlformats.org/drawingml/2006/table">
            <a:tbl>
              <a:tblPr/>
              <a:tblGrid>
                <a:gridCol w="646200"/>
                <a:gridCol w="646200"/>
                <a:gridCol w="645840"/>
                <a:gridCol w="644760"/>
                <a:gridCol w="646200"/>
                <a:gridCol w="645840"/>
                <a:gridCol w="646200"/>
                <a:gridCol w="646200"/>
                <a:gridCol w="646200"/>
                <a:gridCol w="644400"/>
                <a:gridCol w="646200"/>
                <a:gridCol w="645840"/>
                <a:gridCol w="646200"/>
              </a:tblGrid>
              <a:tr h="533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O (JCTVC-G27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L (JCTVC-G382, improv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-QP (JCTVC-G8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6253-5943-4E7D-8D0B-C74151593D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Results – Test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103F-26A0-45A4-B23D-D269690BBA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27120" y="1571760"/>
          <a:ext cx="8055000" cy="40719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19200"/>
                <a:gridCol w="620640"/>
                <a:gridCol w="619200"/>
                <a:gridCol w="619200"/>
                <a:gridCol w="620640"/>
                <a:gridCol w="619200"/>
              </a:tblGrid>
              <a:tr h="5731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O (JCTVC-G27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L (JCTVC-G38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-QP (JCTVC-G8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00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9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 – Test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27120" y="1643040"/>
          <a:ext cx="8055000" cy="378612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19200"/>
                <a:gridCol w="620640"/>
                <a:gridCol w="619200"/>
                <a:gridCol w="619200"/>
                <a:gridCol w="620640"/>
                <a:gridCol w="619200"/>
              </a:tblGrid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O (JCTVC-G27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L (JCTVC-G38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-QP (JCTVC-G8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C619-E960-4247-9CBE-70611892B0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 – Test C’ (low Q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27120" y="1857240"/>
          <a:ext cx="8055000" cy="38577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19200"/>
                <a:gridCol w="620640"/>
                <a:gridCol w="619200"/>
                <a:gridCol w="619200"/>
                <a:gridCol w="620640"/>
                <a:gridCol w="619200"/>
              </a:tblGrid>
              <a:tr h="54324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O (JCTVC-G27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L (JCTVC-G382, improv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-QP (JCTVC-G8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324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6E82-AA5C-4420-B22F-A499951B88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 – Test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461880" y="1714680"/>
          <a:ext cx="8253360" cy="364320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  <a:gridCol w="635040"/>
                <a:gridCol w="635040"/>
                <a:gridCol w="635040"/>
                <a:gridCol w="633240"/>
                <a:gridCol w="635040"/>
                <a:gridCol w="635040"/>
                <a:gridCol w="635040"/>
                <a:gridCol w="635040"/>
                <a:gridCol w="634680"/>
                <a:gridCol w="635040"/>
              </a:tblGrid>
              <a:tr h="51264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O (JCTVC-G27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L (JCTVC-G38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-QP (JCTVC-G8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82BF-5A11-45B1-BBA8-1FD0025560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QP is an efficien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signal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mputational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erformance in all tests including low QP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gain when compared to MS’ improved QP rounding in low QP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4545-45A4-4873-BD32-5563C11042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iang Li</cp:lastModifiedBy>
  <dcterms:modified xsi:type="dcterms:W3CDTF">2011-11-24T18:11:21Z</dcterms:modified>
  <cp:revision>1478</cp:revision>
  <dc:subject/>
  <dc:title>Title: Arial Bold 32pt</dc:title>
</cp:coreProperties>
</file>